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76"/>
          <p:cNvSpPr/>
          <p:nvPr/>
        </p:nvSpPr>
        <p:spPr>
          <a:xfrm>
            <a:off x="1253520" y="2349360"/>
            <a:ext cx="62398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    春雨的色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一年级下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内容占位符 14338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6862680" cy="3845160"/>
          </a:xfrm>
          <a:prstGeom prst="rect">
            <a:avLst/>
          </a:prstGeom>
          <a:ln w="0">
            <a:noFill/>
          </a:ln>
        </p:spPr>
      </p:pic>
      <p:sp>
        <p:nvSpPr>
          <p:cNvPr id="59" name="文本框 14339"/>
          <p:cNvSpPr/>
          <p:nvPr/>
        </p:nvSpPr>
        <p:spPr>
          <a:xfrm>
            <a:off x="8030520" y="1916280"/>
            <a:ext cx="606960" cy="36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报  春  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内容占位符 15362" descr=""/>
          <p:cNvPicPr/>
          <p:nvPr/>
        </p:nvPicPr>
        <p:blipFill>
          <a:blip r:embed="rId1"/>
          <a:stretch/>
        </p:blipFill>
        <p:spPr>
          <a:xfrm>
            <a:off x="298440" y="1971720"/>
            <a:ext cx="6721560" cy="4481640"/>
          </a:xfrm>
          <a:prstGeom prst="rect">
            <a:avLst/>
          </a:prstGeom>
          <a:ln w="0">
            <a:noFill/>
          </a:ln>
        </p:spPr>
      </p:pic>
      <p:sp>
        <p:nvSpPr>
          <p:cNvPr id="61" name="文本框 15363"/>
          <p:cNvSpPr/>
          <p:nvPr/>
        </p:nvSpPr>
        <p:spPr>
          <a:xfrm>
            <a:off x="3645000" y="2211480"/>
            <a:ext cx="20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瑞 香 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15364"/>
          <p:cNvSpPr/>
          <p:nvPr/>
        </p:nvSpPr>
        <p:spPr>
          <a:xfrm>
            <a:off x="3350520" y="4365720"/>
            <a:ext cx="454680" cy="17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Calibri"/>
              </a:rPr>
              <a:t>紫  玉 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15365"/>
          <p:cNvSpPr/>
          <p:nvPr/>
        </p:nvSpPr>
        <p:spPr>
          <a:xfrm>
            <a:off x="6996960" y="4264200"/>
            <a:ext cx="454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Calibri"/>
              </a:rPr>
              <a:t>紫 水 仙 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15366"/>
          <p:cNvSpPr/>
          <p:nvPr/>
        </p:nvSpPr>
        <p:spPr>
          <a:xfrm>
            <a:off x="7887240" y="2060640"/>
            <a:ext cx="667800" cy="37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春天的使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内容占位符 16386" descr=""/>
          <p:cNvPicPr/>
          <p:nvPr/>
        </p:nvPicPr>
        <p:blipFill>
          <a:blip r:embed="rId1"/>
          <a:stretch/>
        </p:blipFill>
        <p:spPr>
          <a:xfrm>
            <a:off x="352440" y="2025720"/>
            <a:ext cx="6811920" cy="442908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16387"/>
          <p:cNvSpPr/>
          <p:nvPr/>
        </p:nvSpPr>
        <p:spPr>
          <a:xfrm>
            <a:off x="7671600" y="1773360"/>
            <a:ext cx="78984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Calibri"/>
              </a:rPr>
              <a:t>山 茶 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内容占位符 17410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553240" cy="437328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17411"/>
          <p:cNvSpPr/>
          <p:nvPr/>
        </p:nvSpPr>
        <p:spPr>
          <a:xfrm>
            <a:off x="1042920" y="5877000"/>
            <a:ext cx="128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迎春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17412"/>
          <p:cNvSpPr/>
          <p:nvPr/>
        </p:nvSpPr>
        <p:spPr>
          <a:xfrm>
            <a:off x="5580000" y="5877000"/>
            <a:ext cx="148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</a:rPr>
              <a:t>水仙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18437"/>
          <p:cNvSpPr/>
          <p:nvPr/>
        </p:nvSpPr>
        <p:spPr>
          <a:xfrm>
            <a:off x="687240" y="2141640"/>
            <a:ext cx="777240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春雨是五彩的，因为春天的花是五颜六色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　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春雨是甜甜的，有一首唱雨的歌“小雨，小雨，沙沙沙，沙沙沙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雨水真甜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　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春雨是快乐的，下雨时，可以不打伞光着头在雨中跑，感觉很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　　　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0" lang="zh-CN" sz="2400" spc="-1" strike="noStrike">
                <a:solidFill>
                  <a:srgbClr val="ff0000"/>
                </a:solidFill>
                <a:latin typeface="Calibri"/>
              </a:rPr>
              <a:t>、雨声是好听的，沙沙沙，沙沙沙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954000" y="119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图解结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文本框 19461"/>
          <p:cNvSpPr/>
          <p:nvPr/>
        </p:nvSpPr>
        <p:spPr>
          <a:xfrm>
            <a:off x="395280" y="1700280"/>
            <a:ext cx="83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《春雨的色彩》，是一篇展现美妙的春天的童话。读着她，感受着她，你会被陶醉，会被熏染，你会融入那美妙的世界里，尽情地享受美。从而，你真的会爱上大自然，爱上这美好的生活。如果真的达到以上境界，本课的教学目标也就达到了。然而如果只是平白直叙地读一读课文，认一认生字，是不会感染人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1"/>
          <p:cNvSpPr/>
          <p:nvPr/>
        </p:nvSpPr>
        <p:spPr>
          <a:xfrm>
            <a:off x="809280" y="836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概括主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429264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20486"/>
          <p:cNvSpPr/>
          <p:nvPr/>
        </p:nvSpPr>
        <p:spPr>
          <a:xfrm>
            <a:off x="900000" y="1989000"/>
            <a:ext cx="734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如何才能真的调动起学生的积极性，使他们不仅感兴趣学课文，而且更能深入的理解课文，吃透课文，并真得被课文内容感染呢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游戏，多媒体，奖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1"/>
          <p:cNvSpPr/>
          <p:nvPr/>
        </p:nvSpPr>
        <p:spPr>
          <a:xfrm>
            <a:off x="1044720" y="765000"/>
            <a:ext cx="21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写法点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8360" y="9075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对，就借助这些直观形象，孩子又感兴趣，又实用的方法，来进行教学，效果一定不错。于是，在讲第二课时时，充分地运用了以上方法。多媒体课件中，形象美丽的春天的实景画面，一下子吸引了孩子的眼球，他们很快被带入了美妙的大自然的意境中，再加上老师的动情地配乐朗读，孩子们对照画面真切体会地阅读，以及读书习惯的随时培养，小小奖励的时时出现，活灵活现的童话剧表演，把课文内容一步步推向高潮，孩子们在兴奋中习得了知识，在亲身体会中感受了大自然的美，不由地，他们真的感觉春天很美，很好，他们很爱大自然，很爱现在的生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21510"/>
          <p:cNvSpPr/>
          <p:nvPr/>
        </p:nvSpPr>
        <p:spPr>
          <a:xfrm>
            <a:off x="971640" y="2133720"/>
            <a:ext cx="651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春雨到底是什么颜色，到外面看一看，并把看的结果画出来给大家交流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1"/>
          <p:cNvSpPr/>
          <p:nvPr/>
        </p:nvSpPr>
        <p:spPr>
          <a:xfrm>
            <a:off x="809280" y="10526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拓展提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文本框 22534"/>
          <p:cNvSpPr/>
          <p:nvPr/>
        </p:nvSpPr>
        <p:spPr>
          <a:xfrm>
            <a:off x="1187280" y="19890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在教学《春雨的色彩》一课时，将识字、解词、读句有机结合起来，让学生在语言环境中识字。课堂实践反映出：识字、解词学习效果很好。但在指导“春雨到底是什么颜色的？”这个问句的朗读时，总觉得学生读得不到位。通过课后反思，想如果将句子放在课件——小动物在田野里谈话的情景中，图、动画、句子结合起来引导把自己也当成小动物，和同桌像平时谈话一样互相问一问：“春雨到底是什么颜色的？”然后再读一读句子，效果就会比单独出示一句话更容易让学生接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1"/>
          <p:cNvSpPr/>
          <p:nvPr/>
        </p:nvSpPr>
        <p:spPr>
          <a:xfrm>
            <a:off x="1044720" y="836640"/>
            <a:ext cx="20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心灵感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文本框 6152"/>
          <p:cNvSpPr/>
          <p:nvPr/>
        </p:nvSpPr>
        <p:spPr>
          <a:xfrm>
            <a:off x="900000" y="1844640"/>
            <a:ext cx="635004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者简介：楼飞甫，著名儿童作家兼翻译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作品：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世界故事大王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翻译过许多外国儿童作品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水城威尼斯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红蜻蜓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2"/>
          <p:cNvSpPr/>
          <p:nvPr/>
        </p:nvSpPr>
        <p:spPr>
          <a:xfrm>
            <a:off x="809280" y="907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资料宝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23558"/>
          <p:cNvSpPr/>
          <p:nvPr/>
        </p:nvSpPr>
        <p:spPr>
          <a:xfrm>
            <a:off x="1044720" y="2060640"/>
            <a:ext cx="7007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读一读，你能照样子说一说吗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滴  水滴  雨滴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     _______   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欢  欢乐  欢笑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     _______   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题  题目  数学题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     _______   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绿  绿树  绿草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     _______   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花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_______     _______    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1"/>
          <p:cNvSpPr/>
          <p:nvPr/>
        </p:nvSpPr>
        <p:spPr>
          <a:xfrm>
            <a:off x="954000" y="76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随堂练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76"/>
          <p:cNvSpPr/>
          <p:nvPr/>
        </p:nvSpPr>
        <p:spPr>
          <a:xfrm>
            <a:off x="539640" y="1844640"/>
            <a:ext cx="84121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春雨的色彩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完了，把你的收获和大家分享一下吧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朋友，加油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755640" y="2205000"/>
            <a:ext cx="648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  <a:ea typeface="楷体"/>
              </a:rPr>
              <a:t>你还记得描写春天的词语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1"/>
          <p:cNvPicPr/>
          <p:nvPr/>
        </p:nvPicPr>
        <p:blipFill>
          <a:blip r:embed="rId1"/>
          <a:stretch/>
        </p:blipFill>
        <p:spPr>
          <a:xfrm>
            <a:off x="1260360" y="2924280"/>
            <a:ext cx="5931000" cy="3171600"/>
          </a:xfrm>
          <a:prstGeom prst="rect">
            <a:avLst/>
          </a:prstGeom>
          <a:ln w="0">
            <a:noFill/>
          </a:ln>
        </p:spPr>
      </p:pic>
      <p:sp>
        <p:nvSpPr>
          <p:cNvPr id="45" name="文本框 1"/>
          <p:cNvSpPr/>
          <p:nvPr/>
        </p:nvSpPr>
        <p:spPr>
          <a:xfrm>
            <a:off x="881640" y="119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预习检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194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310600" cy="413532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1"/>
          <p:cNvSpPr/>
          <p:nvPr/>
        </p:nvSpPr>
        <p:spPr>
          <a:xfrm>
            <a:off x="809280" y="76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字词乐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内容占位符 9218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6998040" cy="398916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9219"/>
          <p:cNvSpPr/>
          <p:nvPr/>
        </p:nvSpPr>
        <p:spPr>
          <a:xfrm>
            <a:off x="8407800" y="1844640"/>
            <a:ext cx="790200" cy="37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田野里，一群小鸟正在争论一个有趣的问题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春雨到底是什么颜色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738000" y="907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Franklin Gothic Medium"/>
                <a:ea typeface="黑体"/>
              </a:rPr>
              <a:t>课文解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内容占位符 10242" descr=""/>
          <p:cNvPicPr/>
          <p:nvPr/>
        </p:nvPicPr>
        <p:blipFill>
          <a:blip r:embed="rId1"/>
          <a:stretch/>
        </p:blipFill>
        <p:spPr>
          <a:xfrm>
            <a:off x="828720" y="2133720"/>
            <a:ext cx="6294240" cy="3914640"/>
          </a:xfrm>
          <a:prstGeom prst="rect">
            <a:avLst/>
          </a:prstGeom>
          <a:ln w="0">
            <a:noFill/>
          </a:ln>
        </p:spPr>
      </p:pic>
      <p:sp>
        <p:nvSpPr>
          <p:cNvPr id="52" name="文本框 10243"/>
          <p:cNvSpPr/>
          <p:nvPr/>
        </p:nvSpPr>
        <p:spPr>
          <a:xfrm>
            <a:off x="7596360" y="1844640"/>
            <a:ext cx="1193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小燕子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“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春雨是绿色的。你们瞧，春雨落到草地上，草就绿了。春雨淋在柳树上，柳枝也绿了。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内容占位符 11266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6934320" cy="403380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11267"/>
          <p:cNvSpPr/>
          <p:nvPr/>
        </p:nvSpPr>
        <p:spPr>
          <a:xfrm>
            <a:off x="7956720" y="1773360"/>
            <a:ext cx="9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麻雀说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不对，春雨是红色的。你们瞧，春雨洒在桃树上，桃花红了。春雨滴在杜鹃丛中，杜鹃花也红了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内容占位符 12290" descr=""/>
          <p:cNvPicPr/>
          <p:nvPr/>
        </p:nvPicPr>
        <p:blipFill>
          <a:blip r:embed="rId1"/>
          <a:stretch/>
        </p:blipFill>
        <p:spPr>
          <a:xfrm>
            <a:off x="898560" y="1989000"/>
            <a:ext cx="6222960" cy="3983040"/>
          </a:xfrm>
          <a:prstGeom prst="rect">
            <a:avLst/>
          </a:prstGeom>
          <a:ln w="0">
            <a:noFill/>
          </a:ln>
        </p:spPr>
      </p:pic>
      <p:sp>
        <p:nvSpPr>
          <p:cNvPr id="56" name="文本框 12291"/>
          <p:cNvSpPr/>
          <p:nvPr/>
        </p:nvSpPr>
        <p:spPr>
          <a:xfrm>
            <a:off x="7236000" y="1844640"/>
            <a:ext cx="1514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小黄莺说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 “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不对，不对，春雨是黄色的。你们看，春雨落在油菜地里，油菜花黄了。春雨落在蒲公英上，蒲公英花也黄了。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13315"/>
          <p:cNvSpPr/>
          <p:nvPr/>
        </p:nvSpPr>
        <p:spPr>
          <a:xfrm>
            <a:off x="539640" y="1844640"/>
            <a:ext cx="76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春雨是绿色的。你们瞧，春雨落到草地上，草就绿了。春雨    在柳树上，柳枝也绿了。”          “不对，春雨是红色的。你们瞧，春雨    在桃树上，桃花红了。春雨    在杜鹃丛中，杜鹃花也红了。”            “不对，不对，春雨是黄色的。你们看，春雨落在油菜地里，油菜花黄了。春雨落在蒲公英上，蒲公英花也黄了。”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0T05:34:07Z</dcterms:created>
  <dc:creator>Administrator</dc:creator>
  <dc:description/>
  <cp:keywords/>
  <dc:language>en-US</dc:language>
  <cp:lastModifiedBy>微软用户</cp:lastModifiedBy>
  <dcterms:modified xsi:type="dcterms:W3CDTF">2016-05-28T03:57:49Z</dcterms:modified>
  <cp:revision>5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