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29D-D9CE-4076-9198-48294391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712-5A7E-42C8-90A9-4F818954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E79-36AC-429D-9273-98A5FA2A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7F9-AFC2-4113-BAA6-E39DD102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497-8D3D-4C2C-B486-DB787C55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F4C-D26D-45EB-9D5E-A5F328A9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45B-414A-4764-8EFA-C42AF683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102-DB7A-40C7-867D-09F77375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6B0-03EF-4CC5-AFCC-082EF1F0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517-742C-417E-A7B7-01590B2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42E-0346-47C2-8CB2-BD29A43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FCB-D6E9-4AF7-8A57-D90EB49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FE2D-E8C2-4AB1-88F7-DE2073991F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6"/>
          <p:cNvSpPr/>
          <p:nvPr/>
        </p:nvSpPr>
        <p:spPr>
          <a:xfrm>
            <a:off x="1469520" y="1916280"/>
            <a:ext cx="6239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    世界多美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一年级下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内容占位符 14338" descr="7"/>
          <p:cNvPicPr/>
          <p:nvPr/>
        </p:nvPicPr>
        <p:blipFill>
          <a:blip r:embed="rId1"/>
          <a:stretch/>
        </p:blipFill>
        <p:spPr>
          <a:xfrm>
            <a:off x="0" y="1773360"/>
            <a:ext cx="9109080" cy="468000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4339"/>
          <p:cNvSpPr/>
          <p:nvPr/>
        </p:nvSpPr>
        <p:spPr>
          <a:xfrm>
            <a:off x="600120" y="1058760"/>
            <a:ext cx="17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</a:rPr>
              <a:t>蓝湛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16386" descr="9"/>
          <p:cNvPicPr/>
          <p:nvPr/>
        </p:nvPicPr>
        <p:blipFill>
          <a:blip r:embed="rId1"/>
          <a:stretch/>
        </p:blipFill>
        <p:spPr>
          <a:xfrm>
            <a:off x="-36360" y="1773360"/>
            <a:ext cx="9180360" cy="46800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16387"/>
          <p:cNvSpPr/>
          <p:nvPr/>
        </p:nvSpPr>
        <p:spPr>
          <a:xfrm>
            <a:off x="436680" y="1058760"/>
            <a:ext cx="19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绿茵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8434"/>
          <p:cNvSpPr/>
          <p:nvPr/>
        </p:nvSpPr>
        <p:spPr>
          <a:xfrm>
            <a:off x="2700360" y="24210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碧澄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图片 18435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90313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9461"/>
          <p:cNvSpPr/>
          <p:nvPr/>
        </p:nvSpPr>
        <p:spPr>
          <a:xfrm>
            <a:off x="539640" y="1628640"/>
            <a:ext cx="66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课文一共有三段。第一段讲小鸡在蛋壳看到了黄黄的世界。第二段讲小鸡伸出头见到了一个美丽的世界，于是就钻了出来。第三段讲的是小鸡夸世界的美好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88164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图解结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20485"/>
          <p:cNvSpPr/>
          <p:nvPr/>
        </p:nvSpPr>
        <p:spPr>
          <a:xfrm>
            <a:off x="393840" y="200196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《世界多美呀》是一篇讲读课文，语句优美，恰似一篇轻快活泼的散文诗。学习这篇课文会让我们感受到充满童趣动物世界，感受到小鸡努力冲破蛋壳后，看到世界如此美丽的惊喜的心情。抓住课文的两条线索（小鸡的孵化过程；小鸡对周围世界的认识变化）；借助课文插图；抓住关键词体悟小鸡内心活动；有助于学生对课文内容的领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88164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概括主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21510"/>
          <p:cNvSpPr/>
          <p:nvPr/>
        </p:nvSpPr>
        <p:spPr>
          <a:xfrm>
            <a:off x="755640" y="1844640"/>
            <a:ext cx="70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《语文课程标准》指出：“阅读是学生个性化行为，不应以教师的分析来代替学生的阅读实践。”本课采用个性化教学，以学生原有的知识经验为基础展开教学，通过创设情境，激发学生的阅读兴趣，引领学生自读自悟。设计充分尊重学生独特的感受、体验和理解，让学生自己对课文内容的领悟取代教材的讲解分析，让学生自己的独立思考取代统一答案，让学生自己的感性体验取代整齐划一的理解指导，整个过程为张扬学生个性，激发学生灵性服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1097640" y="9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写法点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22534"/>
          <p:cNvSpPr/>
          <p:nvPr/>
        </p:nvSpPr>
        <p:spPr>
          <a:xfrm>
            <a:off x="1625760" y="1932120"/>
            <a:ext cx="68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引导学生用小鸡的视角想象出壳后看到的世界，这是对课文的扩展延伸。学生在课文中感受美，在想象中寻求更美，用学到的知识来表现最美，是多么的顺理成章，可说结束是课题“世界多美呀”的回应和升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95400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拓展提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23558"/>
          <p:cNvSpPr/>
          <p:nvPr/>
        </p:nvSpPr>
        <p:spPr>
          <a:xfrm>
            <a:off x="684360" y="1989000"/>
            <a:ext cx="66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本课的教学设计基本围绕着两条线进行：一是小鸡生长发育的变化，一是小鸡认识世界的变化。围绕第一条主线，让学生理清课文脉络，从整体上把握课文内容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使学生对课文的理解逐渐内化。由分到整，由看明到读懂到会说，教学体现层次感，而且基本知识和基本技能的教学任务得以落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10252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心灵感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24582"/>
          <p:cNvSpPr/>
          <p:nvPr/>
        </p:nvSpPr>
        <p:spPr>
          <a:xfrm>
            <a:off x="755640" y="2133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补充句子练习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）是红的。（）是金的。（）是黄的。（）是嫩的。（）是白的。（）是亮的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95400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随堂练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6"/>
          <p:cNvSpPr/>
          <p:nvPr/>
        </p:nvSpPr>
        <p:spPr>
          <a:xfrm>
            <a:off x="324000" y="1628640"/>
            <a:ext cx="8412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多美呀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完了，把你的收获和大家分享一下吧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朋友，加油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6152"/>
          <p:cNvSpPr/>
          <p:nvPr/>
        </p:nvSpPr>
        <p:spPr>
          <a:xfrm>
            <a:off x="1619280" y="162864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文配有两幅插图。第一幅插图画的是美丽的世界，有翠绿翠绿的树木，碧清碧清的小河，小鸟在天空中自由自在地飞来飞去。第二幅插图画的是小鸡钻出了蛋壳，看到了美丽的世界。这两幅图有利于激发学生的阅读兴趣，帮助学生理解课文内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"/>
          <p:cNvSpPr/>
          <p:nvPr/>
        </p:nvSpPr>
        <p:spPr>
          <a:xfrm>
            <a:off x="102528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资料宝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7174"/>
          <p:cNvSpPr/>
          <p:nvPr/>
        </p:nvSpPr>
        <p:spPr>
          <a:xfrm>
            <a:off x="900000" y="155736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课文插图画面上有些什么？它们是什么样子的？让学生说说“蓝蓝的天空”“绿绿的小树”“清清的小河”词语的意思。引导学生体会“世界多美啊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结合图理解“蓝湛湛的”“绿茵茵的”“碧澄澄的”几个词语的意思。如果换成“蓝蓝的”“绿绿的”“清清的”好不好呢？通过比较体会天空是多么的蓝，树木是多么的绿，小河是多么的清，体会世界是多么的美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小鸡在蛋壳里看到了什么？通过小洞眼看到了什么？出来后又看到了什么？引导学生观察图画，感悟“世界多美呀”。并找出课文中相关的句子，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73800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预习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8200"/>
          <p:cNvSpPr/>
          <p:nvPr/>
        </p:nvSpPr>
        <p:spPr>
          <a:xfrm>
            <a:off x="755640" y="2133720"/>
            <a:ext cx="6981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母”中间的两点和“乎”字中间竖钩的竖，都写在田字格的竖中线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”是左右结构的字，左右各占一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高”字要上小下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88164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字词乐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内容占位符 9218" descr="1"/>
          <p:cNvPicPr/>
          <p:nvPr/>
        </p:nvPicPr>
        <p:blipFill>
          <a:blip r:embed="rId1"/>
          <a:stretch/>
        </p:blipFill>
        <p:spPr>
          <a:xfrm>
            <a:off x="1440" y="1773360"/>
            <a:ext cx="9180720" cy="46800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9219"/>
          <p:cNvSpPr/>
          <p:nvPr/>
        </p:nvSpPr>
        <p:spPr>
          <a:xfrm>
            <a:off x="460440" y="2065320"/>
            <a:ext cx="310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鸡想：整个世界都是黄色的呀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66492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课文解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内容占位符 10242" descr="2"/>
          <p:cNvPicPr/>
          <p:nvPr/>
        </p:nvPicPr>
        <p:blipFill>
          <a:blip r:embed="rId1"/>
          <a:stretch/>
        </p:blipFill>
        <p:spPr>
          <a:xfrm>
            <a:off x="36360" y="1844640"/>
            <a:ext cx="698364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1266"/>
          <p:cNvSpPr/>
          <p:nvPr/>
        </p:nvSpPr>
        <p:spPr>
          <a:xfrm>
            <a:off x="334800" y="3124080"/>
            <a:ext cx="26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世界多美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11267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90216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内容占位符 12290" descr="5"/>
          <p:cNvPicPr/>
          <p:nvPr/>
        </p:nvPicPr>
        <p:blipFill>
          <a:blip r:embed="rId1"/>
          <a:stretch/>
        </p:blipFill>
        <p:spPr>
          <a:xfrm>
            <a:off x="0" y="1773360"/>
            <a:ext cx="9180360" cy="46800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2291"/>
          <p:cNvSpPr/>
          <p:nvPr/>
        </p:nvSpPr>
        <p:spPr>
          <a:xfrm>
            <a:off x="631800" y="1854360"/>
            <a:ext cx="444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它看见天空是蓝湛湛的，树木是绿茵茵的，小河是碧澄澄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内容占位符 13314" descr="6"/>
          <p:cNvPicPr/>
          <p:nvPr/>
        </p:nvPicPr>
        <p:blipFill>
          <a:blip r:embed="rId1"/>
          <a:stretch/>
        </p:blipFill>
        <p:spPr>
          <a:xfrm>
            <a:off x="36360" y="1773360"/>
            <a:ext cx="914580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3315"/>
          <p:cNvSpPr/>
          <p:nvPr/>
        </p:nvSpPr>
        <p:spPr>
          <a:xfrm>
            <a:off x="498600" y="119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真美丽呀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5:34:07Z</dcterms:created>
  <dc:creator>Administrator</dc:creator>
  <dc:description/>
  <cp:keywords/>
  <dc:language>en-US</dc:language>
  <cp:lastModifiedBy>微软用户</cp:lastModifiedBy>
  <dcterms:modified xsi:type="dcterms:W3CDTF">2016-05-28T03:29:42Z</dcterms:modified>
  <cp:revision>5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