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FC04-E5CC-445A-B5F3-5FD9A9857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1FE7-372D-49C8-B8BE-B5D10F68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F4F1-8C54-451B-9809-C821916D6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6A8E-1D73-4DFF-91EC-64146EE19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DD52-736D-4F59-B88C-7575BF52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A90C-DAF7-45F8-A718-A0920629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595F-632E-4C98-850A-FBA2551C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9660-5682-4884-9A11-B9F31E06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6E5C-0C6A-4BAF-BC91-BE25110F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65B9-81D1-4731-B43A-0D450B32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C1EC-DEC3-418D-89C3-04938A0E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BD35-168F-413C-9063-5EE7AC0F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E175-7DEC-466D-A545-838548D00A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280" y="765000"/>
            <a:ext cx="5327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四、不</a:t>
            </a:r>
            <a:r>
              <a:rPr b="0" lang="zh-CN" sz="5400" spc="-1" strike="noStrike">
                <a:solidFill>
                  <a:srgbClr val="0000cc"/>
                </a:solidFill>
                <a:latin typeface="Arial"/>
              </a:rPr>
              <a:t>懂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就要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74413_1247304541pjZ7"/>
          <p:cNvPicPr/>
          <p:nvPr/>
        </p:nvPicPr>
        <p:blipFill>
          <a:blip r:embed="rId1"/>
          <a:stretch/>
        </p:blipFill>
        <p:spPr>
          <a:xfrm>
            <a:off x="1403280" y="2060640"/>
            <a:ext cx="6624720" cy="44546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3203640" y="2421000"/>
            <a:ext cx="55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文讲了谁的什么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7CB1-2748-4458-9C05-BC08D21877E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250920" y="476280"/>
            <a:ext cx="8708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"/>
              </a:rPr>
              <a:t>孙中山背得这么流利，可课文说的是什么意思，他却一点也不懂，那孙中山会怎么做呢？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AB8F-3390-4211-9FB3-1F34C9F428E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找一找，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ú li hú tu     yǒng q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糊 里 糊 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勇  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ílèng         jiě d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 愣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解 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椭圆 6"/>
          <p:cNvSpPr/>
          <p:nvPr/>
        </p:nvSpPr>
        <p:spPr>
          <a:xfrm>
            <a:off x="2500200" y="3714840"/>
            <a:ext cx="1785960" cy="642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16286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天，孙中山来到学校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照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把书放到先生面前，流利地背出前一天学过的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是，课文说的是什么意思，他一点也不懂。他想：“这样糊里糊涂地背，有什呢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5E17-FAF1-4495-8C2A-E801A40EA9F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4"/>
          <p:cNvSpPr/>
          <p:nvPr/>
        </p:nvSpPr>
        <p:spPr>
          <a:xfrm>
            <a:off x="428760" y="364320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于是，他鼓起勇气说：“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先生，您刚才让我们背的这段话是什么意思？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请您给我们讲讲吧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圆角矩形 8"/>
          <p:cNvSpPr/>
          <p:nvPr/>
        </p:nvSpPr>
        <p:spPr>
          <a:xfrm>
            <a:off x="539640" y="4797360"/>
            <a:ext cx="928800" cy="914400"/>
          </a:xfrm>
          <a:prstGeom prst="roundRect">
            <a:avLst>
              <a:gd name="adj" fmla="val 1347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611280" y="17733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学问学问，不懂就要问。为了弄清道理，就是挨打也值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拓展训练：遇到不懂的问题，你会怎么办？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、给正确的读音打”√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那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à    n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      着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ze  zhe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答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á    b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      怕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à  qà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跟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gēn  gē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     利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ì   nì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èi  dèi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     识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í   shí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思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ī  sī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     少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ǎo shǎo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二、汉字加减法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女＋覀二（要）      田＋心二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讠＋井二（  ）        彳＋艮二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忄＋白二（   ）        讠＋只二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识－讠二（   ）     要－女二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讲－讠二（   ）      怕－忄二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三、组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思（）（）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讲（）（）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先（）（）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气（）（）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、写反义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先→（　）　　　东→（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少→（　）　　　短→（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ls00200035[1]"/>
          <p:cNvPicPr/>
          <p:nvPr/>
        </p:nvPicPr>
        <p:blipFill>
          <a:blip r:embed="rId1"/>
          <a:stretch/>
        </p:blipFill>
        <p:spPr>
          <a:xfrm>
            <a:off x="179280" y="404640"/>
            <a:ext cx="4272120" cy="57610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4572000" y="836640"/>
            <a:ext cx="45720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孙中山是中国民主主义革命先行者，被后人称为国父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1e21c809097a7a0a6b60fbe3"/>
          <p:cNvPicPr/>
          <p:nvPr/>
        </p:nvPicPr>
        <p:blipFill>
          <a:blip r:embed="rId1"/>
          <a:stretch/>
        </p:blipFill>
        <p:spPr>
          <a:xfrm>
            <a:off x="0" y="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47" name="矩形 2"/>
          <p:cNvSpPr/>
          <p:nvPr/>
        </p:nvSpPr>
        <p:spPr>
          <a:xfrm>
            <a:off x="1428840" y="1500120"/>
            <a:ext cx="585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"/>
              </a:rPr>
              <a:t>私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3"/>
          <p:cNvSpPr/>
          <p:nvPr/>
        </p:nvSpPr>
        <p:spPr>
          <a:xfrm>
            <a:off x="2428920" y="150012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"/>
              </a:rPr>
              <a:t>是旧时私人所办的学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116000" y="765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ff00"/>
                </a:solidFill>
                <a:latin typeface="Arial"/>
              </a:rPr>
              <a:t>sīsh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549440" y="3718080"/>
            <a:ext cx="41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"/>
              </a:rPr>
              <a:t>照 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476360" y="313992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zhào lì         liú l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4211640" y="3789360"/>
            <a:ext cx="30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"/>
              </a:rPr>
              <a:t>流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522360" y="774720"/>
            <a:ext cx="83739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自学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轻声读课文，读准字音，读通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学习生字新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116000" y="292572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孙中山提出了什么问题？（在文中划出有关句子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1"/>
          <p:cNvSpPr/>
          <p:nvPr/>
        </p:nvSpPr>
        <p:spPr>
          <a:xfrm>
            <a:off x="357120" y="285840"/>
            <a:ext cx="477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一、认一认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252360" y="1052640"/>
            <a:ext cx="8858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1" lang="en-US" sz="4400" spc="-1" strike="noStrike">
                <a:solidFill>
                  <a:srgbClr val="ff0000"/>
                </a:solidFill>
                <a:latin typeface="Franklin Gothic Book"/>
              </a:rPr>
              <a:t>yào  xiān  sī </a:t>
            </a:r>
            <a:r>
              <a:rPr b="1" lang="zh-CN" sz="4400" spc="-1" strike="noStrike">
                <a:solidFill>
                  <a:srgbClr val="ff0000"/>
                </a:solidFill>
                <a:latin typeface="Franklin Gothic Book"/>
              </a:rPr>
              <a:t>  </a:t>
            </a:r>
            <a:r>
              <a:rPr b="1" lang="en-US" sz="4400" spc="-1" strike="noStrike">
                <a:solidFill>
                  <a:srgbClr val="ff0000"/>
                </a:solidFill>
                <a:latin typeface="Franklin Gothic Book"/>
              </a:rPr>
              <a:t>hěn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要    先    思      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Franklin Gothic Book"/>
              </a:rPr>
              <a:t>shǎo  jiǎng  yú    q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Franklin Gothic Book"/>
                <a:ea typeface="华文楷体"/>
              </a:rPr>
              <a:t>少    讲     于    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BAC4-98B9-4C72-B3DD-16E39DC5B15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7"/>
          <p:cNvPicPr/>
          <p:nvPr/>
        </p:nvPicPr>
        <p:blipFill>
          <a:blip r:embed="rId1"/>
          <a:stretch/>
        </p:blipFill>
        <p:spPr>
          <a:xfrm>
            <a:off x="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684360" y="1052640"/>
            <a:ext cx="63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二、我会认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24000" y="3645000"/>
            <a:ext cx="86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nà    gēn  zhe   bèi   lì     dá    p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那     跟     着      背   利     答    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Nvhai08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要     先     思     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少     讲     于     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那     跟     着     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利     答     怕     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24000" y="549360"/>
            <a:ext cx="914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Arial"/>
              </a:rPr>
              <a:t>三、去掉拼音你还会吗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QQ截图20120221000640"/>
          <p:cNvPicPr/>
          <p:nvPr/>
        </p:nvPicPr>
        <p:blipFill>
          <a:blip r:embed="rId1"/>
          <a:stretch/>
        </p:blipFill>
        <p:spPr>
          <a:xfrm>
            <a:off x="609480" y="3808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QQ截图20120221000556"/>
          <p:cNvPicPr/>
          <p:nvPr/>
        </p:nvPicPr>
        <p:blipFill>
          <a:blip r:embed="rId2"/>
          <a:stretch/>
        </p:blipFill>
        <p:spPr>
          <a:xfrm>
            <a:off x="7451640" y="476280"/>
            <a:ext cx="1676520" cy="1660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QQ截图20120221000610"/>
          <p:cNvPicPr/>
          <p:nvPr/>
        </p:nvPicPr>
        <p:blipFill>
          <a:blip r:embed="rId3"/>
          <a:stretch/>
        </p:blipFill>
        <p:spPr>
          <a:xfrm>
            <a:off x="5334120" y="457200"/>
            <a:ext cx="1650960" cy="1676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QQ截图20120221000624"/>
          <p:cNvPicPr/>
          <p:nvPr/>
        </p:nvPicPr>
        <p:blipFill>
          <a:blip r:embed="rId4"/>
          <a:stretch/>
        </p:blipFill>
        <p:spPr>
          <a:xfrm>
            <a:off x="2971800" y="45720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2332080"/>
            <a:ext cx="96012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"/>
              </a:rPr>
              <a:t>（很少（讲课）（于是）（生气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"/>
              </a:rPr>
              <a:t>（少量（讲话）（终于）（天气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"/>
              </a:rPr>
              <a:t>（多少（听讲）（等于）（气球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"/>
          <p:cNvPicPr/>
          <p:nvPr/>
        </p:nvPicPr>
        <p:blipFill>
          <a:blip r:embed="rId1"/>
          <a:stretch/>
        </p:blipFill>
        <p:spPr>
          <a:xfrm>
            <a:off x="457200" y="304920"/>
            <a:ext cx="1671480" cy="1676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3"/>
          <p:cNvPicPr/>
          <p:nvPr/>
        </p:nvPicPr>
        <p:blipFill>
          <a:blip r:embed="rId2"/>
          <a:stretch/>
        </p:blipFill>
        <p:spPr>
          <a:xfrm>
            <a:off x="4724280" y="304920"/>
            <a:ext cx="1676520" cy="1666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QQ截图20120221000527"/>
          <p:cNvPicPr/>
          <p:nvPr/>
        </p:nvPicPr>
        <p:blipFill>
          <a:blip r:embed="rId3"/>
          <a:stretch/>
        </p:blipFill>
        <p:spPr>
          <a:xfrm>
            <a:off x="6858000" y="304920"/>
            <a:ext cx="1666800" cy="1676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2"/>
          <p:cNvPicPr/>
          <p:nvPr/>
        </p:nvPicPr>
        <p:blipFill>
          <a:blip r:embed="rId4"/>
          <a:stretch/>
        </p:blipFill>
        <p:spPr>
          <a:xfrm>
            <a:off x="2590920" y="304920"/>
            <a:ext cx="1676160" cy="16668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228564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重要</a:t>
            </a: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) (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先后</a:t>
            </a: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) (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思乡</a:t>
            </a: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（很好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要好</a:t>
            </a: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) (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先进</a:t>
            </a: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) (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思考</a:t>
            </a: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（很小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要点</a:t>
            </a: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) (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先走</a:t>
            </a: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) (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思念</a:t>
            </a: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（很高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07:26:03Z</dcterms:created>
  <dc:creator>  </dc:creator>
  <dc:description> </dc:description>
  <cp:keywords/>
  <dc:language>en-US</dc:language>
  <cp:lastModifiedBy>Administrator</cp:lastModifiedBy>
  <dcterms:modified xsi:type="dcterms:W3CDTF">2016-06-08T01:27:46Z</dcterms:modified>
  <cp:revision>1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