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png" ContentType="image/png"/>
  <Override PartName="/ppt/media/image2.gif" ContentType="image/gif"/>
  <Override PartName="/ppt/media/image8.jpeg" ContentType="image/jpe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1C18-4623-4772-8ED5-3DCEF160F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8A67-3D95-4E50-AAB0-5C374B29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DE42-ED01-4F5C-93FA-75ACA2690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A1CB-CC27-44A9-ABC1-BA2F3EF6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46A3-AC41-4D2A-916F-020067C0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EE7D-0065-4405-A0A8-8654BC2B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6527-8FBC-4156-B252-084F3F05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F078-9DA6-48AB-A21C-6C0F68A9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EAEB-EEC8-41D7-9205-2DA01315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F196-4BC2-41F0-8589-D446A23B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8472-FE5D-4D88-944B-53373020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F4ED-00B8-42C2-836D-2431C395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765C-85AE-43F8-87AC-C7CC223B0B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2205000"/>
            <a:ext cx="417672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轻  重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5300640"/>
            <a:ext cx="9144000" cy="1181160"/>
            <a:chOff x="0" y="5300640"/>
            <a:chExt cx="9144000" cy="11811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7238880" y="5516640"/>
              <a:ext cx="190512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6227640" y="5300640"/>
              <a:ext cx="190512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5003640" y="5661000"/>
              <a:ext cx="190512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3564000" y="5300640"/>
              <a:ext cx="1904760" cy="91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6"/>
            <a:stretch/>
          </p:blipFill>
          <p:spPr>
            <a:xfrm>
              <a:off x="1763640" y="5805360"/>
              <a:ext cx="190512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7"/>
            <a:stretch/>
          </p:blipFill>
          <p:spPr>
            <a:xfrm>
              <a:off x="0" y="5373720"/>
              <a:ext cx="1905120" cy="676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2987640" cy="1341360"/>
            <a:chOff x="0" y="0"/>
            <a:chExt cx="2987640" cy="1341360"/>
          </a:xfrm>
        </p:grpSpPr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98764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611280" y="26676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Arial"/>
                  <a:ea typeface="隶书"/>
                </a:rPr>
                <a:t>练一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0" y="1628640"/>
            <a:ext cx="914400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79280" y="115920"/>
            <a:ext cx="2448000" cy="1504800"/>
            <a:chOff x="179280" y="115920"/>
            <a:chExt cx="2448000" cy="150480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2448000" cy="15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10920" y="835200"/>
              <a:ext cx="180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华文隶书"/>
                </a:rPr>
                <a:t>掂一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68360" y="1916280"/>
            <a:ext cx="842472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179280" y="115920"/>
            <a:ext cx="2448000" cy="1504800"/>
            <a:chOff x="179280" y="115920"/>
            <a:chExt cx="2448000" cy="1504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2448000" cy="15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610920" y="835200"/>
              <a:ext cx="180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华文隶书"/>
                </a:rPr>
                <a:t>称一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484360" y="1916280"/>
            <a:ext cx="36464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79280" y="115920"/>
            <a:ext cx="2448000" cy="1504800"/>
            <a:chOff x="179280" y="115920"/>
            <a:chExt cx="2448000" cy="1504800"/>
          </a:xfrm>
        </p:grpSpPr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2448000" cy="15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10920" y="835200"/>
              <a:ext cx="180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华文隶书"/>
                </a:rPr>
                <a:t>称一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780000" y="1197000"/>
            <a:ext cx="33843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179280" y="115920"/>
            <a:ext cx="2448000" cy="1504800"/>
            <a:chOff x="179280" y="115920"/>
            <a:chExt cx="2448000" cy="1504800"/>
          </a:xfrm>
        </p:grpSpPr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2448000" cy="15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10920" y="835200"/>
              <a:ext cx="180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华文隶书"/>
                </a:rPr>
                <a:t>称一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227640" y="2349360"/>
            <a:ext cx="2818080" cy="388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39640" y="2057400"/>
            <a:ext cx="511344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0" y="0"/>
            <a:ext cx="2987640" cy="1341360"/>
            <a:chOff x="0" y="0"/>
            <a:chExt cx="2987640" cy="1341360"/>
          </a:xfrm>
        </p:grpSpPr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98764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611280" y="26676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Arial"/>
                  <a:ea typeface="隶书"/>
                </a:rPr>
                <a:t>练一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705672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0" y="0"/>
            <a:ext cx="2987640" cy="1341360"/>
            <a:chOff x="0" y="0"/>
            <a:chExt cx="2987640" cy="1341360"/>
          </a:xfrm>
        </p:grpSpPr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98764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611280" y="26676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Arial"/>
                  <a:ea typeface="隶书"/>
                </a:rPr>
                <a:t>练一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7525080" cy="41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0" y="0"/>
            <a:ext cx="2987640" cy="1341360"/>
            <a:chOff x="0" y="0"/>
            <a:chExt cx="2987640" cy="134136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98764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611280" y="26676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Arial"/>
                  <a:ea typeface="隶书"/>
                </a:rPr>
                <a:t>练一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0" y="1916280"/>
            <a:ext cx="9144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 </dc:description>
  <dc:language>en-US</dc:language>
  <cp:lastModifiedBy>User</cp:lastModifiedBy>
  <dcterms:modified xsi:type="dcterms:W3CDTF">2015-09-18T00:24:53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