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type.wav" ContentType="audio/x-wav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39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D63-30DC-48FD-883A-3C6250FA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D27-9050-4C07-9DE0-7F4FCB99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E45-85AE-4369-B434-96E5530E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355-BAA5-482A-87FF-C7B106A8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295-8D7B-4FD2-B9D1-C7DB1CB6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891-0F66-48BA-ABA3-2CF2142C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A0F-C00D-4841-94DE-8DA8DDC4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395-E1D7-4EFA-BC62-AB7D7CCF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B28-E1E4-477E-A8E1-9384BEC7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717-B096-4A33-A4AD-AE30D61C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709-4B50-4CE7-9C3F-BAA16075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820-8EAE-4908-9F6C-17DCEA38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5B38-A98F-49F4-BFA9-41203F0D2B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0.jpeg"/><Relationship Id="rId13" Type="http://schemas.openxmlformats.org/officeDocument/2006/relationships/image" Target="../media/image20.jpeg"/><Relationship Id="rId14" Type="http://schemas.openxmlformats.org/officeDocument/2006/relationships/image" Target="../media/image20.jpeg"/><Relationship Id="rId15" Type="http://schemas.openxmlformats.org/officeDocument/2006/relationships/image" Target="../media/image20.jpeg"/><Relationship Id="rId16" Type="http://schemas.openxmlformats.org/officeDocument/2006/relationships/image" Target="../media/image20.jpeg"/><Relationship Id="rId17" Type="http://schemas.openxmlformats.org/officeDocument/2006/relationships/image" Target="../media/image20.jpeg"/><Relationship Id="rId18" Type="http://schemas.openxmlformats.org/officeDocument/2006/relationships/image" Target="../media/image20.jpe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image" Target="../media/image33.jpeg"/><Relationship Id="rId7" Type="http://schemas.openxmlformats.org/officeDocument/2006/relationships/image" Target="../media/image33.jpeg"/><Relationship Id="rId8" Type="http://schemas.openxmlformats.org/officeDocument/2006/relationships/image" Target="../media/image33.jpeg"/><Relationship Id="rId9" Type="http://schemas.openxmlformats.org/officeDocument/2006/relationships/image" Target="../media/image33.jpeg"/><Relationship Id="rId10" Type="http://schemas.openxmlformats.org/officeDocument/2006/relationships/image" Target="../media/image33.jpeg"/><Relationship Id="rId11" Type="http://schemas.openxmlformats.org/officeDocument/2006/relationships/image" Target="../media/image33.jpeg"/><Relationship Id="rId12" Type="http://schemas.openxmlformats.org/officeDocument/2006/relationships/image" Target="../media/image33.jpeg"/><Relationship Id="rId13" Type="http://schemas.openxmlformats.org/officeDocument/2006/relationships/image" Target="../media/image33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小狮子2"/>
          <p:cNvPicPr/>
          <p:nvPr/>
        </p:nvPicPr>
        <p:blipFill>
          <a:blip r:embed="rId2"/>
          <a:stretch/>
        </p:blipFill>
        <p:spPr>
          <a:xfrm>
            <a:off x="4572000" y="3733920"/>
            <a:ext cx="6248520" cy="50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小狮子4"/>
          <p:cNvPicPr/>
          <p:nvPr/>
        </p:nvPicPr>
        <p:blipFill>
          <a:blip r:embed="rId3"/>
          <a:stretch/>
        </p:blipFill>
        <p:spPr>
          <a:xfrm>
            <a:off x="1523880" y="3076560"/>
            <a:ext cx="4038840" cy="3781440"/>
          </a:xfrm>
          <a:prstGeom prst="rect">
            <a:avLst/>
          </a:prstGeom>
          <a:ln w="0">
            <a:noFill/>
          </a:ln>
        </p:spPr>
      </p:pic>
      <p:sp>
        <p:nvSpPr>
          <p:cNvPr id="44" name="圆角矩形 11"/>
          <p:cNvSpPr/>
          <p:nvPr/>
        </p:nvSpPr>
        <p:spPr>
          <a:xfrm>
            <a:off x="214200" y="214200"/>
            <a:ext cx="4500720" cy="5716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山东教育出版社小学语文一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矩形 14" descr=""/>
          <p:cNvPicPr/>
          <p:nvPr/>
        </p:nvPicPr>
        <p:blipFill>
          <a:blip r:embed="rId4"/>
          <a:stretch/>
        </p:blipFill>
        <p:spPr>
          <a:xfrm>
            <a:off x="2341440" y="1785960"/>
            <a:ext cx="525960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撕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3"/>
          <p:cNvSpPr/>
          <p:nvPr/>
        </p:nvSpPr>
        <p:spPr>
          <a:xfrm>
            <a:off x="380880" y="594360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438280" y="3505320"/>
            <a:ext cx="14479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ea"/>
              </a:rPr>
              <a:t>撕</a:t>
            </a:r>
            <a:endParaRPr b="1" lang="en-US" sz="8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ea"/>
              <a:ea typeface="+mn-ea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7467480" y="5181480"/>
            <a:ext cx="1371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ea"/>
              </a:rPr>
              <a:t>咬</a:t>
            </a:r>
            <a:endParaRPr b="1" lang="en-US" sz="8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ea"/>
              <a:ea typeface="+mn-e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小狮子2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000240" y="1854360"/>
            <a:ext cx="7985160" cy="5003640"/>
          </a:xfrm>
          <a:prstGeom prst="rect">
            <a:avLst/>
          </a:prstGeom>
          <a:ln w="0">
            <a:noFill/>
          </a:ln>
        </p:spPr>
      </p:pic>
      <p:sp>
        <p:nvSpPr>
          <p:cNvPr id="83" name="圆角矩形 4"/>
          <p:cNvSpPr/>
          <p:nvPr/>
        </p:nvSpPr>
        <p:spPr>
          <a:xfrm>
            <a:off x="571680" y="4929120"/>
            <a:ext cx="707220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826920" y="4935600"/>
            <a:ext cx="781704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小狮子</a:t>
            </a:r>
            <a:r>
              <a:rPr b="1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整天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滚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、撕、咬，</a:t>
            </a:r>
            <a:r>
              <a:rPr b="1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非常刻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内容占位符 3" descr="u=3395204300,1734289712&amp;fm=21&amp;gp=0.jpg"/>
          <p:cNvPicPr/>
          <p:nvPr/>
        </p:nvPicPr>
        <p:blipFill>
          <a:blip r:embed="rId1"/>
          <a:srcRect l="0" t="0" r="0" b="11373"/>
          <a:stretch/>
        </p:blipFill>
        <p:spPr>
          <a:xfrm>
            <a:off x="0" y="214200"/>
            <a:ext cx="3200400" cy="2000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小狮子2"/>
          <p:cNvPicPr/>
          <p:nvPr/>
        </p:nvPicPr>
        <p:blipFill>
          <a:blip r:embed="rId2"/>
          <a:stretch/>
        </p:blipFill>
        <p:spPr>
          <a:xfrm>
            <a:off x="285840" y="3214800"/>
            <a:ext cx="7486560" cy="50036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6" descr="8119273_205909233138_2.png"/>
          <p:cNvPicPr/>
          <p:nvPr/>
        </p:nvPicPr>
        <p:blipFill>
          <a:blip r:embed="rId3"/>
          <a:srcRect l="80312" t="3581" r="15117" b="56012"/>
          <a:stretch/>
        </p:blipFill>
        <p:spPr>
          <a:xfrm rot="19067400">
            <a:off x="262080" y="3681000"/>
            <a:ext cx="233280" cy="8683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7" descr="8119273_205909233138_2.png"/>
          <p:cNvPicPr/>
          <p:nvPr/>
        </p:nvPicPr>
        <p:blipFill>
          <a:blip r:embed="rId4"/>
          <a:srcRect l="80593" t="36887" r="15117" b="56012"/>
          <a:stretch/>
        </p:blipFill>
        <p:spPr>
          <a:xfrm rot="2809800">
            <a:off x="2235240" y="4627080"/>
            <a:ext cx="220680" cy="154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8" descr="8119273_205909233138_2.png"/>
          <p:cNvPicPr/>
          <p:nvPr/>
        </p:nvPicPr>
        <p:blipFill>
          <a:blip r:embed="rId5"/>
          <a:srcRect l="77914" t="0" r="15119" b="56029"/>
          <a:stretch/>
        </p:blipFill>
        <p:spPr>
          <a:xfrm rot="19067400">
            <a:off x="58680" y="4303800"/>
            <a:ext cx="177840" cy="8794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2" descr="res02_attpic_brief.jpg"/>
          <p:cNvPicPr/>
          <p:nvPr/>
        </p:nvPicPr>
        <p:blipFill>
          <a:blip r:embed="rId6"/>
          <a:stretch/>
        </p:blipFill>
        <p:spPr>
          <a:xfrm>
            <a:off x="4143240" y="285840"/>
            <a:ext cx="4200840" cy="22143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" descr="11431359_111551432149_2.jpg"/>
          <p:cNvPicPr/>
          <p:nvPr/>
        </p:nvPicPr>
        <p:blipFill>
          <a:blip r:embed="rId7"/>
          <a:stretch/>
        </p:blipFill>
        <p:spPr>
          <a:xfrm>
            <a:off x="7072200" y="2214720"/>
            <a:ext cx="714600" cy="5889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" descr="11431359_111551432149_2.jpg"/>
          <p:cNvPicPr/>
          <p:nvPr/>
        </p:nvPicPr>
        <p:blipFill>
          <a:blip r:embed="rId8"/>
          <a:stretch/>
        </p:blipFill>
        <p:spPr>
          <a:xfrm>
            <a:off x="5214960" y="2571840"/>
            <a:ext cx="714240" cy="5889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11431359_111551432149_2.jpg"/>
          <p:cNvPicPr/>
          <p:nvPr/>
        </p:nvPicPr>
        <p:blipFill>
          <a:blip r:embed="rId9"/>
          <a:stretch/>
        </p:blipFill>
        <p:spPr>
          <a:xfrm>
            <a:off x="7643880" y="3357720"/>
            <a:ext cx="714240" cy="5889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11431359_111551432149_2.jpg"/>
          <p:cNvPicPr/>
          <p:nvPr/>
        </p:nvPicPr>
        <p:blipFill>
          <a:blip r:embed="rId10"/>
          <a:stretch/>
        </p:blipFill>
        <p:spPr>
          <a:xfrm>
            <a:off x="5000760" y="3500280"/>
            <a:ext cx="714240" cy="5889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7" descr="11431359_111551432149_2.jpg"/>
          <p:cNvPicPr/>
          <p:nvPr/>
        </p:nvPicPr>
        <p:blipFill>
          <a:blip r:embed="rId11"/>
          <a:stretch/>
        </p:blipFill>
        <p:spPr>
          <a:xfrm>
            <a:off x="6357960" y="5214960"/>
            <a:ext cx="714240" cy="588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8" descr="11431359_111551432149_2.jpg"/>
          <p:cNvPicPr/>
          <p:nvPr/>
        </p:nvPicPr>
        <p:blipFill>
          <a:blip r:embed="rId12"/>
          <a:stretch/>
        </p:blipFill>
        <p:spPr>
          <a:xfrm>
            <a:off x="5715000" y="5214960"/>
            <a:ext cx="714240" cy="5889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" descr="11431359_111551432149_2.jpg"/>
          <p:cNvPicPr/>
          <p:nvPr/>
        </p:nvPicPr>
        <p:blipFill>
          <a:blip r:embed="rId13"/>
          <a:stretch/>
        </p:blipFill>
        <p:spPr>
          <a:xfrm>
            <a:off x="5143680" y="5286240"/>
            <a:ext cx="714240" cy="588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0" descr="11431359_111551432149_2.jpg"/>
          <p:cNvPicPr/>
          <p:nvPr/>
        </p:nvPicPr>
        <p:blipFill>
          <a:blip r:embed="rId14"/>
          <a:stretch/>
        </p:blipFill>
        <p:spPr>
          <a:xfrm>
            <a:off x="6929280" y="5214960"/>
            <a:ext cx="714600" cy="588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1" descr="11431359_111551432149_2.jpg"/>
          <p:cNvPicPr/>
          <p:nvPr/>
        </p:nvPicPr>
        <p:blipFill>
          <a:blip r:embed="rId15"/>
          <a:stretch/>
        </p:blipFill>
        <p:spPr>
          <a:xfrm>
            <a:off x="7572240" y="5214960"/>
            <a:ext cx="714600" cy="5889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2" descr="11431359_111551432149_2.jpg"/>
          <p:cNvPicPr/>
          <p:nvPr/>
        </p:nvPicPr>
        <p:blipFill>
          <a:blip r:embed="rId16"/>
          <a:stretch/>
        </p:blipFill>
        <p:spPr>
          <a:xfrm>
            <a:off x="5357880" y="5786280"/>
            <a:ext cx="714240" cy="5889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3" descr="11431359_111551432149_2.jpg"/>
          <p:cNvPicPr/>
          <p:nvPr/>
        </p:nvPicPr>
        <p:blipFill>
          <a:blip r:embed="rId17"/>
          <a:stretch/>
        </p:blipFill>
        <p:spPr>
          <a:xfrm>
            <a:off x="4929120" y="5786280"/>
            <a:ext cx="714600" cy="5889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4" descr="11431359_111551432149_2.jpg"/>
          <p:cNvPicPr/>
          <p:nvPr/>
        </p:nvPicPr>
        <p:blipFill>
          <a:blip r:embed="rId18"/>
          <a:stretch/>
        </p:blipFill>
        <p:spPr>
          <a:xfrm>
            <a:off x="8001000" y="4643280"/>
            <a:ext cx="714240" cy="58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小狮子2"/>
          <p:cNvPicPr/>
          <p:nvPr/>
        </p:nvPicPr>
        <p:blipFill>
          <a:blip r:embed="rId19"/>
          <a:stretch/>
        </p:blipFill>
        <p:spPr>
          <a:xfrm>
            <a:off x="5400720" y="3071880"/>
            <a:ext cx="74865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小狮子2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000240" y="1854360"/>
            <a:ext cx="7985160" cy="5003640"/>
          </a:xfrm>
          <a:prstGeom prst="rect">
            <a:avLst/>
          </a:prstGeom>
          <a:ln w="0">
            <a:noFill/>
          </a:ln>
        </p:spPr>
      </p:pic>
      <p:sp>
        <p:nvSpPr>
          <p:cNvPr id="106" name="圆角矩形 4"/>
          <p:cNvSpPr/>
          <p:nvPr/>
        </p:nvSpPr>
        <p:spPr>
          <a:xfrm>
            <a:off x="571680" y="4929120"/>
            <a:ext cx="707220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26920" y="4935600"/>
            <a:ext cx="781704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小狮子</a:t>
            </a:r>
            <a:r>
              <a:rPr b="1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整天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滚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、撕、咬，</a:t>
            </a:r>
            <a:r>
              <a:rPr b="1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非常刻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内容占位符 3" descr="11878134_124401268364_2.jpg"/>
          <p:cNvPicPr/>
          <p:nvPr/>
        </p:nvPicPr>
        <p:blipFill>
          <a:blip r:embed="rId1"/>
          <a:srcRect l="0" t="0" r="0" b="6874"/>
          <a:stretch/>
        </p:blipFill>
        <p:spPr>
          <a:xfrm>
            <a:off x="214200" y="0"/>
            <a:ext cx="363384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小狮子2"/>
          <p:cNvPicPr/>
          <p:nvPr/>
        </p:nvPicPr>
        <p:blipFill>
          <a:blip r:embed="rId2"/>
          <a:stretch/>
        </p:blipFill>
        <p:spPr>
          <a:xfrm>
            <a:off x="4071960" y="3643200"/>
            <a:ext cx="7929720" cy="5004000"/>
          </a:xfrm>
          <a:prstGeom prst="rect">
            <a:avLst/>
          </a:prstGeom>
          <a:ln w="0">
            <a:noFill/>
          </a:ln>
        </p:spPr>
      </p:pic>
      <p:sp>
        <p:nvSpPr>
          <p:cNvPr id="110" name="未知"/>
          <p:cNvSpPr/>
          <p:nvPr/>
        </p:nvSpPr>
        <p:spPr>
          <a:xfrm>
            <a:off x="5572080" y="6000840"/>
            <a:ext cx="838080" cy="485640"/>
          </a:xfrm>
          <a:custGeom>
            <a:avLst/>
            <a:gdLst/>
            <a:ahLst/>
            <a:rect l="l" t="t" r="r" b="b"/>
            <a:pathLst>
              <a:path w="1669" h="1308">
                <a:moveTo>
                  <a:pt x="1374" y="0"/>
                </a:moveTo>
                <a:cubicBezTo>
                  <a:pt x="1378" y="112"/>
                  <a:pt x="1375" y="224"/>
                  <a:pt x="1386" y="336"/>
                </a:cubicBezTo>
                <a:cubicBezTo>
                  <a:pt x="1390" y="373"/>
                  <a:pt x="1522" y="495"/>
                  <a:pt x="1554" y="516"/>
                </a:cubicBezTo>
                <a:cubicBezTo>
                  <a:pt x="1566" y="536"/>
                  <a:pt x="1574" y="560"/>
                  <a:pt x="1590" y="576"/>
                </a:cubicBezTo>
                <a:cubicBezTo>
                  <a:pt x="1610" y="596"/>
                  <a:pt x="1647" y="599"/>
                  <a:pt x="1662" y="624"/>
                </a:cubicBezTo>
                <a:cubicBezTo>
                  <a:pt x="1669" y="635"/>
                  <a:pt x="1639" y="634"/>
                  <a:pt x="1626" y="636"/>
                </a:cubicBezTo>
                <a:cubicBezTo>
                  <a:pt x="1586" y="642"/>
                  <a:pt x="1546" y="644"/>
                  <a:pt x="1506" y="648"/>
                </a:cubicBezTo>
                <a:cubicBezTo>
                  <a:pt x="1442" y="744"/>
                  <a:pt x="1526" y="628"/>
                  <a:pt x="1446" y="708"/>
                </a:cubicBezTo>
                <a:cubicBezTo>
                  <a:pt x="1412" y="742"/>
                  <a:pt x="1401" y="796"/>
                  <a:pt x="1386" y="840"/>
                </a:cubicBezTo>
                <a:cubicBezTo>
                  <a:pt x="1382" y="876"/>
                  <a:pt x="1378" y="912"/>
                  <a:pt x="1374" y="948"/>
                </a:cubicBezTo>
                <a:cubicBezTo>
                  <a:pt x="1370" y="980"/>
                  <a:pt x="1380" y="1017"/>
                  <a:pt x="1362" y="1044"/>
                </a:cubicBezTo>
                <a:cubicBezTo>
                  <a:pt x="1354" y="1056"/>
                  <a:pt x="1338" y="1028"/>
                  <a:pt x="1326" y="1020"/>
                </a:cubicBezTo>
                <a:cubicBezTo>
                  <a:pt x="1194" y="1035"/>
                  <a:pt x="1153" y="1039"/>
                  <a:pt x="1050" y="1116"/>
                </a:cubicBezTo>
                <a:cubicBezTo>
                  <a:pt x="1016" y="1219"/>
                  <a:pt x="1068" y="1055"/>
                  <a:pt x="1026" y="1224"/>
                </a:cubicBezTo>
                <a:cubicBezTo>
                  <a:pt x="1020" y="1249"/>
                  <a:pt x="1002" y="1296"/>
                  <a:pt x="1002" y="1296"/>
                </a:cubicBezTo>
                <a:cubicBezTo>
                  <a:pt x="973" y="1282"/>
                  <a:pt x="947" y="1261"/>
                  <a:pt x="918" y="1248"/>
                </a:cubicBezTo>
                <a:cubicBezTo>
                  <a:pt x="895" y="1238"/>
                  <a:pt x="846" y="1224"/>
                  <a:pt x="846" y="1224"/>
                </a:cubicBezTo>
                <a:cubicBezTo>
                  <a:pt x="666" y="1244"/>
                  <a:pt x="653" y="1213"/>
                  <a:pt x="558" y="1308"/>
                </a:cubicBezTo>
                <a:cubicBezTo>
                  <a:pt x="524" y="1263"/>
                  <a:pt x="502" y="1204"/>
                  <a:pt x="462" y="1164"/>
                </a:cubicBezTo>
                <a:cubicBezTo>
                  <a:pt x="416" y="1118"/>
                  <a:pt x="342" y="1104"/>
                  <a:pt x="282" y="1092"/>
                </a:cubicBezTo>
                <a:cubicBezTo>
                  <a:pt x="202" y="1096"/>
                  <a:pt x="111" y="1144"/>
                  <a:pt x="42" y="1104"/>
                </a:cubicBezTo>
                <a:cubicBezTo>
                  <a:pt x="0" y="1080"/>
                  <a:pt x="45" y="1007"/>
                  <a:pt x="54" y="960"/>
                </a:cubicBezTo>
                <a:cubicBezTo>
                  <a:pt x="62" y="918"/>
                  <a:pt x="100" y="869"/>
                  <a:pt x="114" y="828"/>
                </a:cubicBezTo>
                <a:cubicBezTo>
                  <a:pt x="124" y="797"/>
                  <a:pt x="130" y="764"/>
                  <a:pt x="138" y="732"/>
                </a:cubicBezTo>
                <a:cubicBezTo>
                  <a:pt x="142" y="716"/>
                  <a:pt x="150" y="684"/>
                  <a:pt x="150" y="684"/>
                </a:cubicBezTo>
                <a:cubicBezTo>
                  <a:pt x="146" y="628"/>
                  <a:pt x="152" y="570"/>
                  <a:pt x="138" y="516"/>
                </a:cubicBezTo>
                <a:cubicBezTo>
                  <a:pt x="126" y="469"/>
                  <a:pt x="56" y="398"/>
                  <a:pt x="18" y="372"/>
                </a:cubicBezTo>
                <a:cubicBezTo>
                  <a:pt x="30" y="368"/>
                  <a:pt x="41" y="362"/>
                  <a:pt x="54" y="360"/>
                </a:cubicBezTo>
                <a:cubicBezTo>
                  <a:pt x="94" y="354"/>
                  <a:pt x="135" y="356"/>
                  <a:pt x="174" y="348"/>
                </a:cubicBezTo>
                <a:cubicBezTo>
                  <a:pt x="204" y="342"/>
                  <a:pt x="229" y="322"/>
                  <a:pt x="258" y="312"/>
                </a:cubicBezTo>
                <a:cubicBezTo>
                  <a:pt x="301" y="269"/>
                  <a:pt x="321" y="230"/>
                  <a:pt x="354" y="180"/>
                </a:cubicBezTo>
                <a:cubicBezTo>
                  <a:pt x="365" y="125"/>
                  <a:pt x="372" y="94"/>
                  <a:pt x="402" y="48"/>
                </a:cubicBezTo>
                <a:cubicBezTo>
                  <a:pt x="476" y="85"/>
                  <a:pt x="525" y="153"/>
                  <a:pt x="606" y="180"/>
                </a:cubicBezTo>
                <a:cubicBezTo>
                  <a:pt x="682" y="176"/>
                  <a:pt x="759" y="182"/>
                  <a:pt x="834" y="168"/>
                </a:cubicBezTo>
                <a:cubicBezTo>
                  <a:pt x="885" y="159"/>
                  <a:pt x="918" y="36"/>
                  <a:pt x="918" y="36"/>
                </a:cubicBezTo>
                <a:cubicBezTo>
                  <a:pt x="930" y="48"/>
                  <a:pt x="945" y="58"/>
                  <a:pt x="954" y="72"/>
                </a:cubicBezTo>
                <a:cubicBezTo>
                  <a:pt x="993" y="131"/>
                  <a:pt x="933" y="87"/>
                  <a:pt x="990" y="144"/>
                </a:cubicBezTo>
                <a:cubicBezTo>
                  <a:pt x="1007" y="161"/>
                  <a:pt x="1055" y="183"/>
                  <a:pt x="1074" y="192"/>
                </a:cubicBezTo>
                <a:cubicBezTo>
                  <a:pt x="1154" y="188"/>
                  <a:pt x="1235" y="194"/>
                  <a:pt x="1314" y="180"/>
                </a:cubicBezTo>
                <a:cubicBezTo>
                  <a:pt x="1328" y="177"/>
                  <a:pt x="1332" y="157"/>
                  <a:pt x="1338" y="144"/>
                </a:cubicBezTo>
                <a:cubicBezTo>
                  <a:pt x="1356" y="103"/>
                  <a:pt x="1374" y="45"/>
                  <a:pt x="1374" y="0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6500880" y="6143760"/>
            <a:ext cx="695160" cy="485640"/>
          </a:xfrm>
          <a:custGeom>
            <a:avLst/>
            <a:gdLst/>
            <a:ahLst/>
            <a:rect l="l" t="t" r="r" b="b"/>
            <a:pathLst>
              <a:path w="1669" h="1308">
                <a:moveTo>
                  <a:pt x="1374" y="0"/>
                </a:moveTo>
                <a:cubicBezTo>
                  <a:pt x="1378" y="112"/>
                  <a:pt x="1375" y="224"/>
                  <a:pt x="1386" y="336"/>
                </a:cubicBezTo>
                <a:cubicBezTo>
                  <a:pt x="1390" y="373"/>
                  <a:pt x="1522" y="495"/>
                  <a:pt x="1554" y="516"/>
                </a:cubicBezTo>
                <a:cubicBezTo>
                  <a:pt x="1566" y="536"/>
                  <a:pt x="1574" y="560"/>
                  <a:pt x="1590" y="576"/>
                </a:cubicBezTo>
                <a:cubicBezTo>
                  <a:pt x="1610" y="596"/>
                  <a:pt x="1647" y="599"/>
                  <a:pt x="1662" y="624"/>
                </a:cubicBezTo>
                <a:cubicBezTo>
                  <a:pt x="1669" y="635"/>
                  <a:pt x="1639" y="634"/>
                  <a:pt x="1626" y="636"/>
                </a:cubicBezTo>
                <a:cubicBezTo>
                  <a:pt x="1586" y="642"/>
                  <a:pt x="1546" y="644"/>
                  <a:pt x="1506" y="648"/>
                </a:cubicBezTo>
                <a:cubicBezTo>
                  <a:pt x="1442" y="744"/>
                  <a:pt x="1526" y="628"/>
                  <a:pt x="1446" y="708"/>
                </a:cubicBezTo>
                <a:cubicBezTo>
                  <a:pt x="1412" y="742"/>
                  <a:pt x="1401" y="796"/>
                  <a:pt x="1386" y="840"/>
                </a:cubicBezTo>
                <a:cubicBezTo>
                  <a:pt x="1382" y="876"/>
                  <a:pt x="1378" y="912"/>
                  <a:pt x="1374" y="948"/>
                </a:cubicBezTo>
                <a:cubicBezTo>
                  <a:pt x="1370" y="980"/>
                  <a:pt x="1380" y="1017"/>
                  <a:pt x="1362" y="1044"/>
                </a:cubicBezTo>
                <a:cubicBezTo>
                  <a:pt x="1354" y="1056"/>
                  <a:pt x="1338" y="1028"/>
                  <a:pt x="1326" y="1020"/>
                </a:cubicBezTo>
                <a:cubicBezTo>
                  <a:pt x="1194" y="1035"/>
                  <a:pt x="1153" y="1039"/>
                  <a:pt x="1050" y="1116"/>
                </a:cubicBezTo>
                <a:cubicBezTo>
                  <a:pt x="1016" y="1219"/>
                  <a:pt x="1068" y="1055"/>
                  <a:pt x="1026" y="1224"/>
                </a:cubicBezTo>
                <a:cubicBezTo>
                  <a:pt x="1020" y="1249"/>
                  <a:pt x="1002" y="1296"/>
                  <a:pt x="1002" y="1296"/>
                </a:cubicBezTo>
                <a:cubicBezTo>
                  <a:pt x="973" y="1282"/>
                  <a:pt x="947" y="1261"/>
                  <a:pt x="918" y="1248"/>
                </a:cubicBezTo>
                <a:cubicBezTo>
                  <a:pt x="895" y="1238"/>
                  <a:pt x="846" y="1224"/>
                  <a:pt x="846" y="1224"/>
                </a:cubicBezTo>
                <a:cubicBezTo>
                  <a:pt x="666" y="1244"/>
                  <a:pt x="653" y="1213"/>
                  <a:pt x="558" y="1308"/>
                </a:cubicBezTo>
                <a:cubicBezTo>
                  <a:pt x="524" y="1263"/>
                  <a:pt x="502" y="1204"/>
                  <a:pt x="462" y="1164"/>
                </a:cubicBezTo>
                <a:cubicBezTo>
                  <a:pt x="416" y="1118"/>
                  <a:pt x="342" y="1104"/>
                  <a:pt x="282" y="1092"/>
                </a:cubicBezTo>
                <a:cubicBezTo>
                  <a:pt x="202" y="1096"/>
                  <a:pt x="111" y="1144"/>
                  <a:pt x="42" y="1104"/>
                </a:cubicBezTo>
                <a:cubicBezTo>
                  <a:pt x="0" y="1080"/>
                  <a:pt x="45" y="1007"/>
                  <a:pt x="54" y="960"/>
                </a:cubicBezTo>
                <a:cubicBezTo>
                  <a:pt x="62" y="918"/>
                  <a:pt x="100" y="869"/>
                  <a:pt x="114" y="828"/>
                </a:cubicBezTo>
                <a:cubicBezTo>
                  <a:pt x="124" y="797"/>
                  <a:pt x="130" y="764"/>
                  <a:pt x="138" y="732"/>
                </a:cubicBezTo>
                <a:cubicBezTo>
                  <a:pt x="142" y="716"/>
                  <a:pt x="150" y="684"/>
                  <a:pt x="150" y="684"/>
                </a:cubicBezTo>
                <a:cubicBezTo>
                  <a:pt x="146" y="628"/>
                  <a:pt x="152" y="570"/>
                  <a:pt x="138" y="516"/>
                </a:cubicBezTo>
                <a:cubicBezTo>
                  <a:pt x="126" y="469"/>
                  <a:pt x="56" y="398"/>
                  <a:pt x="18" y="372"/>
                </a:cubicBezTo>
                <a:cubicBezTo>
                  <a:pt x="30" y="368"/>
                  <a:pt x="41" y="362"/>
                  <a:pt x="54" y="360"/>
                </a:cubicBezTo>
                <a:cubicBezTo>
                  <a:pt x="94" y="354"/>
                  <a:pt x="135" y="356"/>
                  <a:pt x="174" y="348"/>
                </a:cubicBezTo>
                <a:cubicBezTo>
                  <a:pt x="204" y="342"/>
                  <a:pt x="229" y="322"/>
                  <a:pt x="258" y="312"/>
                </a:cubicBezTo>
                <a:cubicBezTo>
                  <a:pt x="301" y="269"/>
                  <a:pt x="321" y="230"/>
                  <a:pt x="354" y="180"/>
                </a:cubicBezTo>
                <a:cubicBezTo>
                  <a:pt x="365" y="125"/>
                  <a:pt x="372" y="94"/>
                  <a:pt x="402" y="48"/>
                </a:cubicBezTo>
                <a:cubicBezTo>
                  <a:pt x="476" y="85"/>
                  <a:pt x="525" y="153"/>
                  <a:pt x="606" y="180"/>
                </a:cubicBezTo>
                <a:cubicBezTo>
                  <a:pt x="682" y="176"/>
                  <a:pt x="759" y="182"/>
                  <a:pt x="834" y="168"/>
                </a:cubicBezTo>
                <a:cubicBezTo>
                  <a:pt x="885" y="159"/>
                  <a:pt x="918" y="36"/>
                  <a:pt x="918" y="36"/>
                </a:cubicBezTo>
                <a:cubicBezTo>
                  <a:pt x="930" y="48"/>
                  <a:pt x="945" y="58"/>
                  <a:pt x="954" y="72"/>
                </a:cubicBezTo>
                <a:cubicBezTo>
                  <a:pt x="993" y="131"/>
                  <a:pt x="933" y="87"/>
                  <a:pt x="990" y="144"/>
                </a:cubicBezTo>
                <a:cubicBezTo>
                  <a:pt x="1007" y="161"/>
                  <a:pt x="1055" y="183"/>
                  <a:pt x="1074" y="192"/>
                </a:cubicBezTo>
                <a:cubicBezTo>
                  <a:pt x="1154" y="188"/>
                  <a:pt x="1235" y="194"/>
                  <a:pt x="1314" y="180"/>
                </a:cubicBezTo>
                <a:cubicBezTo>
                  <a:pt x="1328" y="177"/>
                  <a:pt x="1332" y="157"/>
                  <a:pt x="1338" y="144"/>
                </a:cubicBezTo>
                <a:cubicBezTo>
                  <a:pt x="1356" y="103"/>
                  <a:pt x="1374" y="45"/>
                  <a:pt x="1374" y="0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7000920" y="5429160"/>
            <a:ext cx="714240" cy="486000"/>
          </a:xfrm>
          <a:custGeom>
            <a:avLst/>
            <a:gdLst/>
            <a:ahLst/>
            <a:rect l="l" t="t" r="r" b="b"/>
            <a:pathLst>
              <a:path w="1669" h="1308">
                <a:moveTo>
                  <a:pt x="1374" y="0"/>
                </a:moveTo>
                <a:cubicBezTo>
                  <a:pt x="1378" y="112"/>
                  <a:pt x="1375" y="224"/>
                  <a:pt x="1386" y="336"/>
                </a:cubicBezTo>
                <a:cubicBezTo>
                  <a:pt x="1390" y="373"/>
                  <a:pt x="1522" y="495"/>
                  <a:pt x="1554" y="516"/>
                </a:cubicBezTo>
                <a:cubicBezTo>
                  <a:pt x="1566" y="536"/>
                  <a:pt x="1574" y="560"/>
                  <a:pt x="1590" y="576"/>
                </a:cubicBezTo>
                <a:cubicBezTo>
                  <a:pt x="1610" y="596"/>
                  <a:pt x="1647" y="599"/>
                  <a:pt x="1662" y="624"/>
                </a:cubicBezTo>
                <a:cubicBezTo>
                  <a:pt x="1669" y="635"/>
                  <a:pt x="1639" y="634"/>
                  <a:pt x="1626" y="636"/>
                </a:cubicBezTo>
                <a:cubicBezTo>
                  <a:pt x="1586" y="642"/>
                  <a:pt x="1546" y="644"/>
                  <a:pt x="1506" y="648"/>
                </a:cubicBezTo>
                <a:cubicBezTo>
                  <a:pt x="1442" y="744"/>
                  <a:pt x="1526" y="628"/>
                  <a:pt x="1446" y="708"/>
                </a:cubicBezTo>
                <a:cubicBezTo>
                  <a:pt x="1412" y="742"/>
                  <a:pt x="1401" y="796"/>
                  <a:pt x="1386" y="840"/>
                </a:cubicBezTo>
                <a:cubicBezTo>
                  <a:pt x="1382" y="876"/>
                  <a:pt x="1378" y="912"/>
                  <a:pt x="1374" y="948"/>
                </a:cubicBezTo>
                <a:cubicBezTo>
                  <a:pt x="1370" y="980"/>
                  <a:pt x="1380" y="1017"/>
                  <a:pt x="1362" y="1044"/>
                </a:cubicBezTo>
                <a:cubicBezTo>
                  <a:pt x="1354" y="1056"/>
                  <a:pt x="1338" y="1028"/>
                  <a:pt x="1326" y="1020"/>
                </a:cubicBezTo>
                <a:cubicBezTo>
                  <a:pt x="1194" y="1035"/>
                  <a:pt x="1153" y="1039"/>
                  <a:pt x="1050" y="1116"/>
                </a:cubicBezTo>
                <a:cubicBezTo>
                  <a:pt x="1016" y="1219"/>
                  <a:pt x="1068" y="1055"/>
                  <a:pt x="1026" y="1224"/>
                </a:cubicBezTo>
                <a:cubicBezTo>
                  <a:pt x="1020" y="1249"/>
                  <a:pt x="1002" y="1296"/>
                  <a:pt x="1002" y="1296"/>
                </a:cubicBezTo>
                <a:cubicBezTo>
                  <a:pt x="973" y="1282"/>
                  <a:pt x="947" y="1261"/>
                  <a:pt x="918" y="1248"/>
                </a:cubicBezTo>
                <a:cubicBezTo>
                  <a:pt x="895" y="1238"/>
                  <a:pt x="846" y="1224"/>
                  <a:pt x="846" y="1224"/>
                </a:cubicBezTo>
                <a:cubicBezTo>
                  <a:pt x="666" y="1244"/>
                  <a:pt x="653" y="1213"/>
                  <a:pt x="558" y="1308"/>
                </a:cubicBezTo>
                <a:cubicBezTo>
                  <a:pt x="524" y="1263"/>
                  <a:pt x="502" y="1204"/>
                  <a:pt x="462" y="1164"/>
                </a:cubicBezTo>
                <a:cubicBezTo>
                  <a:pt x="416" y="1118"/>
                  <a:pt x="342" y="1104"/>
                  <a:pt x="282" y="1092"/>
                </a:cubicBezTo>
                <a:cubicBezTo>
                  <a:pt x="202" y="1096"/>
                  <a:pt x="111" y="1144"/>
                  <a:pt x="42" y="1104"/>
                </a:cubicBezTo>
                <a:cubicBezTo>
                  <a:pt x="0" y="1080"/>
                  <a:pt x="45" y="1007"/>
                  <a:pt x="54" y="960"/>
                </a:cubicBezTo>
                <a:cubicBezTo>
                  <a:pt x="62" y="918"/>
                  <a:pt x="100" y="869"/>
                  <a:pt x="114" y="828"/>
                </a:cubicBezTo>
                <a:cubicBezTo>
                  <a:pt x="124" y="797"/>
                  <a:pt x="130" y="764"/>
                  <a:pt x="138" y="732"/>
                </a:cubicBezTo>
                <a:cubicBezTo>
                  <a:pt x="142" y="716"/>
                  <a:pt x="150" y="684"/>
                  <a:pt x="150" y="684"/>
                </a:cubicBezTo>
                <a:cubicBezTo>
                  <a:pt x="146" y="628"/>
                  <a:pt x="152" y="570"/>
                  <a:pt x="138" y="516"/>
                </a:cubicBezTo>
                <a:cubicBezTo>
                  <a:pt x="126" y="469"/>
                  <a:pt x="56" y="398"/>
                  <a:pt x="18" y="372"/>
                </a:cubicBezTo>
                <a:cubicBezTo>
                  <a:pt x="30" y="368"/>
                  <a:pt x="41" y="362"/>
                  <a:pt x="54" y="360"/>
                </a:cubicBezTo>
                <a:cubicBezTo>
                  <a:pt x="94" y="354"/>
                  <a:pt x="135" y="356"/>
                  <a:pt x="174" y="348"/>
                </a:cubicBezTo>
                <a:cubicBezTo>
                  <a:pt x="204" y="342"/>
                  <a:pt x="229" y="322"/>
                  <a:pt x="258" y="312"/>
                </a:cubicBezTo>
                <a:cubicBezTo>
                  <a:pt x="301" y="269"/>
                  <a:pt x="321" y="230"/>
                  <a:pt x="354" y="180"/>
                </a:cubicBezTo>
                <a:cubicBezTo>
                  <a:pt x="365" y="125"/>
                  <a:pt x="372" y="94"/>
                  <a:pt x="402" y="48"/>
                </a:cubicBezTo>
                <a:cubicBezTo>
                  <a:pt x="476" y="85"/>
                  <a:pt x="525" y="153"/>
                  <a:pt x="606" y="180"/>
                </a:cubicBezTo>
                <a:cubicBezTo>
                  <a:pt x="682" y="176"/>
                  <a:pt x="759" y="182"/>
                  <a:pt x="834" y="168"/>
                </a:cubicBezTo>
                <a:cubicBezTo>
                  <a:pt x="885" y="159"/>
                  <a:pt x="918" y="36"/>
                  <a:pt x="918" y="36"/>
                </a:cubicBezTo>
                <a:cubicBezTo>
                  <a:pt x="930" y="48"/>
                  <a:pt x="945" y="58"/>
                  <a:pt x="954" y="72"/>
                </a:cubicBezTo>
                <a:cubicBezTo>
                  <a:pt x="993" y="131"/>
                  <a:pt x="933" y="87"/>
                  <a:pt x="990" y="144"/>
                </a:cubicBezTo>
                <a:cubicBezTo>
                  <a:pt x="1007" y="161"/>
                  <a:pt x="1055" y="183"/>
                  <a:pt x="1074" y="192"/>
                </a:cubicBezTo>
                <a:cubicBezTo>
                  <a:pt x="1154" y="188"/>
                  <a:pt x="1235" y="194"/>
                  <a:pt x="1314" y="180"/>
                </a:cubicBezTo>
                <a:cubicBezTo>
                  <a:pt x="1328" y="177"/>
                  <a:pt x="1332" y="157"/>
                  <a:pt x="1338" y="144"/>
                </a:cubicBezTo>
                <a:cubicBezTo>
                  <a:pt x="1356" y="103"/>
                  <a:pt x="1374" y="45"/>
                  <a:pt x="1374" y="0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071880" y="1357200"/>
            <a:ext cx="60721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  早上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还没亮，这只小狮子已经在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滚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、撕、咬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得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刻苦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五 - 石进原创作品.mp3" descr=""/>
          <p:cNvPicPr/>
          <p:nvPr/>
        </p:nvPicPr>
        <p:blipFill>
          <a:blip r:embed="rId3"/>
          <a:stretch/>
        </p:blipFill>
        <p:spPr>
          <a:xfrm>
            <a:off x="3643200" y="5429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未知"/>
          <p:cNvSpPr/>
          <p:nvPr/>
        </p:nvSpPr>
        <p:spPr>
          <a:xfrm>
            <a:off x="6227640" y="5661000"/>
            <a:ext cx="838440" cy="628560"/>
          </a:xfrm>
          <a:custGeom>
            <a:avLst/>
            <a:gdLst/>
            <a:ahLst/>
            <a:rect l="l" t="t" r="r" b="b"/>
            <a:pathLst>
              <a:path w="1669" h="1308">
                <a:moveTo>
                  <a:pt x="1374" y="0"/>
                </a:moveTo>
                <a:cubicBezTo>
                  <a:pt x="1378" y="112"/>
                  <a:pt x="1375" y="224"/>
                  <a:pt x="1386" y="336"/>
                </a:cubicBezTo>
                <a:cubicBezTo>
                  <a:pt x="1390" y="373"/>
                  <a:pt x="1522" y="495"/>
                  <a:pt x="1554" y="516"/>
                </a:cubicBezTo>
                <a:cubicBezTo>
                  <a:pt x="1566" y="536"/>
                  <a:pt x="1574" y="560"/>
                  <a:pt x="1590" y="576"/>
                </a:cubicBezTo>
                <a:cubicBezTo>
                  <a:pt x="1610" y="596"/>
                  <a:pt x="1647" y="599"/>
                  <a:pt x="1662" y="624"/>
                </a:cubicBezTo>
                <a:cubicBezTo>
                  <a:pt x="1669" y="635"/>
                  <a:pt x="1639" y="634"/>
                  <a:pt x="1626" y="636"/>
                </a:cubicBezTo>
                <a:cubicBezTo>
                  <a:pt x="1586" y="642"/>
                  <a:pt x="1546" y="644"/>
                  <a:pt x="1506" y="648"/>
                </a:cubicBezTo>
                <a:cubicBezTo>
                  <a:pt x="1442" y="744"/>
                  <a:pt x="1526" y="628"/>
                  <a:pt x="1446" y="708"/>
                </a:cubicBezTo>
                <a:cubicBezTo>
                  <a:pt x="1412" y="742"/>
                  <a:pt x="1401" y="796"/>
                  <a:pt x="1386" y="840"/>
                </a:cubicBezTo>
                <a:cubicBezTo>
                  <a:pt x="1382" y="876"/>
                  <a:pt x="1378" y="912"/>
                  <a:pt x="1374" y="948"/>
                </a:cubicBezTo>
                <a:cubicBezTo>
                  <a:pt x="1370" y="980"/>
                  <a:pt x="1380" y="1017"/>
                  <a:pt x="1362" y="1044"/>
                </a:cubicBezTo>
                <a:cubicBezTo>
                  <a:pt x="1354" y="1056"/>
                  <a:pt x="1338" y="1028"/>
                  <a:pt x="1326" y="1020"/>
                </a:cubicBezTo>
                <a:cubicBezTo>
                  <a:pt x="1194" y="1035"/>
                  <a:pt x="1153" y="1039"/>
                  <a:pt x="1050" y="1116"/>
                </a:cubicBezTo>
                <a:cubicBezTo>
                  <a:pt x="1016" y="1219"/>
                  <a:pt x="1068" y="1055"/>
                  <a:pt x="1026" y="1224"/>
                </a:cubicBezTo>
                <a:cubicBezTo>
                  <a:pt x="1020" y="1249"/>
                  <a:pt x="1002" y="1296"/>
                  <a:pt x="1002" y="1296"/>
                </a:cubicBezTo>
                <a:cubicBezTo>
                  <a:pt x="973" y="1282"/>
                  <a:pt x="947" y="1261"/>
                  <a:pt x="918" y="1248"/>
                </a:cubicBezTo>
                <a:cubicBezTo>
                  <a:pt x="895" y="1238"/>
                  <a:pt x="846" y="1224"/>
                  <a:pt x="846" y="1224"/>
                </a:cubicBezTo>
                <a:cubicBezTo>
                  <a:pt x="666" y="1244"/>
                  <a:pt x="653" y="1213"/>
                  <a:pt x="558" y="1308"/>
                </a:cubicBezTo>
                <a:cubicBezTo>
                  <a:pt x="524" y="1263"/>
                  <a:pt x="502" y="1204"/>
                  <a:pt x="462" y="1164"/>
                </a:cubicBezTo>
                <a:cubicBezTo>
                  <a:pt x="416" y="1118"/>
                  <a:pt x="342" y="1104"/>
                  <a:pt x="282" y="1092"/>
                </a:cubicBezTo>
                <a:cubicBezTo>
                  <a:pt x="202" y="1096"/>
                  <a:pt x="111" y="1144"/>
                  <a:pt x="42" y="1104"/>
                </a:cubicBezTo>
                <a:cubicBezTo>
                  <a:pt x="0" y="1080"/>
                  <a:pt x="45" y="1007"/>
                  <a:pt x="54" y="960"/>
                </a:cubicBezTo>
                <a:cubicBezTo>
                  <a:pt x="62" y="918"/>
                  <a:pt x="100" y="869"/>
                  <a:pt x="114" y="828"/>
                </a:cubicBezTo>
                <a:cubicBezTo>
                  <a:pt x="124" y="797"/>
                  <a:pt x="130" y="764"/>
                  <a:pt x="138" y="732"/>
                </a:cubicBezTo>
                <a:cubicBezTo>
                  <a:pt x="142" y="716"/>
                  <a:pt x="150" y="684"/>
                  <a:pt x="150" y="684"/>
                </a:cubicBezTo>
                <a:cubicBezTo>
                  <a:pt x="146" y="628"/>
                  <a:pt x="152" y="570"/>
                  <a:pt x="138" y="516"/>
                </a:cubicBezTo>
                <a:cubicBezTo>
                  <a:pt x="126" y="469"/>
                  <a:pt x="56" y="398"/>
                  <a:pt x="18" y="372"/>
                </a:cubicBezTo>
                <a:cubicBezTo>
                  <a:pt x="30" y="368"/>
                  <a:pt x="41" y="362"/>
                  <a:pt x="54" y="360"/>
                </a:cubicBezTo>
                <a:cubicBezTo>
                  <a:pt x="94" y="354"/>
                  <a:pt x="135" y="356"/>
                  <a:pt x="174" y="348"/>
                </a:cubicBezTo>
                <a:cubicBezTo>
                  <a:pt x="204" y="342"/>
                  <a:pt x="229" y="322"/>
                  <a:pt x="258" y="312"/>
                </a:cubicBezTo>
                <a:cubicBezTo>
                  <a:pt x="301" y="269"/>
                  <a:pt x="321" y="230"/>
                  <a:pt x="354" y="180"/>
                </a:cubicBezTo>
                <a:cubicBezTo>
                  <a:pt x="365" y="125"/>
                  <a:pt x="372" y="94"/>
                  <a:pt x="402" y="48"/>
                </a:cubicBezTo>
                <a:cubicBezTo>
                  <a:pt x="476" y="85"/>
                  <a:pt x="525" y="153"/>
                  <a:pt x="606" y="180"/>
                </a:cubicBezTo>
                <a:cubicBezTo>
                  <a:pt x="682" y="176"/>
                  <a:pt x="759" y="182"/>
                  <a:pt x="834" y="168"/>
                </a:cubicBezTo>
                <a:cubicBezTo>
                  <a:pt x="885" y="159"/>
                  <a:pt x="918" y="36"/>
                  <a:pt x="918" y="36"/>
                </a:cubicBezTo>
                <a:cubicBezTo>
                  <a:pt x="930" y="48"/>
                  <a:pt x="945" y="58"/>
                  <a:pt x="954" y="72"/>
                </a:cubicBezTo>
                <a:cubicBezTo>
                  <a:pt x="993" y="131"/>
                  <a:pt x="933" y="87"/>
                  <a:pt x="990" y="144"/>
                </a:cubicBezTo>
                <a:cubicBezTo>
                  <a:pt x="1007" y="161"/>
                  <a:pt x="1055" y="183"/>
                  <a:pt x="1074" y="192"/>
                </a:cubicBezTo>
                <a:cubicBezTo>
                  <a:pt x="1154" y="188"/>
                  <a:pt x="1235" y="194"/>
                  <a:pt x="1314" y="180"/>
                </a:cubicBezTo>
                <a:cubicBezTo>
                  <a:pt x="1328" y="177"/>
                  <a:pt x="1332" y="157"/>
                  <a:pt x="1338" y="144"/>
                </a:cubicBezTo>
                <a:cubicBezTo>
                  <a:pt x="1356" y="103"/>
                  <a:pt x="1374" y="45"/>
                  <a:pt x="1374" y="0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5580000" y="6093000"/>
            <a:ext cx="838440" cy="628560"/>
          </a:xfrm>
          <a:custGeom>
            <a:avLst/>
            <a:gdLst/>
            <a:ahLst/>
            <a:rect l="l" t="t" r="r" b="b"/>
            <a:pathLst>
              <a:path w="1669" h="1308">
                <a:moveTo>
                  <a:pt x="1374" y="0"/>
                </a:moveTo>
                <a:cubicBezTo>
                  <a:pt x="1378" y="112"/>
                  <a:pt x="1375" y="224"/>
                  <a:pt x="1386" y="336"/>
                </a:cubicBezTo>
                <a:cubicBezTo>
                  <a:pt x="1390" y="373"/>
                  <a:pt x="1522" y="495"/>
                  <a:pt x="1554" y="516"/>
                </a:cubicBezTo>
                <a:cubicBezTo>
                  <a:pt x="1566" y="536"/>
                  <a:pt x="1574" y="560"/>
                  <a:pt x="1590" y="576"/>
                </a:cubicBezTo>
                <a:cubicBezTo>
                  <a:pt x="1610" y="596"/>
                  <a:pt x="1647" y="599"/>
                  <a:pt x="1662" y="624"/>
                </a:cubicBezTo>
                <a:cubicBezTo>
                  <a:pt x="1669" y="635"/>
                  <a:pt x="1639" y="634"/>
                  <a:pt x="1626" y="636"/>
                </a:cubicBezTo>
                <a:cubicBezTo>
                  <a:pt x="1586" y="642"/>
                  <a:pt x="1546" y="644"/>
                  <a:pt x="1506" y="648"/>
                </a:cubicBezTo>
                <a:cubicBezTo>
                  <a:pt x="1442" y="744"/>
                  <a:pt x="1526" y="628"/>
                  <a:pt x="1446" y="708"/>
                </a:cubicBezTo>
                <a:cubicBezTo>
                  <a:pt x="1412" y="742"/>
                  <a:pt x="1401" y="796"/>
                  <a:pt x="1386" y="840"/>
                </a:cubicBezTo>
                <a:cubicBezTo>
                  <a:pt x="1382" y="876"/>
                  <a:pt x="1378" y="912"/>
                  <a:pt x="1374" y="948"/>
                </a:cubicBezTo>
                <a:cubicBezTo>
                  <a:pt x="1370" y="980"/>
                  <a:pt x="1380" y="1017"/>
                  <a:pt x="1362" y="1044"/>
                </a:cubicBezTo>
                <a:cubicBezTo>
                  <a:pt x="1354" y="1056"/>
                  <a:pt x="1338" y="1028"/>
                  <a:pt x="1326" y="1020"/>
                </a:cubicBezTo>
                <a:cubicBezTo>
                  <a:pt x="1194" y="1035"/>
                  <a:pt x="1153" y="1039"/>
                  <a:pt x="1050" y="1116"/>
                </a:cubicBezTo>
                <a:cubicBezTo>
                  <a:pt x="1016" y="1219"/>
                  <a:pt x="1068" y="1055"/>
                  <a:pt x="1026" y="1224"/>
                </a:cubicBezTo>
                <a:cubicBezTo>
                  <a:pt x="1020" y="1249"/>
                  <a:pt x="1002" y="1296"/>
                  <a:pt x="1002" y="1296"/>
                </a:cubicBezTo>
                <a:cubicBezTo>
                  <a:pt x="973" y="1282"/>
                  <a:pt x="947" y="1261"/>
                  <a:pt x="918" y="1248"/>
                </a:cubicBezTo>
                <a:cubicBezTo>
                  <a:pt x="895" y="1238"/>
                  <a:pt x="846" y="1224"/>
                  <a:pt x="846" y="1224"/>
                </a:cubicBezTo>
                <a:cubicBezTo>
                  <a:pt x="666" y="1244"/>
                  <a:pt x="653" y="1213"/>
                  <a:pt x="558" y="1308"/>
                </a:cubicBezTo>
                <a:cubicBezTo>
                  <a:pt x="524" y="1263"/>
                  <a:pt x="502" y="1204"/>
                  <a:pt x="462" y="1164"/>
                </a:cubicBezTo>
                <a:cubicBezTo>
                  <a:pt x="416" y="1118"/>
                  <a:pt x="342" y="1104"/>
                  <a:pt x="282" y="1092"/>
                </a:cubicBezTo>
                <a:cubicBezTo>
                  <a:pt x="202" y="1096"/>
                  <a:pt x="111" y="1144"/>
                  <a:pt x="42" y="1104"/>
                </a:cubicBezTo>
                <a:cubicBezTo>
                  <a:pt x="0" y="1080"/>
                  <a:pt x="45" y="1007"/>
                  <a:pt x="54" y="960"/>
                </a:cubicBezTo>
                <a:cubicBezTo>
                  <a:pt x="62" y="918"/>
                  <a:pt x="100" y="869"/>
                  <a:pt x="114" y="828"/>
                </a:cubicBezTo>
                <a:cubicBezTo>
                  <a:pt x="124" y="797"/>
                  <a:pt x="130" y="764"/>
                  <a:pt x="138" y="732"/>
                </a:cubicBezTo>
                <a:cubicBezTo>
                  <a:pt x="142" y="716"/>
                  <a:pt x="150" y="684"/>
                  <a:pt x="150" y="684"/>
                </a:cubicBezTo>
                <a:cubicBezTo>
                  <a:pt x="146" y="628"/>
                  <a:pt x="152" y="570"/>
                  <a:pt x="138" y="516"/>
                </a:cubicBezTo>
                <a:cubicBezTo>
                  <a:pt x="126" y="469"/>
                  <a:pt x="56" y="398"/>
                  <a:pt x="18" y="372"/>
                </a:cubicBezTo>
                <a:cubicBezTo>
                  <a:pt x="30" y="368"/>
                  <a:pt x="41" y="362"/>
                  <a:pt x="54" y="360"/>
                </a:cubicBezTo>
                <a:cubicBezTo>
                  <a:pt x="94" y="354"/>
                  <a:pt x="135" y="356"/>
                  <a:pt x="174" y="348"/>
                </a:cubicBezTo>
                <a:cubicBezTo>
                  <a:pt x="204" y="342"/>
                  <a:pt x="229" y="322"/>
                  <a:pt x="258" y="312"/>
                </a:cubicBezTo>
                <a:cubicBezTo>
                  <a:pt x="301" y="269"/>
                  <a:pt x="321" y="230"/>
                  <a:pt x="354" y="180"/>
                </a:cubicBezTo>
                <a:cubicBezTo>
                  <a:pt x="365" y="125"/>
                  <a:pt x="372" y="94"/>
                  <a:pt x="402" y="48"/>
                </a:cubicBezTo>
                <a:cubicBezTo>
                  <a:pt x="476" y="85"/>
                  <a:pt x="525" y="153"/>
                  <a:pt x="606" y="180"/>
                </a:cubicBezTo>
                <a:cubicBezTo>
                  <a:pt x="682" y="176"/>
                  <a:pt x="759" y="182"/>
                  <a:pt x="834" y="168"/>
                </a:cubicBezTo>
                <a:cubicBezTo>
                  <a:pt x="885" y="159"/>
                  <a:pt x="918" y="36"/>
                  <a:pt x="918" y="36"/>
                </a:cubicBezTo>
                <a:cubicBezTo>
                  <a:pt x="930" y="48"/>
                  <a:pt x="945" y="58"/>
                  <a:pt x="954" y="72"/>
                </a:cubicBezTo>
                <a:cubicBezTo>
                  <a:pt x="993" y="131"/>
                  <a:pt x="933" y="87"/>
                  <a:pt x="990" y="144"/>
                </a:cubicBezTo>
                <a:cubicBezTo>
                  <a:pt x="1007" y="161"/>
                  <a:pt x="1055" y="183"/>
                  <a:pt x="1074" y="192"/>
                </a:cubicBezTo>
                <a:cubicBezTo>
                  <a:pt x="1154" y="188"/>
                  <a:pt x="1235" y="194"/>
                  <a:pt x="1314" y="180"/>
                </a:cubicBezTo>
                <a:cubicBezTo>
                  <a:pt x="1328" y="177"/>
                  <a:pt x="1332" y="157"/>
                  <a:pt x="1338" y="144"/>
                </a:cubicBezTo>
                <a:cubicBezTo>
                  <a:pt x="1356" y="103"/>
                  <a:pt x="1374" y="45"/>
                  <a:pt x="1374" y="0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6629400" y="6324480"/>
            <a:ext cx="838080" cy="628920"/>
          </a:xfrm>
          <a:custGeom>
            <a:avLst/>
            <a:gdLst/>
            <a:ahLst/>
            <a:rect l="l" t="t" r="r" b="b"/>
            <a:pathLst>
              <a:path w="1669" h="1308">
                <a:moveTo>
                  <a:pt x="1374" y="0"/>
                </a:moveTo>
                <a:cubicBezTo>
                  <a:pt x="1378" y="112"/>
                  <a:pt x="1375" y="224"/>
                  <a:pt x="1386" y="336"/>
                </a:cubicBezTo>
                <a:cubicBezTo>
                  <a:pt x="1390" y="373"/>
                  <a:pt x="1522" y="495"/>
                  <a:pt x="1554" y="516"/>
                </a:cubicBezTo>
                <a:cubicBezTo>
                  <a:pt x="1566" y="536"/>
                  <a:pt x="1574" y="560"/>
                  <a:pt x="1590" y="576"/>
                </a:cubicBezTo>
                <a:cubicBezTo>
                  <a:pt x="1610" y="596"/>
                  <a:pt x="1647" y="599"/>
                  <a:pt x="1662" y="624"/>
                </a:cubicBezTo>
                <a:cubicBezTo>
                  <a:pt x="1669" y="635"/>
                  <a:pt x="1639" y="634"/>
                  <a:pt x="1626" y="636"/>
                </a:cubicBezTo>
                <a:cubicBezTo>
                  <a:pt x="1586" y="642"/>
                  <a:pt x="1546" y="644"/>
                  <a:pt x="1506" y="648"/>
                </a:cubicBezTo>
                <a:cubicBezTo>
                  <a:pt x="1442" y="744"/>
                  <a:pt x="1526" y="628"/>
                  <a:pt x="1446" y="708"/>
                </a:cubicBezTo>
                <a:cubicBezTo>
                  <a:pt x="1412" y="742"/>
                  <a:pt x="1401" y="796"/>
                  <a:pt x="1386" y="840"/>
                </a:cubicBezTo>
                <a:cubicBezTo>
                  <a:pt x="1382" y="876"/>
                  <a:pt x="1378" y="912"/>
                  <a:pt x="1374" y="948"/>
                </a:cubicBezTo>
                <a:cubicBezTo>
                  <a:pt x="1370" y="980"/>
                  <a:pt x="1380" y="1017"/>
                  <a:pt x="1362" y="1044"/>
                </a:cubicBezTo>
                <a:cubicBezTo>
                  <a:pt x="1354" y="1056"/>
                  <a:pt x="1338" y="1028"/>
                  <a:pt x="1326" y="1020"/>
                </a:cubicBezTo>
                <a:cubicBezTo>
                  <a:pt x="1194" y="1035"/>
                  <a:pt x="1153" y="1039"/>
                  <a:pt x="1050" y="1116"/>
                </a:cubicBezTo>
                <a:cubicBezTo>
                  <a:pt x="1016" y="1219"/>
                  <a:pt x="1068" y="1055"/>
                  <a:pt x="1026" y="1224"/>
                </a:cubicBezTo>
                <a:cubicBezTo>
                  <a:pt x="1020" y="1249"/>
                  <a:pt x="1002" y="1296"/>
                  <a:pt x="1002" y="1296"/>
                </a:cubicBezTo>
                <a:cubicBezTo>
                  <a:pt x="973" y="1282"/>
                  <a:pt x="947" y="1261"/>
                  <a:pt x="918" y="1248"/>
                </a:cubicBezTo>
                <a:cubicBezTo>
                  <a:pt x="895" y="1238"/>
                  <a:pt x="846" y="1224"/>
                  <a:pt x="846" y="1224"/>
                </a:cubicBezTo>
                <a:cubicBezTo>
                  <a:pt x="666" y="1244"/>
                  <a:pt x="653" y="1213"/>
                  <a:pt x="558" y="1308"/>
                </a:cubicBezTo>
                <a:cubicBezTo>
                  <a:pt x="524" y="1263"/>
                  <a:pt x="502" y="1204"/>
                  <a:pt x="462" y="1164"/>
                </a:cubicBezTo>
                <a:cubicBezTo>
                  <a:pt x="416" y="1118"/>
                  <a:pt x="342" y="1104"/>
                  <a:pt x="282" y="1092"/>
                </a:cubicBezTo>
                <a:cubicBezTo>
                  <a:pt x="202" y="1096"/>
                  <a:pt x="111" y="1144"/>
                  <a:pt x="42" y="1104"/>
                </a:cubicBezTo>
                <a:cubicBezTo>
                  <a:pt x="0" y="1080"/>
                  <a:pt x="45" y="1007"/>
                  <a:pt x="54" y="960"/>
                </a:cubicBezTo>
                <a:cubicBezTo>
                  <a:pt x="62" y="918"/>
                  <a:pt x="100" y="869"/>
                  <a:pt x="114" y="828"/>
                </a:cubicBezTo>
                <a:cubicBezTo>
                  <a:pt x="124" y="797"/>
                  <a:pt x="130" y="764"/>
                  <a:pt x="138" y="732"/>
                </a:cubicBezTo>
                <a:cubicBezTo>
                  <a:pt x="142" y="716"/>
                  <a:pt x="150" y="684"/>
                  <a:pt x="150" y="684"/>
                </a:cubicBezTo>
                <a:cubicBezTo>
                  <a:pt x="146" y="628"/>
                  <a:pt x="152" y="570"/>
                  <a:pt x="138" y="516"/>
                </a:cubicBezTo>
                <a:cubicBezTo>
                  <a:pt x="126" y="469"/>
                  <a:pt x="56" y="398"/>
                  <a:pt x="18" y="372"/>
                </a:cubicBezTo>
                <a:cubicBezTo>
                  <a:pt x="30" y="368"/>
                  <a:pt x="41" y="362"/>
                  <a:pt x="54" y="360"/>
                </a:cubicBezTo>
                <a:cubicBezTo>
                  <a:pt x="94" y="354"/>
                  <a:pt x="135" y="356"/>
                  <a:pt x="174" y="348"/>
                </a:cubicBezTo>
                <a:cubicBezTo>
                  <a:pt x="204" y="342"/>
                  <a:pt x="229" y="322"/>
                  <a:pt x="258" y="312"/>
                </a:cubicBezTo>
                <a:cubicBezTo>
                  <a:pt x="301" y="269"/>
                  <a:pt x="321" y="230"/>
                  <a:pt x="354" y="180"/>
                </a:cubicBezTo>
                <a:cubicBezTo>
                  <a:pt x="365" y="125"/>
                  <a:pt x="372" y="94"/>
                  <a:pt x="402" y="48"/>
                </a:cubicBezTo>
                <a:cubicBezTo>
                  <a:pt x="476" y="85"/>
                  <a:pt x="525" y="153"/>
                  <a:pt x="606" y="180"/>
                </a:cubicBezTo>
                <a:cubicBezTo>
                  <a:pt x="682" y="176"/>
                  <a:pt x="759" y="182"/>
                  <a:pt x="834" y="168"/>
                </a:cubicBezTo>
                <a:cubicBezTo>
                  <a:pt x="885" y="159"/>
                  <a:pt x="918" y="36"/>
                  <a:pt x="918" y="36"/>
                </a:cubicBezTo>
                <a:cubicBezTo>
                  <a:pt x="930" y="48"/>
                  <a:pt x="945" y="58"/>
                  <a:pt x="954" y="72"/>
                </a:cubicBezTo>
                <a:cubicBezTo>
                  <a:pt x="993" y="131"/>
                  <a:pt x="933" y="87"/>
                  <a:pt x="990" y="144"/>
                </a:cubicBezTo>
                <a:cubicBezTo>
                  <a:pt x="1007" y="161"/>
                  <a:pt x="1055" y="183"/>
                  <a:pt x="1074" y="192"/>
                </a:cubicBezTo>
                <a:cubicBezTo>
                  <a:pt x="1154" y="188"/>
                  <a:pt x="1235" y="194"/>
                  <a:pt x="1314" y="180"/>
                </a:cubicBezTo>
                <a:cubicBezTo>
                  <a:pt x="1328" y="177"/>
                  <a:pt x="1332" y="157"/>
                  <a:pt x="1338" y="144"/>
                </a:cubicBezTo>
                <a:cubicBezTo>
                  <a:pt x="1356" y="103"/>
                  <a:pt x="1374" y="45"/>
                  <a:pt x="1374" y="0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428760" y="142920"/>
            <a:ext cx="2261880" cy="1923840"/>
            <a:chOff x="428760" y="142920"/>
            <a:chExt cx="2261880" cy="1923840"/>
          </a:xfrm>
        </p:grpSpPr>
        <p:sp>
          <p:nvSpPr>
            <p:cNvPr id="119" name="未知"/>
            <p:cNvSpPr/>
            <p:nvPr/>
          </p:nvSpPr>
          <p:spPr>
            <a:xfrm>
              <a:off x="428760" y="142920"/>
              <a:ext cx="2261880" cy="1923840"/>
            </a:xfrm>
            <a:custGeom>
              <a:avLst/>
              <a:gdLst/>
              <a:ahLst/>
              <a:rect l="l" t="t" r="r" b="b"/>
              <a:pathLst>
                <a:path w="1669" h="1308">
                  <a:moveTo>
                    <a:pt x="1374" y="0"/>
                  </a:moveTo>
                  <a:cubicBezTo>
                    <a:pt x="1378" y="112"/>
                    <a:pt x="1375" y="224"/>
                    <a:pt x="1386" y="336"/>
                  </a:cubicBezTo>
                  <a:cubicBezTo>
                    <a:pt x="1390" y="373"/>
                    <a:pt x="1522" y="495"/>
                    <a:pt x="1554" y="516"/>
                  </a:cubicBezTo>
                  <a:cubicBezTo>
                    <a:pt x="1566" y="536"/>
                    <a:pt x="1574" y="560"/>
                    <a:pt x="1590" y="576"/>
                  </a:cubicBezTo>
                  <a:cubicBezTo>
                    <a:pt x="1610" y="596"/>
                    <a:pt x="1647" y="599"/>
                    <a:pt x="1662" y="624"/>
                  </a:cubicBezTo>
                  <a:cubicBezTo>
                    <a:pt x="1669" y="635"/>
                    <a:pt x="1639" y="634"/>
                    <a:pt x="1626" y="636"/>
                  </a:cubicBezTo>
                  <a:cubicBezTo>
                    <a:pt x="1586" y="642"/>
                    <a:pt x="1546" y="644"/>
                    <a:pt x="1506" y="648"/>
                  </a:cubicBezTo>
                  <a:cubicBezTo>
                    <a:pt x="1442" y="744"/>
                    <a:pt x="1526" y="628"/>
                    <a:pt x="1446" y="708"/>
                  </a:cubicBezTo>
                  <a:cubicBezTo>
                    <a:pt x="1412" y="742"/>
                    <a:pt x="1401" y="796"/>
                    <a:pt x="1386" y="840"/>
                  </a:cubicBezTo>
                  <a:cubicBezTo>
                    <a:pt x="1382" y="876"/>
                    <a:pt x="1378" y="912"/>
                    <a:pt x="1374" y="948"/>
                  </a:cubicBezTo>
                  <a:cubicBezTo>
                    <a:pt x="1370" y="980"/>
                    <a:pt x="1380" y="1017"/>
                    <a:pt x="1362" y="1044"/>
                  </a:cubicBezTo>
                  <a:cubicBezTo>
                    <a:pt x="1354" y="1056"/>
                    <a:pt x="1338" y="1028"/>
                    <a:pt x="1326" y="1020"/>
                  </a:cubicBezTo>
                  <a:cubicBezTo>
                    <a:pt x="1194" y="1035"/>
                    <a:pt x="1153" y="1039"/>
                    <a:pt x="1050" y="1116"/>
                  </a:cubicBezTo>
                  <a:cubicBezTo>
                    <a:pt x="1016" y="1219"/>
                    <a:pt x="1068" y="1055"/>
                    <a:pt x="1026" y="1224"/>
                  </a:cubicBezTo>
                  <a:cubicBezTo>
                    <a:pt x="1020" y="1249"/>
                    <a:pt x="1002" y="1296"/>
                    <a:pt x="1002" y="1296"/>
                  </a:cubicBezTo>
                  <a:cubicBezTo>
                    <a:pt x="973" y="1282"/>
                    <a:pt x="947" y="1261"/>
                    <a:pt x="918" y="1248"/>
                  </a:cubicBezTo>
                  <a:cubicBezTo>
                    <a:pt x="895" y="1238"/>
                    <a:pt x="846" y="1224"/>
                    <a:pt x="846" y="1224"/>
                  </a:cubicBezTo>
                  <a:cubicBezTo>
                    <a:pt x="666" y="1244"/>
                    <a:pt x="653" y="1213"/>
                    <a:pt x="558" y="1308"/>
                  </a:cubicBezTo>
                  <a:cubicBezTo>
                    <a:pt x="524" y="1263"/>
                    <a:pt x="502" y="1204"/>
                    <a:pt x="462" y="1164"/>
                  </a:cubicBezTo>
                  <a:cubicBezTo>
                    <a:pt x="416" y="1118"/>
                    <a:pt x="342" y="1104"/>
                    <a:pt x="282" y="1092"/>
                  </a:cubicBezTo>
                  <a:cubicBezTo>
                    <a:pt x="202" y="1096"/>
                    <a:pt x="111" y="1144"/>
                    <a:pt x="42" y="1104"/>
                  </a:cubicBezTo>
                  <a:cubicBezTo>
                    <a:pt x="0" y="1080"/>
                    <a:pt x="45" y="1007"/>
                    <a:pt x="54" y="960"/>
                  </a:cubicBezTo>
                  <a:cubicBezTo>
                    <a:pt x="62" y="918"/>
                    <a:pt x="100" y="869"/>
                    <a:pt x="114" y="828"/>
                  </a:cubicBezTo>
                  <a:cubicBezTo>
                    <a:pt x="124" y="797"/>
                    <a:pt x="130" y="764"/>
                    <a:pt x="138" y="732"/>
                  </a:cubicBezTo>
                  <a:cubicBezTo>
                    <a:pt x="142" y="716"/>
                    <a:pt x="150" y="684"/>
                    <a:pt x="150" y="684"/>
                  </a:cubicBezTo>
                  <a:cubicBezTo>
                    <a:pt x="146" y="628"/>
                    <a:pt x="152" y="570"/>
                    <a:pt x="138" y="516"/>
                  </a:cubicBezTo>
                  <a:cubicBezTo>
                    <a:pt x="126" y="469"/>
                    <a:pt x="56" y="398"/>
                    <a:pt x="18" y="372"/>
                  </a:cubicBezTo>
                  <a:cubicBezTo>
                    <a:pt x="30" y="368"/>
                    <a:pt x="41" y="362"/>
                    <a:pt x="54" y="360"/>
                  </a:cubicBezTo>
                  <a:cubicBezTo>
                    <a:pt x="94" y="354"/>
                    <a:pt x="135" y="356"/>
                    <a:pt x="174" y="348"/>
                  </a:cubicBezTo>
                  <a:cubicBezTo>
                    <a:pt x="204" y="342"/>
                    <a:pt x="229" y="322"/>
                    <a:pt x="258" y="312"/>
                  </a:cubicBezTo>
                  <a:cubicBezTo>
                    <a:pt x="301" y="269"/>
                    <a:pt x="321" y="230"/>
                    <a:pt x="354" y="180"/>
                  </a:cubicBezTo>
                  <a:cubicBezTo>
                    <a:pt x="365" y="125"/>
                    <a:pt x="372" y="94"/>
                    <a:pt x="402" y="48"/>
                  </a:cubicBezTo>
                  <a:cubicBezTo>
                    <a:pt x="476" y="85"/>
                    <a:pt x="525" y="153"/>
                    <a:pt x="606" y="180"/>
                  </a:cubicBezTo>
                  <a:cubicBezTo>
                    <a:pt x="682" y="176"/>
                    <a:pt x="759" y="182"/>
                    <a:pt x="834" y="168"/>
                  </a:cubicBezTo>
                  <a:cubicBezTo>
                    <a:pt x="885" y="159"/>
                    <a:pt x="918" y="36"/>
                    <a:pt x="918" y="36"/>
                  </a:cubicBezTo>
                  <a:cubicBezTo>
                    <a:pt x="930" y="48"/>
                    <a:pt x="945" y="58"/>
                    <a:pt x="954" y="72"/>
                  </a:cubicBezTo>
                  <a:cubicBezTo>
                    <a:pt x="993" y="131"/>
                    <a:pt x="933" y="87"/>
                    <a:pt x="990" y="144"/>
                  </a:cubicBezTo>
                  <a:cubicBezTo>
                    <a:pt x="1007" y="161"/>
                    <a:pt x="1055" y="183"/>
                    <a:pt x="1074" y="192"/>
                  </a:cubicBezTo>
                  <a:cubicBezTo>
                    <a:pt x="1154" y="188"/>
                    <a:pt x="1235" y="194"/>
                    <a:pt x="1314" y="180"/>
                  </a:cubicBezTo>
                  <a:cubicBezTo>
                    <a:pt x="1328" y="177"/>
                    <a:pt x="1332" y="157"/>
                    <a:pt x="1338" y="144"/>
                  </a:cubicBezTo>
                  <a:cubicBezTo>
                    <a:pt x="1356" y="103"/>
                    <a:pt x="1374" y="45"/>
                    <a:pt x="1374" y="0"/>
                  </a:cubicBez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"/>
            <p:cNvSpPr/>
            <p:nvPr/>
          </p:nvSpPr>
          <p:spPr>
            <a:xfrm>
              <a:off x="696960" y="442800"/>
              <a:ext cx="1431000" cy="1411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9"/>
          <p:cNvSpPr/>
          <p:nvPr/>
        </p:nvSpPr>
        <p:spPr>
          <a:xfrm>
            <a:off x="1785960" y="1285920"/>
            <a:ext cx="676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午，太阳火辣辣的，这只小狮子又在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滚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、撕、咬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，练得</a:t>
            </a:r>
            <a:r>
              <a:rPr b="0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刻苦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小狮子2"/>
          <p:cNvPicPr/>
          <p:nvPr/>
        </p:nvPicPr>
        <p:blipFill>
          <a:blip r:embed="rId1"/>
          <a:stretch/>
        </p:blipFill>
        <p:spPr>
          <a:xfrm>
            <a:off x="4214880" y="3429000"/>
            <a:ext cx="748656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4" descr="u=52872745,388824756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小狮子2"/>
          <p:cNvPicPr/>
          <p:nvPr/>
        </p:nvPicPr>
        <p:blipFill>
          <a:blip r:embed="rId2"/>
          <a:stretch/>
        </p:blipFill>
        <p:spPr>
          <a:xfrm>
            <a:off x="4071960" y="3571920"/>
            <a:ext cx="7486560" cy="5003640"/>
          </a:xfrm>
          <a:prstGeom prst="rect">
            <a:avLst/>
          </a:prstGeom>
          <a:ln w="0">
            <a:noFill/>
          </a:ln>
        </p:spPr>
      </p:pic>
      <p:sp>
        <p:nvSpPr>
          <p:cNvPr id="125" name="未知"/>
          <p:cNvSpPr/>
          <p:nvPr/>
        </p:nvSpPr>
        <p:spPr>
          <a:xfrm>
            <a:off x="5357880" y="6000840"/>
            <a:ext cx="838080" cy="485640"/>
          </a:xfrm>
          <a:custGeom>
            <a:avLst/>
            <a:gdLst/>
            <a:ahLst/>
            <a:rect l="l" t="t" r="r" b="b"/>
            <a:pathLst>
              <a:path w="1669" h="1308">
                <a:moveTo>
                  <a:pt x="1374" y="0"/>
                </a:moveTo>
                <a:cubicBezTo>
                  <a:pt x="1378" y="112"/>
                  <a:pt x="1375" y="224"/>
                  <a:pt x="1386" y="336"/>
                </a:cubicBezTo>
                <a:cubicBezTo>
                  <a:pt x="1390" y="373"/>
                  <a:pt x="1522" y="495"/>
                  <a:pt x="1554" y="516"/>
                </a:cubicBezTo>
                <a:cubicBezTo>
                  <a:pt x="1566" y="536"/>
                  <a:pt x="1574" y="560"/>
                  <a:pt x="1590" y="576"/>
                </a:cubicBezTo>
                <a:cubicBezTo>
                  <a:pt x="1610" y="596"/>
                  <a:pt x="1647" y="599"/>
                  <a:pt x="1662" y="624"/>
                </a:cubicBezTo>
                <a:cubicBezTo>
                  <a:pt x="1669" y="635"/>
                  <a:pt x="1639" y="634"/>
                  <a:pt x="1626" y="636"/>
                </a:cubicBezTo>
                <a:cubicBezTo>
                  <a:pt x="1586" y="642"/>
                  <a:pt x="1546" y="644"/>
                  <a:pt x="1506" y="648"/>
                </a:cubicBezTo>
                <a:cubicBezTo>
                  <a:pt x="1442" y="744"/>
                  <a:pt x="1526" y="628"/>
                  <a:pt x="1446" y="708"/>
                </a:cubicBezTo>
                <a:cubicBezTo>
                  <a:pt x="1412" y="742"/>
                  <a:pt x="1401" y="796"/>
                  <a:pt x="1386" y="840"/>
                </a:cubicBezTo>
                <a:cubicBezTo>
                  <a:pt x="1382" y="876"/>
                  <a:pt x="1378" y="912"/>
                  <a:pt x="1374" y="948"/>
                </a:cubicBezTo>
                <a:cubicBezTo>
                  <a:pt x="1370" y="980"/>
                  <a:pt x="1380" y="1017"/>
                  <a:pt x="1362" y="1044"/>
                </a:cubicBezTo>
                <a:cubicBezTo>
                  <a:pt x="1354" y="1056"/>
                  <a:pt x="1338" y="1028"/>
                  <a:pt x="1326" y="1020"/>
                </a:cubicBezTo>
                <a:cubicBezTo>
                  <a:pt x="1194" y="1035"/>
                  <a:pt x="1153" y="1039"/>
                  <a:pt x="1050" y="1116"/>
                </a:cubicBezTo>
                <a:cubicBezTo>
                  <a:pt x="1016" y="1219"/>
                  <a:pt x="1068" y="1055"/>
                  <a:pt x="1026" y="1224"/>
                </a:cubicBezTo>
                <a:cubicBezTo>
                  <a:pt x="1020" y="1249"/>
                  <a:pt x="1002" y="1296"/>
                  <a:pt x="1002" y="1296"/>
                </a:cubicBezTo>
                <a:cubicBezTo>
                  <a:pt x="973" y="1282"/>
                  <a:pt x="947" y="1261"/>
                  <a:pt x="918" y="1248"/>
                </a:cubicBezTo>
                <a:cubicBezTo>
                  <a:pt x="895" y="1238"/>
                  <a:pt x="846" y="1224"/>
                  <a:pt x="846" y="1224"/>
                </a:cubicBezTo>
                <a:cubicBezTo>
                  <a:pt x="666" y="1244"/>
                  <a:pt x="653" y="1213"/>
                  <a:pt x="558" y="1308"/>
                </a:cubicBezTo>
                <a:cubicBezTo>
                  <a:pt x="524" y="1263"/>
                  <a:pt x="502" y="1204"/>
                  <a:pt x="462" y="1164"/>
                </a:cubicBezTo>
                <a:cubicBezTo>
                  <a:pt x="416" y="1118"/>
                  <a:pt x="342" y="1104"/>
                  <a:pt x="282" y="1092"/>
                </a:cubicBezTo>
                <a:cubicBezTo>
                  <a:pt x="202" y="1096"/>
                  <a:pt x="111" y="1144"/>
                  <a:pt x="42" y="1104"/>
                </a:cubicBezTo>
                <a:cubicBezTo>
                  <a:pt x="0" y="1080"/>
                  <a:pt x="45" y="1007"/>
                  <a:pt x="54" y="960"/>
                </a:cubicBezTo>
                <a:cubicBezTo>
                  <a:pt x="62" y="918"/>
                  <a:pt x="100" y="869"/>
                  <a:pt x="114" y="828"/>
                </a:cubicBezTo>
                <a:cubicBezTo>
                  <a:pt x="124" y="797"/>
                  <a:pt x="130" y="764"/>
                  <a:pt x="138" y="732"/>
                </a:cubicBezTo>
                <a:cubicBezTo>
                  <a:pt x="142" y="716"/>
                  <a:pt x="150" y="684"/>
                  <a:pt x="150" y="684"/>
                </a:cubicBezTo>
                <a:cubicBezTo>
                  <a:pt x="146" y="628"/>
                  <a:pt x="152" y="570"/>
                  <a:pt x="138" y="516"/>
                </a:cubicBezTo>
                <a:cubicBezTo>
                  <a:pt x="126" y="469"/>
                  <a:pt x="56" y="398"/>
                  <a:pt x="18" y="372"/>
                </a:cubicBezTo>
                <a:cubicBezTo>
                  <a:pt x="30" y="368"/>
                  <a:pt x="41" y="362"/>
                  <a:pt x="54" y="360"/>
                </a:cubicBezTo>
                <a:cubicBezTo>
                  <a:pt x="94" y="354"/>
                  <a:pt x="135" y="356"/>
                  <a:pt x="174" y="348"/>
                </a:cubicBezTo>
                <a:cubicBezTo>
                  <a:pt x="204" y="342"/>
                  <a:pt x="229" y="322"/>
                  <a:pt x="258" y="312"/>
                </a:cubicBezTo>
                <a:cubicBezTo>
                  <a:pt x="301" y="269"/>
                  <a:pt x="321" y="230"/>
                  <a:pt x="354" y="180"/>
                </a:cubicBezTo>
                <a:cubicBezTo>
                  <a:pt x="365" y="125"/>
                  <a:pt x="372" y="94"/>
                  <a:pt x="402" y="48"/>
                </a:cubicBezTo>
                <a:cubicBezTo>
                  <a:pt x="476" y="85"/>
                  <a:pt x="525" y="153"/>
                  <a:pt x="606" y="180"/>
                </a:cubicBezTo>
                <a:cubicBezTo>
                  <a:pt x="682" y="176"/>
                  <a:pt x="759" y="182"/>
                  <a:pt x="834" y="168"/>
                </a:cubicBezTo>
                <a:cubicBezTo>
                  <a:pt x="885" y="159"/>
                  <a:pt x="918" y="36"/>
                  <a:pt x="918" y="36"/>
                </a:cubicBezTo>
                <a:cubicBezTo>
                  <a:pt x="930" y="48"/>
                  <a:pt x="945" y="58"/>
                  <a:pt x="954" y="72"/>
                </a:cubicBezTo>
                <a:cubicBezTo>
                  <a:pt x="993" y="131"/>
                  <a:pt x="933" y="87"/>
                  <a:pt x="990" y="144"/>
                </a:cubicBezTo>
                <a:cubicBezTo>
                  <a:pt x="1007" y="161"/>
                  <a:pt x="1055" y="183"/>
                  <a:pt x="1074" y="192"/>
                </a:cubicBezTo>
                <a:cubicBezTo>
                  <a:pt x="1154" y="188"/>
                  <a:pt x="1235" y="194"/>
                  <a:pt x="1314" y="180"/>
                </a:cubicBezTo>
                <a:cubicBezTo>
                  <a:pt x="1328" y="177"/>
                  <a:pt x="1332" y="157"/>
                  <a:pt x="1338" y="144"/>
                </a:cubicBezTo>
                <a:cubicBezTo>
                  <a:pt x="1356" y="103"/>
                  <a:pt x="1374" y="45"/>
                  <a:pt x="1374" y="0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6858000" y="5429160"/>
            <a:ext cx="714240" cy="486000"/>
          </a:xfrm>
          <a:custGeom>
            <a:avLst/>
            <a:gdLst/>
            <a:ahLst/>
            <a:rect l="l" t="t" r="r" b="b"/>
            <a:pathLst>
              <a:path w="1669" h="1308">
                <a:moveTo>
                  <a:pt x="1374" y="0"/>
                </a:moveTo>
                <a:cubicBezTo>
                  <a:pt x="1378" y="112"/>
                  <a:pt x="1375" y="224"/>
                  <a:pt x="1386" y="336"/>
                </a:cubicBezTo>
                <a:cubicBezTo>
                  <a:pt x="1390" y="373"/>
                  <a:pt x="1522" y="495"/>
                  <a:pt x="1554" y="516"/>
                </a:cubicBezTo>
                <a:cubicBezTo>
                  <a:pt x="1566" y="536"/>
                  <a:pt x="1574" y="560"/>
                  <a:pt x="1590" y="576"/>
                </a:cubicBezTo>
                <a:cubicBezTo>
                  <a:pt x="1610" y="596"/>
                  <a:pt x="1647" y="599"/>
                  <a:pt x="1662" y="624"/>
                </a:cubicBezTo>
                <a:cubicBezTo>
                  <a:pt x="1669" y="635"/>
                  <a:pt x="1639" y="634"/>
                  <a:pt x="1626" y="636"/>
                </a:cubicBezTo>
                <a:cubicBezTo>
                  <a:pt x="1586" y="642"/>
                  <a:pt x="1546" y="644"/>
                  <a:pt x="1506" y="648"/>
                </a:cubicBezTo>
                <a:cubicBezTo>
                  <a:pt x="1442" y="744"/>
                  <a:pt x="1526" y="628"/>
                  <a:pt x="1446" y="708"/>
                </a:cubicBezTo>
                <a:cubicBezTo>
                  <a:pt x="1412" y="742"/>
                  <a:pt x="1401" y="796"/>
                  <a:pt x="1386" y="840"/>
                </a:cubicBezTo>
                <a:cubicBezTo>
                  <a:pt x="1382" y="876"/>
                  <a:pt x="1378" y="912"/>
                  <a:pt x="1374" y="948"/>
                </a:cubicBezTo>
                <a:cubicBezTo>
                  <a:pt x="1370" y="980"/>
                  <a:pt x="1380" y="1017"/>
                  <a:pt x="1362" y="1044"/>
                </a:cubicBezTo>
                <a:cubicBezTo>
                  <a:pt x="1354" y="1056"/>
                  <a:pt x="1338" y="1028"/>
                  <a:pt x="1326" y="1020"/>
                </a:cubicBezTo>
                <a:cubicBezTo>
                  <a:pt x="1194" y="1035"/>
                  <a:pt x="1153" y="1039"/>
                  <a:pt x="1050" y="1116"/>
                </a:cubicBezTo>
                <a:cubicBezTo>
                  <a:pt x="1016" y="1219"/>
                  <a:pt x="1068" y="1055"/>
                  <a:pt x="1026" y="1224"/>
                </a:cubicBezTo>
                <a:cubicBezTo>
                  <a:pt x="1020" y="1249"/>
                  <a:pt x="1002" y="1296"/>
                  <a:pt x="1002" y="1296"/>
                </a:cubicBezTo>
                <a:cubicBezTo>
                  <a:pt x="973" y="1282"/>
                  <a:pt x="947" y="1261"/>
                  <a:pt x="918" y="1248"/>
                </a:cubicBezTo>
                <a:cubicBezTo>
                  <a:pt x="895" y="1238"/>
                  <a:pt x="846" y="1224"/>
                  <a:pt x="846" y="1224"/>
                </a:cubicBezTo>
                <a:cubicBezTo>
                  <a:pt x="666" y="1244"/>
                  <a:pt x="653" y="1213"/>
                  <a:pt x="558" y="1308"/>
                </a:cubicBezTo>
                <a:cubicBezTo>
                  <a:pt x="524" y="1263"/>
                  <a:pt x="502" y="1204"/>
                  <a:pt x="462" y="1164"/>
                </a:cubicBezTo>
                <a:cubicBezTo>
                  <a:pt x="416" y="1118"/>
                  <a:pt x="342" y="1104"/>
                  <a:pt x="282" y="1092"/>
                </a:cubicBezTo>
                <a:cubicBezTo>
                  <a:pt x="202" y="1096"/>
                  <a:pt x="111" y="1144"/>
                  <a:pt x="42" y="1104"/>
                </a:cubicBezTo>
                <a:cubicBezTo>
                  <a:pt x="0" y="1080"/>
                  <a:pt x="45" y="1007"/>
                  <a:pt x="54" y="960"/>
                </a:cubicBezTo>
                <a:cubicBezTo>
                  <a:pt x="62" y="918"/>
                  <a:pt x="100" y="869"/>
                  <a:pt x="114" y="828"/>
                </a:cubicBezTo>
                <a:cubicBezTo>
                  <a:pt x="124" y="797"/>
                  <a:pt x="130" y="764"/>
                  <a:pt x="138" y="732"/>
                </a:cubicBezTo>
                <a:cubicBezTo>
                  <a:pt x="142" y="716"/>
                  <a:pt x="150" y="684"/>
                  <a:pt x="150" y="684"/>
                </a:cubicBezTo>
                <a:cubicBezTo>
                  <a:pt x="146" y="628"/>
                  <a:pt x="152" y="570"/>
                  <a:pt x="138" y="516"/>
                </a:cubicBezTo>
                <a:cubicBezTo>
                  <a:pt x="126" y="469"/>
                  <a:pt x="56" y="398"/>
                  <a:pt x="18" y="372"/>
                </a:cubicBezTo>
                <a:cubicBezTo>
                  <a:pt x="30" y="368"/>
                  <a:pt x="41" y="362"/>
                  <a:pt x="54" y="360"/>
                </a:cubicBezTo>
                <a:cubicBezTo>
                  <a:pt x="94" y="354"/>
                  <a:pt x="135" y="356"/>
                  <a:pt x="174" y="348"/>
                </a:cubicBezTo>
                <a:cubicBezTo>
                  <a:pt x="204" y="342"/>
                  <a:pt x="229" y="322"/>
                  <a:pt x="258" y="312"/>
                </a:cubicBezTo>
                <a:cubicBezTo>
                  <a:pt x="301" y="269"/>
                  <a:pt x="321" y="230"/>
                  <a:pt x="354" y="180"/>
                </a:cubicBezTo>
                <a:cubicBezTo>
                  <a:pt x="365" y="125"/>
                  <a:pt x="372" y="94"/>
                  <a:pt x="402" y="48"/>
                </a:cubicBezTo>
                <a:cubicBezTo>
                  <a:pt x="476" y="85"/>
                  <a:pt x="525" y="153"/>
                  <a:pt x="606" y="180"/>
                </a:cubicBezTo>
                <a:cubicBezTo>
                  <a:pt x="682" y="176"/>
                  <a:pt x="759" y="182"/>
                  <a:pt x="834" y="168"/>
                </a:cubicBezTo>
                <a:cubicBezTo>
                  <a:pt x="885" y="159"/>
                  <a:pt x="918" y="36"/>
                  <a:pt x="918" y="36"/>
                </a:cubicBezTo>
                <a:cubicBezTo>
                  <a:pt x="930" y="48"/>
                  <a:pt x="945" y="58"/>
                  <a:pt x="954" y="72"/>
                </a:cubicBezTo>
                <a:cubicBezTo>
                  <a:pt x="993" y="131"/>
                  <a:pt x="933" y="87"/>
                  <a:pt x="990" y="144"/>
                </a:cubicBezTo>
                <a:cubicBezTo>
                  <a:pt x="1007" y="161"/>
                  <a:pt x="1055" y="183"/>
                  <a:pt x="1074" y="192"/>
                </a:cubicBezTo>
                <a:cubicBezTo>
                  <a:pt x="1154" y="188"/>
                  <a:pt x="1235" y="194"/>
                  <a:pt x="1314" y="180"/>
                </a:cubicBezTo>
                <a:cubicBezTo>
                  <a:pt x="1328" y="177"/>
                  <a:pt x="1332" y="157"/>
                  <a:pt x="1338" y="144"/>
                </a:cubicBezTo>
                <a:cubicBezTo>
                  <a:pt x="1356" y="103"/>
                  <a:pt x="1374" y="45"/>
                  <a:pt x="1374" y="0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>
            <a:off x="6286680" y="6072120"/>
            <a:ext cx="695160" cy="486000"/>
          </a:xfrm>
          <a:custGeom>
            <a:avLst/>
            <a:gdLst/>
            <a:ahLst/>
            <a:rect l="l" t="t" r="r" b="b"/>
            <a:pathLst>
              <a:path w="1669" h="1308">
                <a:moveTo>
                  <a:pt x="1374" y="0"/>
                </a:moveTo>
                <a:cubicBezTo>
                  <a:pt x="1378" y="112"/>
                  <a:pt x="1375" y="224"/>
                  <a:pt x="1386" y="336"/>
                </a:cubicBezTo>
                <a:cubicBezTo>
                  <a:pt x="1390" y="373"/>
                  <a:pt x="1522" y="495"/>
                  <a:pt x="1554" y="516"/>
                </a:cubicBezTo>
                <a:cubicBezTo>
                  <a:pt x="1566" y="536"/>
                  <a:pt x="1574" y="560"/>
                  <a:pt x="1590" y="576"/>
                </a:cubicBezTo>
                <a:cubicBezTo>
                  <a:pt x="1610" y="596"/>
                  <a:pt x="1647" y="599"/>
                  <a:pt x="1662" y="624"/>
                </a:cubicBezTo>
                <a:cubicBezTo>
                  <a:pt x="1669" y="635"/>
                  <a:pt x="1639" y="634"/>
                  <a:pt x="1626" y="636"/>
                </a:cubicBezTo>
                <a:cubicBezTo>
                  <a:pt x="1586" y="642"/>
                  <a:pt x="1546" y="644"/>
                  <a:pt x="1506" y="648"/>
                </a:cubicBezTo>
                <a:cubicBezTo>
                  <a:pt x="1442" y="744"/>
                  <a:pt x="1526" y="628"/>
                  <a:pt x="1446" y="708"/>
                </a:cubicBezTo>
                <a:cubicBezTo>
                  <a:pt x="1412" y="742"/>
                  <a:pt x="1401" y="796"/>
                  <a:pt x="1386" y="840"/>
                </a:cubicBezTo>
                <a:cubicBezTo>
                  <a:pt x="1382" y="876"/>
                  <a:pt x="1378" y="912"/>
                  <a:pt x="1374" y="948"/>
                </a:cubicBezTo>
                <a:cubicBezTo>
                  <a:pt x="1370" y="980"/>
                  <a:pt x="1380" y="1017"/>
                  <a:pt x="1362" y="1044"/>
                </a:cubicBezTo>
                <a:cubicBezTo>
                  <a:pt x="1354" y="1056"/>
                  <a:pt x="1338" y="1028"/>
                  <a:pt x="1326" y="1020"/>
                </a:cubicBezTo>
                <a:cubicBezTo>
                  <a:pt x="1194" y="1035"/>
                  <a:pt x="1153" y="1039"/>
                  <a:pt x="1050" y="1116"/>
                </a:cubicBezTo>
                <a:cubicBezTo>
                  <a:pt x="1016" y="1219"/>
                  <a:pt x="1068" y="1055"/>
                  <a:pt x="1026" y="1224"/>
                </a:cubicBezTo>
                <a:cubicBezTo>
                  <a:pt x="1020" y="1249"/>
                  <a:pt x="1002" y="1296"/>
                  <a:pt x="1002" y="1296"/>
                </a:cubicBezTo>
                <a:cubicBezTo>
                  <a:pt x="973" y="1282"/>
                  <a:pt x="947" y="1261"/>
                  <a:pt x="918" y="1248"/>
                </a:cubicBezTo>
                <a:cubicBezTo>
                  <a:pt x="895" y="1238"/>
                  <a:pt x="846" y="1224"/>
                  <a:pt x="846" y="1224"/>
                </a:cubicBezTo>
                <a:cubicBezTo>
                  <a:pt x="666" y="1244"/>
                  <a:pt x="653" y="1213"/>
                  <a:pt x="558" y="1308"/>
                </a:cubicBezTo>
                <a:cubicBezTo>
                  <a:pt x="524" y="1263"/>
                  <a:pt x="502" y="1204"/>
                  <a:pt x="462" y="1164"/>
                </a:cubicBezTo>
                <a:cubicBezTo>
                  <a:pt x="416" y="1118"/>
                  <a:pt x="342" y="1104"/>
                  <a:pt x="282" y="1092"/>
                </a:cubicBezTo>
                <a:cubicBezTo>
                  <a:pt x="202" y="1096"/>
                  <a:pt x="111" y="1144"/>
                  <a:pt x="42" y="1104"/>
                </a:cubicBezTo>
                <a:cubicBezTo>
                  <a:pt x="0" y="1080"/>
                  <a:pt x="45" y="1007"/>
                  <a:pt x="54" y="960"/>
                </a:cubicBezTo>
                <a:cubicBezTo>
                  <a:pt x="62" y="918"/>
                  <a:pt x="100" y="869"/>
                  <a:pt x="114" y="828"/>
                </a:cubicBezTo>
                <a:cubicBezTo>
                  <a:pt x="124" y="797"/>
                  <a:pt x="130" y="764"/>
                  <a:pt x="138" y="732"/>
                </a:cubicBezTo>
                <a:cubicBezTo>
                  <a:pt x="142" y="716"/>
                  <a:pt x="150" y="684"/>
                  <a:pt x="150" y="684"/>
                </a:cubicBezTo>
                <a:cubicBezTo>
                  <a:pt x="146" y="628"/>
                  <a:pt x="152" y="570"/>
                  <a:pt x="138" y="516"/>
                </a:cubicBezTo>
                <a:cubicBezTo>
                  <a:pt x="126" y="469"/>
                  <a:pt x="56" y="398"/>
                  <a:pt x="18" y="372"/>
                </a:cubicBezTo>
                <a:cubicBezTo>
                  <a:pt x="30" y="368"/>
                  <a:pt x="41" y="362"/>
                  <a:pt x="54" y="360"/>
                </a:cubicBezTo>
                <a:cubicBezTo>
                  <a:pt x="94" y="354"/>
                  <a:pt x="135" y="356"/>
                  <a:pt x="174" y="348"/>
                </a:cubicBezTo>
                <a:cubicBezTo>
                  <a:pt x="204" y="342"/>
                  <a:pt x="229" y="322"/>
                  <a:pt x="258" y="312"/>
                </a:cubicBezTo>
                <a:cubicBezTo>
                  <a:pt x="301" y="269"/>
                  <a:pt x="321" y="230"/>
                  <a:pt x="354" y="180"/>
                </a:cubicBezTo>
                <a:cubicBezTo>
                  <a:pt x="365" y="125"/>
                  <a:pt x="372" y="94"/>
                  <a:pt x="402" y="48"/>
                </a:cubicBezTo>
                <a:cubicBezTo>
                  <a:pt x="476" y="85"/>
                  <a:pt x="525" y="153"/>
                  <a:pt x="606" y="180"/>
                </a:cubicBezTo>
                <a:cubicBezTo>
                  <a:pt x="682" y="176"/>
                  <a:pt x="759" y="182"/>
                  <a:pt x="834" y="168"/>
                </a:cubicBezTo>
                <a:cubicBezTo>
                  <a:pt x="885" y="159"/>
                  <a:pt x="918" y="36"/>
                  <a:pt x="918" y="36"/>
                </a:cubicBezTo>
                <a:cubicBezTo>
                  <a:pt x="930" y="48"/>
                  <a:pt x="945" y="58"/>
                  <a:pt x="954" y="72"/>
                </a:cubicBezTo>
                <a:cubicBezTo>
                  <a:pt x="993" y="131"/>
                  <a:pt x="933" y="87"/>
                  <a:pt x="990" y="144"/>
                </a:cubicBezTo>
                <a:cubicBezTo>
                  <a:pt x="1007" y="161"/>
                  <a:pt x="1055" y="183"/>
                  <a:pt x="1074" y="192"/>
                </a:cubicBezTo>
                <a:cubicBezTo>
                  <a:pt x="1154" y="188"/>
                  <a:pt x="1235" y="194"/>
                  <a:pt x="1314" y="180"/>
                </a:cubicBezTo>
                <a:cubicBezTo>
                  <a:pt x="1328" y="177"/>
                  <a:pt x="1332" y="157"/>
                  <a:pt x="1338" y="144"/>
                </a:cubicBezTo>
                <a:cubicBezTo>
                  <a:pt x="1356" y="103"/>
                  <a:pt x="1374" y="45"/>
                  <a:pt x="1374" y="0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785960" y="1357200"/>
            <a:ext cx="8858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  晚上，动物们已经入睡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只小狮子还在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滚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、撕、咬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，练得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刻苦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1492560" y="4643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整天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ject 2" descr=""/>
          <p:cNvPicPr/>
          <p:nvPr/>
        </p:nvPicPr>
        <p:blipFill>
          <a:blip r:embed="rId1"/>
          <a:stretch/>
        </p:blipFill>
        <p:spPr>
          <a:xfrm>
            <a:off x="500040" y="1928880"/>
            <a:ext cx="3141720" cy="3219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0" y="1571760"/>
            <a:ext cx="4114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5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</a:t>
            </a:r>
            <a:endParaRPr b="0" lang="en-US" sz="2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786200" y="1857240"/>
            <a:ext cx="3141720" cy="3219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4357800" y="1571760"/>
            <a:ext cx="4114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5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习</a:t>
            </a:r>
            <a:endParaRPr b="0" lang="en-US" sz="2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矩形 8" descr=""/>
          <p:cNvPicPr/>
          <p:nvPr/>
        </p:nvPicPr>
        <p:blipFill>
          <a:blip r:embed="rId3"/>
          <a:stretch/>
        </p:blipFill>
        <p:spPr>
          <a:xfrm>
            <a:off x="571680" y="428760"/>
            <a:ext cx="233172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FR2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2438280" y="2895480"/>
            <a:ext cx="3353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小狮子4"/>
          <p:cNvPicPr/>
          <p:nvPr/>
        </p:nvPicPr>
        <p:blipFill>
          <a:blip r:embed="rId2"/>
          <a:stretch/>
        </p:blipFill>
        <p:spPr>
          <a:xfrm>
            <a:off x="571680" y="3500280"/>
            <a:ext cx="5695920" cy="5334120"/>
          </a:xfrm>
          <a:prstGeom prst="rect">
            <a:avLst/>
          </a:prstGeom>
          <a:ln w="0">
            <a:noFill/>
          </a:ln>
        </p:spPr>
      </p:pic>
      <p:sp>
        <p:nvSpPr>
          <p:cNvPr id="138" name="Oval 5"/>
          <p:cNvSpPr/>
          <p:nvPr/>
        </p:nvSpPr>
        <p:spPr>
          <a:xfrm>
            <a:off x="7238880" y="457200"/>
            <a:ext cx="1295640" cy="129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322760" y="1981080"/>
            <a:ext cx="221040" cy="381240"/>
            <a:chOff x="7322760" y="1981080"/>
            <a:chExt cx="221040" cy="381240"/>
          </a:xfrm>
        </p:grpSpPr>
        <p:sp>
          <p:nvSpPr>
            <p:cNvPr id="140" name="Line 6"/>
            <p:cNvSpPr/>
            <p:nvPr/>
          </p:nvSpPr>
          <p:spPr>
            <a:xfrm flipH="1">
              <a:off x="7322760" y="1981080"/>
              <a:ext cx="22068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7323120" y="1981080"/>
              <a:ext cx="22068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8153280" y="1828800"/>
            <a:ext cx="304920" cy="457200"/>
            <a:chOff x="8153280" y="1828800"/>
            <a:chExt cx="304920" cy="457200"/>
          </a:xfrm>
        </p:grpSpPr>
        <p:sp>
          <p:nvSpPr>
            <p:cNvPr id="143" name="Line 7"/>
            <p:cNvSpPr/>
            <p:nvPr/>
          </p:nvSpPr>
          <p:spPr>
            <a:xfrm>
              <a:off x="8153280" y="1828800"/>
              <a:ext cx="304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8153280" y="182880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305560" y="76320"/>
            <a:ext cx="228960" cy="380880"/>
            <a:chOff x="8305560" y="76320"/>
            <a:chExt cx="228960" cy="380880"/>
          </a:xfrm>
        </p:grpSpPr>
        <p:sp>
          <p:nvSpPr>
            <p:cNvPr id="146" name="Line 8"/>
            <p:cNvSpPr/>
            <p:nvPr/>
          </p:nvSpPr>
          <p:spPr>
            <a:xfrm flipH="1">
              <a:off x="8305560" y="76320"/>
              <a:ext cx="228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8305920" y="763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05720" y="1447920"/>
            <a:ext cx="457200" cy="263520"/>
            <a:chOff x="6705720" y="1447920"/>
            <a:chExt cx="457200" cy="263520"/>
          </a:xfrm>
        </p:grpSpPr>
        <p:sp>
          <p:nvSpPr>
            <p:cNvPr id="149" name="Line 9"/>
            <p:cNvSpPr/>
            <p:nvPr/>
          </p:nvSpPr>
          <p:spPr>
            <a:xfrm flipH="1">
              <a:off x="6705720" y="1447920"/>
              <a:ext cx="457200" cy="263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6705720" y="1447920"/>
              <a:ext cx="45720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76760" y="750960"/>
            <a:ext cx="609480" cy="163440"/>
            <a:chOff x="6476760" y="750960"/>
            <a:chExt cx="609480" cy="163440"/>
          </a:xfrm>
        </p:grpSpPr>
        <p:sp>
          <p:nvSpPr>
            <p:cNvPr id="152" name="Line 10"/>
            <p:cNvSpPr/>
            <p:nvPr/>
          </p:nvSpPr>
          <p:spPr>
            <a:xfrm flipH="1" flipV="1">
              <a:off x="6476760" y="750960"/>
              <a:ext cx="609480" cy="163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 rot="10800000">
              <a:off x="6476760" y="750960"/>
              <a:ext cx="60948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238520" y="0"/>
            <a:ext cx="304920" cy="380880"/>
            <a:chOff x="7238520" y="0"/>
            <a:chExt cx="304920" cy="380880"/>
          </a:xfrm>
        </p:grpSpPr>
        <p:sp>
          <p:nvSpPr>
            <p:cNvPr id="155" name="Line 11"/>
            <p:cNvSpPr/>
            <p:nvPr/>
          </p:nvSpPr>
          <p:spPr>
            <a:xfrm flipH="1" flipV="1">
              <a:off x="7238520" y="0"/>
              <a:ext cx="304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0800000">
              <a:off x="7238520" y="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8610480" y="1447920"/>
            <a:ext cx="533520" cy="228600"/>
            <a:chOff x="8610480" y="1447920"/>
            <a:chExt cx="533520" cy="228600"/>
          </a:xfrm>
        </p:grpSpPr>
        <p:sp>
          <p:nvSpPr>
            <p:cNvPr id="158" name="Line 12"/>
            <p:cNvSpPr/>
            <p:nvPr/>
          </p:nvSpPr>
          <p:spPr>
            <a:xfrm>
              <a:off x="8610480" y="1447920"/>
              <a:ext cx="533520" cy="228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8610480" y="14479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686800" y="609120"/>
            <a:ext cx="457200" cy="304920"/>
            <a:chOff x="8686800" y="609120"/>
            <a:chExt cx="457200" cy="304920"/>
          </a:xfrm>
        </p:grpSpPr>
        <p:sp>
          <p:nvSpPr>
            <p:cNvPr id="161" name="Line 13"/>
            <p:cNvSpPr/>
            <p:nvPr/>
          </p:nvSpPr>
          <p:spPr>
            <a:xfrm flipV="1">
              <a:off x="8686800" y="609120"/>
              <a:ext cx="457200" cy="304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8686800" y="6091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4"/>
          <p:cNvSpPr/>
          <p:nvPr/>
        </p:nvSpPr>
        <p:spPr>
          <a:xfrm>
            <a:off x="2498760" y="2268360"/>
            <a:ext cx="2987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057400" y="2209680"/>
            <a:ext cx="6477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另一只却</a:t>
            </a:r>
            <a:r>
              <a:rPr b="1" lang="zh-CN" sz="4800" spc="-1" strike="noStrike">
                <a:solidFill>
                  <a:srgbClr val="ff3399"/>
                </a:solidFill>
                <a:latin typeface="Calibri"/>
                <a:ea typeface="楷体_GB2312"/>
              </a:rPr>
              <a:t>懒洋洋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地晒太阳，什么也不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小狮子4"/>
          <p:cNvPicPr/>
          <p:nvPr/>
        </p:nvPicPr>
        <p:blipFill>
          <a:blip r:embed="rId1"/>
          <a:stretch/>
        </p:blipFill>
        <p:spPr>
          <a:xfrm>
            <a:off x="714240" y="1928880"/>
            <a:ext cx="4038840" cy="37814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6" descr="2013061411082732.jpg"/>
          <p:cNvPicPr/>
          <p:nvPr/>
        </p:nvPicPr>
        <p:blipFill>
          <a:blip r:embed="rId2"/>
          <a:srcRect l="0" t="0" r="0" b="21997"/>
          <a:stretch/>
        </p:blipFill>
        <p:spPr>
          <a:xfrm>
            <a:off x="4786200" y="2928960"/>
            <a:ext cx="2691000" cy="26431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7" descr="20050602191020189.jpg"/>
          <p:cNvPicPr/>
          <p:nvPr/>
        </p:nvPicPr>
        <p:blipFill>
          <a:blip r:embed="rId3"/>
          <a:stretch/>
        </p:blipFill>
        <p:spPr>
          <a:xfrm>
            <a:off x="928800" y="4857840"/>
            <a:ext cx="771480" cy="5284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8" descr="20050602191020189.jpg"/>
          <p:cNvPicPr/>
          <p:nvPr/>
        </p:nvPicPr>
        <p:blipFill>
          <a:blip r:embed="rId4"/>
          <a:stretch/>
        </p:blipFill>
        <p:spPr>
          <a:xfrm>
            <a:off x="2000160" y="4857840"/>
            <a:ext cx="771480" cy="5284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" descr="20050602191020189.jpg"/>
          <p:cNvPicPr/>
          <p:nvPr/>
        </p:nvPicPr>
        <p:blipFill>
          <a:blip r:embed="rId5"/>
          <a:stretch/>
        </p:blipFill>
        <p:spPr>
          <a:xfrm>
            <a:off x="3071880" y="4572000"/>
            <a:ext cx="771480" cy="5284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0" descr="20050602191020189.jpg"/>
          <p:cNvPicPr/>
          <p:nvPr/>
        </p:nvPicPr>
        <p:blipFill>
          <a:blip r:embed="rId6"/>
          <a:stretch/>
        </p:blipFill>
        <p:spPr>
          <a:xfrm>
            <a:off x="4071960" y="4071960"/>
            <a:ext cx="771480" cy="5284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1" descr="20050602191020189.jpg"/>
          <p:cNvPicPr/>
          <p:nvPr/>
        </p:nvPicPr>
        <p:blipFill>
          <a:blip r:embed="rId7"/>
          <a:stretch/>
        </p:blipFill>
        <p:spPr>
          <a:xfrm>
            <a:off x="4857840" y="3214800"/>
            <a:ext cx="771480" cy="52848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2" descr="20050602191020189.jpg"/>
          <p:cNvPicPr/>
          <p:nvPr/>
        </p:nvPicPr>
        <p:blipFill>
          <a:blip r:embed="rId8"/>
          <a:stretch/>
        </p:blipFill>
        <p:spPr>
          <a:xfrm>
            <a:off x="7643880" y="4429080"/>
            <a:ext cx="771480" cy="5288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3"/>
          <p:cNvSpPr/>
          <p:nvPr/>
        </p:nvSpPr>
        <p:spPr>
          <a:xfrm>
            <a:off x="0" y="500040"/>
            <a:ext cx="92152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只小鹿从它旁边跑过，他（却懒洋洋地晒太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什么也不干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图片 3" descr="20120531155020_e5ym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小狮子4"/>
          <p:cNvPicPr/>
          <p:nvPr/>
        </p:nvPicPr>
        <p:blipFill>
          <a:blip r:embed="rId1"/>
          <a:stretch/>
        </p:blipFill>
        <p:spPr>
          <a:xfrm>
            <a:off x="714240" y="1928880"/>
            <a:ext cx="4038840" cy="37814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" descr="20050602191020189.jpg"/>
          <p:cNvPicPr/>
          <p:nvPr/>
        </p:nvPicPr>
        <p:blipFill>
          <a:blip r:embed="rId2"/>
          <a:stretch/>
        </p:blipFill>
        <p:spPr>
          <a:xfrm>
            <a:off x="928800" y="4857840"/>
            <a:ext cx="771480" cy="52848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8" descr="20050602191020189.jpg"/>
          <p:cNvPicPr/>
          <p:nvPr/>
        </p:nvPicPr>
        <p:blipFill>
          <a:blip r:embed="rId3"/>
          <a:stretch/>
        </p:blipFill>
        <p:spPr>
          <a:xfrm>
            <a:off x="2000160" y="4857840"/>
            <a:ext cx="771480" cy="5284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9" descr="20050602191020189.jpg"/>
          <p:cNvPicPr/>
          <p:nvPr/>
        </p:nvPicPr>
        <p:blipFill>
          <a:blip r:embed="rId4"/>
          <a:stretch/>
        </p:blipFill>
        <p:spPr>
          <a:xfrm>
            <a:off x="3071880" y="4572000"/>
            <a:ext cx="771480" cy="5284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0" descr="20050602191020189.jpg"/>
          <p:cNvPicPr/>
          <p:nvPr/>
        </p:nvPicPr>
        <p:blipFill>
          <a:blip r:embed="rId5"/>
          <a:stretch/>
        </p:blipFill>
        <p:spPr>
          <a:xfrm>
            <a:off x="4071960" y="4071960"/>
            <a:ext cx="771480" cy="5284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1" descr="20050602191020189.jpg"/>
          <p:cNvPicPr/>
          <p:nvPr/>
        </p:nvPicPr>
        <p:blipFill>
          <a:blip r:embed="rId6"/>
          <a:stretch/>
        </p:blipFill>
        <p:spPr>
          <a:xfrm>
            <a:off x="4857840" y="3214800"/>
            <a:ext cx="771480" cy="5284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2" descr="20050602191020189.jpg"/>
          <p:cNvPicPr/>
          <p:nvPr/>
        </p:nvPicPr>
        <p:blipFill>
          <a:blip r:embed="rId7"/>
          <a:stretch/>
        </p:blipFill>
        <p:spPr>
          <a:xfrm>
            <a:off x="7643880" y="4429080"/>
            <a:ext cx="771480" cy="528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3" descr="136521770699.jpg"/>
          <p:cNvPicPr/>
          <p:nvPr/>
        </p:nvPicPr>
        <p:blipFill>
          <a:blip r:embed="rId8"/>
          <a:stretch/>
        </p:blipFill>
        <p:spPr>
          <a:xfrm>
            <a:off x="5214960" y="2428920"/>
            <a:ext cx="2281320" cy="2428920"/>
          </a:xfrm>
          <a:prstGeom prst="rect">
            <a:avLst/>
          </a:prstGeom>
          <a:ln w="0">
            <a:noFill/>
          </a:ln>
        </p:spPr>
      </p:pic>
      <p:sp>
        <p:nvSpPr>
          <p:cNvPr id="182" name="矩形 14"/>
          <p:cNvSpPr/>
          <p:nvPr/>
        </p:nvSpPr>
        <p:spPr>
          <a:xfrm>
            <a:off x="571680" y="785880"/>
            <a:ext cx="82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只小老鼠大摇大摆地在他面前，他（却懒洋洋地晒太阳，什么也不干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1000080" y="71424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Calibri"/>
              </a:rPr>
              <a:t>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643280" y="714240"/>
            <a:ext cx="20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Calibri"/>
              </a:rPr>
              <a:t>慢吞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57120" y="1928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cc0000"/>
                </a:solidFill>
                <a:latin typeface="Calibri"/>
              </a:rPr>
              <a:t>懒洋洋地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Calibri"/>
              </a:rPr>
              <a:t>晒太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0" y="27147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cc0000"/>
                </a:solidFill>
                <a:latin typeface="Calibri"/>
              </a:rPr>
              <a:t>懒洋洋地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4143240" y="1928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Calibri"/>
              </a:rPr>
              <a:t>慢吞吞地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Calibri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4357800" y="27147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Calibri"/>
              </a:rPr>
              <a:t>慢吞吞地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alibri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2552400" y="271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躺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6767280" y="2786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走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7410240" y="2786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回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3341520" y="271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起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FR2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2438280" y="2895480"/>
            <a:ext cx="3353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小狮子4"/>
          <p:cNvPicPr/>
          <p:nvPr/>
        </p:nvPicPr>
        <p:blipFill>
          <a:blip r:embed="rId2"/>
          <a:stretch/>
        </p:blipFill>
        <p:spPr>
          <a:xfrm>
            <a:off x="571680" y="3500280"/>
            <a:ext cx="5695920" cy="5334120"/>
          </a:xfrm>
          <a:prstGeom prst="rect">
            <a:avLst/>
          </a:prstGeom>
          <a:ln w="0">
            <a:noFill/>
          </a:ln>
        </p:spPr>
      </p:pic>
      <p:sp>
        <p:nvSpPr>
          <p:cNvPr id="196" name="Oval 5"/>
          <p:cNvSpPr/>
          <p:nvPr/>
        </p:nvSpPr>
        <p:spPr>
          <a:xfrm>
            <a:off x="7238880" y="457200"/>
            <a:ext cx="1295640" cy="129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22760" y="1981080"/>
            <a:ext cx="221040" cy="381240"/>
            <a:chOff x="7322760" y="1981080"/>
            <a:chExt cx="221040" cy="381240"/>
          </a:xfrm>
        </p:grpSpPr>
        <p:sp>
          <p:nvSpPr>
            <p:cNvPr id="198" name="Line 6"/>
            <p:cNvSpPr/>
            <p:nvPr/>
          </p:nvSpPr>
          <p:spPr>
            <a:xfrm flipH="1">
              <a:off x="7322760" y="1981080"/>
              <a:ext cx="22068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7323120" y="1981080"/>
              <a:ext cx="22068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153280" y="1828800"/>
            <a:ext cx="304920" cy="457200"/>
            <a:chOff x="8153280" y="1828800"/>
            <a:chExt cx="304920" cy="457200"/>
          </a:xfrm>
        </p:grpSpPr>
        <p:sp>
          <p:nvSpPr>
            <p:cNvPr id="201" name="Line 7"/>
            <p:cNvSpPr/>
            <p:nvPr/>
          </p:nvSpPr>
          <p:spPr>
            <a:xfrm>
              <a:off x="8153280" y="1828800"/>
              <a:ext cx="304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8153280" y="182880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305560" y="76320"/>
            <a:ext cx="228960" cy="380880"/>
            <a:chOff x="8305560" y="76320"/>
            <a:chExt cx="228960" cy="380880"/>
          </a:xfrm>
        </p:grpSpPr>
        <p:sp>
          <p:nvSpPr>
            <p:cNvPr id="204" name="Line 8"/>
            <p:cNvSpPr/>
            <p:nvPr/>
          </p:nvSpPr>
          <p:spPr>
            <a:xfrm flipH="1">
              <a:off x="8305560" y="76320"/>
              <a:ext cx="228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8305920" y="76320"/>
              <a:ext cx="22860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705720" y="1447920"/>
            <a:ext cx="457200" cy="263520"/>
            <a:chOff x="6705720" y="1447920"/>
            <a:chExt cx="457200" cy="263520"/>
          </a:xfrm>
        </p:grpSpPr>
        <p:sp>
          <p:nvSpPr>
            <p:cNvPr id="207" name="Line 9"/>
            <p:cNvSpPr/>
            <p:nvPr/>
          </p:nvSpPr>
          <p:spPr>
            <a:xfrm flipH="1">
              <a:off x="6705720" y="1447920"/>
              <a:ext cx="457200" cy="263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6705720" y="1447920"/>
              <a:ext cx="45720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476760" y="750960"/>
            <a:ext cx="609480" cy="163440"/>
            <a:chOff x="6476760" y="750960"/>
            <a:chExt cx="609480" cy="163440"/>
          </a:xfrm>
        </p:grpSpPr>
        <p:sp>
          <p:nvSpPr>
            <p:cNvPr id="210" name="Line 10"/>
            <p:cNvSpPr/>
            <p:nvPr/>
          </p:nvSpPr>
          <p:spPr>
            <a:xfrm flipH="1" flipV="1">
              <a:off x="6476760" y="750960"/>
              <a:ext cx="609480" cy="163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 rot="10800000">
              <a:off x="6476760" y="750960"/>
              <a:ext cx="60948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238520" y="0"/>
            <a:ext cx="304920" cy="380880"/>
            <a:chOff x="7238520" y="0"/>
            <a:chExt cx="304920" cy="380880"/>
          </a:xfrm>
        </p:grpSpPr>
        <p:sp>
          <p:nvSpPr>
            <p:cNvPr id="213" name="Line 11"/>
            <p:cNvSpPr/>
            <p:nvPr/>
          </p:nvSpPr>
          <p:spPr>
            <a:xfrm flipH="1" flipV="1">
              <a:off x="7238520" y="0"/>
              <a:ext cx="304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0800000">
              <a:off x="7238520" y="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610480" y="1447920"/>
            <a:ext cx="533520" cy="228600"/>
            <a:chOff x="8610480" y="1447920"/>
            <a:chExt cx="533520" cy="228600"/>
          </a:xfrm>
        </p:grpSpPr>
        <p:sp>
          <p:nvSpPr>
            <p:cNvPr id="216" name="Line 12"/>
            <p:cNvSpPr/>
            <p:nvPr/>
          </p:nvSpPr>
          <p:spPr>
            <a:xfrm>
              <a:off x="8610480" y="1447920"/>
              <a:ext cx="533520" cy="228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8610480" y="14479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686800" y="609120"/>
            <a:ext cx="457200" cy="304920"/>
            <a:chOff x="8686800" y="609120"/>
            <a:chExt cx="457200" cy="304920"/>
          </a:xfrm>
        </p:grpSpPr>
        <p:sp>
          <p:nvSpPr>
            <p:cNvPr id="219" name="Line 13"/>
            <p:cNvSpPr/>
            <p:nvPr/>
          </p:nvSpPr>
          <p:spPr>
            <a:xfrm flipV="1">
              <a:off x="8686800" y="609120"/>
              <a:ext cx="457200" cy="304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 rot="10800000">
              <a:off x="8686800" y="6091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2498760" y="2268360"/>
            <a:ext cx="2987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2057400" y="2209680"/>
            <a:ext cx="6477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另一只却</a:t>
            </a:r>
            <a:r>
              <a:rPr b="1" lang="zh-CN" sz="4800" spc="-1" strike="noStrike">
                <a:solidFill>
                  <a:srgbClr val="ff3399"/>
                </a:solidFill>
                <a:latin typeface="Calibri"/>
                <a:ea typeface="楷体_GB2312"/>
              </a:rPr>
              <a:t>懒洋洋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地晒太阳，什么也不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5"/>
          <p:cNvSpPr/>
          <p:nvPr/>
        </p:nvSpPr>
        <p:spPr>
          <a:xfrm>
            <a:off x="468360" y="126828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image1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1"/>
          <p:cNvSpPr/>
          <p:nvPr/>
        </p:nvSpPr>
        <p:spPr>
          <a:xfrm>
            <a:off x="4038480" y="45720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6"/>
          <p:cNvSpPr/>
          <p:nvPr/>
        </p:nvSpPr>
        <p:spPr>
          <a:xfrm>
            <a:off x="2143080" y="214200"/>
            <a:ext cx="7000920" cy="235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我爸爸和妈妈是林中的大王，凭着他们的地位，我会生活得很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857240" y="214200"/>
            <a:ext cx="54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我才不去吃那苦头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龙桥中心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image1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3"/>
          <p:cNvSpPr/>
          <p:nvPr/>
        </p:nvSpPr>
        <p:spPr>
          <a:xfrm>
            <a:off x="-458640" y="-162000"/>
            <a:ext cx="9423360" cy="2700360"/>
          </a:xfrm>
          <a:prstGeom prst="cloudCallout">
            <a:avLst>
              <a:gd name="adj1" fmla="val 2041"/>
              <a:gd name="adj2" fmla="val 100939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00000" y="189000"/>
            <a:ext cx="75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孩子，将来我们老了，不在了，你靠谁呢？你也应该学会生活的本领，做一只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真正的狮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552760" cy="269712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6"/>
          <p:cNvGrpSpPr/>
          <p:nvPr/>
        </p:nvGrpSpPr>
        <p:grpSpPr>
          <a:xfrm>
            <a:off x="3714840" y="2643120"/>
            <a:ext cx="1571400" cy="1857600"/>
            <a:chOff x="3714840" y="2643120"/>
            <a:chExt cx="1571400" cy="1857600"/>
          </a:xfrm>
        </p:grpSpPr>
        <p:pic>
          <p:nvPicPr>
            <p:cNvPr id="234" name="图片 4" descr="vava0113-img566x600-12338042602512408487-4.jpg"/>
            <p:cNvPicPr/>
            <p:nvPr/>
          </p:nvPicPr>
          <p:blipFill>
            <a:blip r:embed="rId2"/>
            <a:srcRect l="36755" t="47502" r="0" b="0"/>
            <a:stretch/>
          </p:blipFill>
          <p:spPr>
            <a:xfrm>
              <a:off x="3714840" y="2643120"/>
              <a:ext cx="1571400" cy="18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5"/>
            <p:cNvSpPr/>
            <p:nvPr/>
          </p:nvSpPr>
          <p:spPr>
            <a:xfrm>
              <a:off x="4200120" y="350064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7"/>
          <p:cNvGrpSpPr/>
          <p:nvPr/>
        </p:nvGrpSpPr>
        <p:grpSpPr>
          <a:xfrm>
            <a:off x="5143680" y="642960"/>
            <a:ext cx="1571400" cy="1857240"/>
            <a:chOff x="5143680" y="642960"/>
            <a:chExt cx="1571400" cy="1857240"/>
          </a:xfrm>
        </p:grpSpPr>
        <p:pic>
          <p:nvPicPr>
            <p:cNvPr id="237" name="图片 8" descr="vava0113-img566x600-12338042602512408487-4.jpg"/>
            <p:cNvPicPr/>
            <p:nvPr/>
          </p:nvPicPr>
          <p:blipFill>
            <a:blip r:embed="rId3"/>
            <a:srcRect l="36755" t="47502" r="0" b="0"/>
            <a:stretch/>
          </p:blipFill>
          <p:spPr>
            <a:xfrm>
              <a:off x="5143680" y="642960"/>
              <a:ext cx="15714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9"/>
            <p:cNvSpPr/>
            <p:nvPr/>
          </p:nvSpPr>
          <p:spPr>
            <a:xfrm>
              <a:off x="5628960" y="150012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0"/>
          <p:cNvGrpSpPr/>
          <p:nvPr/>
        </p:nvGrpSpPr>
        <p:grpSpPr>
          <a:xfrm>
            <a:off x="7072200" y="642960"/>
            <a:ext cx="1571760" cy="1857240"/>
            <a:chOff x="7072200" y="642960"/>
            <a:chExt cx="1571760" cy="1857240"/>
          </a:xfrm>
        </p:grpSpPr>
        <p:pic>
          <p:nvPicPr>
            <p:cNvPr id="240" name="图片 11" descr="vava0113-img566x600-12338042602512408487-4.jpg"/>
            <p:cNvPicPr/>
            <p:nvPr/>
          </p:nvPicPr>
          <p:blipFill>
            <a:blip r:embed="rId4"/>
            <a:srcRect l="36755" t="47502" r="0" b="0"/>
            <a:stretch/>
          </p:blipFill>
          <p:spPr>
            <a:xfrm>
              <a:off x="7072200" y="642960"/>
              <a:ext cx="157176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12"/>
            <p:cNvSpPr/>
            <p:nvPr/>
          </p:nvSpPr>
          <p:spPr>
            <a:xfrm>
              <a:off x="7557840" y="150012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6"/>
          <p:cNvGrpSpPr/>
          <p:nvPr/>
        </p:nvGrpSpPr>
        <p:grpSpPr>
          <a:xfrm>
            <a:off x="357120" y="2714760"/>
            <a:ext cx="1571760" cy="1857240"/>
            <a:chOff x="357120" y="2714760"/>
            <a:chExt cx="1571760" cy="1857240"/>
          </a:xfrm>
        </p:grpSpPr>
        <p:pic>
          <p:nvPicPr>
            <p:cNvPr id="243" name="图片 17" descr="vava0113-img566x600-12338042602512408487-4.jpg"/>
            <p:cNvPicPr/>
            <p:nvPr/>
          </p:nvPicPr>
          <p:blipFill>
            <a:blip r:embed="rId5"/>
            <a:srcRect l="36755" t="47502" r="0" b="0"/>
            <a:stretch/>
          </p:blipFill>
          <p:spPr>
            <a:xfrm>
              <a:off x="357120" y="2714760"/>
              <a:ext cx="157176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Box 18"/>
            <p:cNvSpPr/>
            <p:nvPr/>
          </p:nvSpPr>
          <p:spPr>
            <a:xfrm>
              <a:off x="842760" y="357192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9"/>
          <p:cNvGrpSpPr/>
          <p:nvPr/>
        </p:nvGrpSpPr>
        <p:grpSpPr>
          <a:xfrm>
            <a:off x="2071800" y="2643120"/>
            <a:ext cx="1571400" cy="1857600"/>
            <a:chOff x="2071800" y="2643120"/>
            <a:chExt cx="1571400" cy="1857600"/>
          </a:xfrm>
        </p:grpSpPr>
        <p:pic>
          <p:nvPicPr>
            <p:cNvPr id="246" name="图片 20" descr="vava0113-img566x600-12338042602512408487-4.jpg"/>
            <p:cNvPicPr/>
            <p:nvPr/>
          </p:nvPicPr>
          <p:blipFill>
            <a:blip r:embed="rId6"/>
            <a:srcRect l="36755" t="47502" r="0" b="0"/>
            <a:stretch/>
          </p:blipFill>
          <p:spPr>
            <a:xfrm>
              <a:off x="2071800" y="2643120"/>
              <a:ext cx="1571400" cy="18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Box 21"/>
            <p:cNvSpPr/>
            <p:nvPr/>
          </p:nvSpPr>
          <p:spPr>
            <a:xfrm>
              <a:off x="2557080" y="350064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46"/>
          <p:cNvGrpSpPr/>
          <p:nvPr/>
        </p:nvGrpSpPr>
        <p:grpSpPr>
          <a:xfrm>
            <a:off x="3143160" y="642960"/>
            <a:ext cx="1571760" cy="1857240"/>
            <a:chOff x="3143160" y="642960"/>
            <a:chExt cx="1571760" cy="1857240"/>
          </a:xfrm>
        </p:grpSpPr>
        <p:pic>
          <p:nvPicPr>
            <p:cNvPr id="249" name="图片 23" descr="vava0113-img566x600-12338042602512408487-4.jpg"/>
            <p:cNvPicPr/>
            <p:nvPr/>
          </p:nvPicPr>
          <p:blipFill>
            <a:blip r:embed="rId7"/>
            <a:srcRect l="36755" t="47502" r="0" b="0"/>
            <a:stretch/>
          </p:blipFill>
          <p:spPr>
            <a:xfrm>
              <a:off x="3143160" y="642960"/>
              <a:ext cx="157176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Box 24"/>
            <p:cNvSpPr/>
            <p:nvPr/>
          </p:nvSpPr>
          <p:spPr>
            <a:xfrm>
              <a:off x="3619440" y="149076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狮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25"/>
          <p:cNvGrpSpPr/>
          <p:nvPr/>
        </p:nvGrpSpPr>
        <p:grpSpPr>
          <a:xfrm>
            <a:off x="5500800" y="2643120"/>
            <a:ext cx="1571400" cy="1857600"/>
            <a:chOff x="5500800" y="2643120"/>
            <a:chExt cx="1571400" cy="1857600"/>
          </a:xfrm>
        </p:grpSpPr>
        <p:pic>
          <p:nvPicPr>
            <p:cNvPr id="252" name="图片 26" descr="vava0113-img566x600-12338042602512408487-4.jpg"/>
            <p:cNvPicPr/>
            <p:nvPr/>
          </p:nvPicPr>
          <p:blipFill>
            <a:blip r:embed="rId8"/>
            <a:srcRect l="36755" t="47502" r="0" b="0"/>
            <a:stretch/>
          </p:blipFill>
          <p:spPr>
            <a:xfrm>
              <a:off x="5500800" y="2643120"/>
              <a:ext cx="1571400" cy="18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Box 27"/>
            <p:cNvSpPr/>
            <p:nvPr/>
          </p:nvSpPr>
          <p:spPr>
            <a:xfrm>
              <a:off x="5986080" y="350064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28"/>
          <p:cNvGrpSpPr/>
          <p:nvPr/>
        </p:nvGrpSpPr>
        <p:grpSpPr>
          <a:xfrm>
            <a:off x="7286760" y="2571840"/>
            <a:ext cx="1571400" cy="1857240"/>
            <a:chOff x="7286760" y="2571840"/>
            <a:chExt cx="1571400" cy="1857240"/>
          </a:xfrm>
        </p:grpSpPr>
        <p:pic>
          <p:nvPicPr>
            <p:cNvPr id="255" name="图片 29" descr="vava0113-img566x600-12338042602512408487-4.jpg"/>
            <p:cNvPicPr/>
            <p:nvPr/>
          </p:nvPicPr>
          <p:blipFill>
            <a:blip r:embed="rId9"/>
            <a:srcRect l="36755" t="47502" r="0" b="0"/>
            <a:stretch/>
          </p:blipFill>
          <p:spPr>
            <a:xfrm>
              <a:off x="7286760" y="2571840"/>
              <a:ext cx="15714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Box 30"/>
            <p:cNvSpPr/>
            <p:nvPr/>
          </p:nvSpPr>
          <p:spPr>
            <a:xfrm>
              <a:off x="7772040" y="34290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31"/>
          <p:cNvGrpSpPr/>
          <p:nvPr/>
        </p:nvGrpSpPr>
        <p:grpSpPr>
          <a:xfrm>
            <a:off x="285840" y="4643280"/>
            <a:ext cx="1571400" cy="1857600"/>
            <a:chOff x="285840" y="4643280"/>
            <a:chExt cx="1571400" cy="1857600"/>
          </a:xfrm>
        </p:grpSpPr>
        <p:pic>
          <p:nvPicPr>
            <p:cNvPr id="258" name="图片 32" descr="vava0113-img566x600-12338042602512408487-4.jpg"/>
            <p:cNvPicPr/>
            <p:nvPr/>
          </p:nvPicPr>
          <p:blipFill>
            <a:blip r:embed="rId10"/>
            <a:srcRect l="36755" t="47502" r="0" b="0"/>
            <a:stretch/>
          </p:blipFill>
          <p:spPr>
            <a:xfrm>
              <a:off x="285840" y="4643280"/>
              <a:ext cx="1571400" cy="18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Box 33"/>
            <p:cNvSpPr/>
            <p:nvPr/>
          </p:nvSpPr>
          <p:spPr>
            <a:xfrm>
              <a:off x="771120" y="55008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扑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34"/>
          <p:cNvGrpSpPr/>
          <p:nvPr/>
        </p:nvGrpSpPr>
        <p:grpSpPr>
          <a:xfrm>
            <a:off x="2143080" y="4786200"/>
            <a:ext cx="1571760" cy="1857600"/>
            <a:chOff x="2143080" y="4786200"/>
            <a:chExt cx="1571760" cy="1857600"/>
          </a:xfrm>
        </p:grpSpPr>
        <p:pic>
          <p:nvPicPr>
            <p:cNvPr id="261" name="图片 35" descr="vava0113-img566x600-12338042602512408487-4.jpg"/>
            <p:cNvPicPr/>
            <p:nvPr/>
          </p:nvPicPr>
          <p:blipFill>
            <a:blip r:embed="rId11"/>
            <a:srcRect l="36755" t="47502" r="0" b="0"/>
            <a:stretch/>
          </p:blipFill>
          <p:spPr>
            <a:xfrm>
              <a:off x="2143080" y="4786200"/>
              <a:ext cx="1571760" cy="18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36"/>
            <p:cNvSpPr/>
            <p:nvPr/>
          </p:nvSpPr>
          <p:spPr>
            <a:xfrm>
              <a:off x="2628720" y="564372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洋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37"/>
          <p:cNvGrpSpPr/>
          <p:nvPr/>
        </p:nvGrpSpPr>
        <p:grpSpPr>
          <a:xfrm>
            <a:off x="3857760" y="4714920"/>
            <a:ext cx="1571400" cy="1857240"/>
            <a:chOff x="3857760" y="4714920"/>
            <a:chExt cx="1571400" cy="1857240"/>
          </a:xfrm>
        </p:grpSpPr>
        <p:pic>
          <p:nvPicPr>
            <p:cNvPr id="264" name="图片 38" descr="vava0113-img566x600-12338042602512408487-4.jpg"/>
            <p:cNvPicPr/>
            <p:nvPr/>
          </p:nvPicPr>
          <p:blipFill>
            <a:blip r:embed="rId12"/>
            <a:srcRect l="36755" t="47502" r="0" b="0"/>
            <a:stretch/>
          </p:blipFill>
          <p:spPr>
            <a:xfrm>
              <a:off x="3857760" y="4714920"/>
              <a:ext cx="15714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Box 39"/>
            <p:cNvSpPr/>
            <p:nvPr/>
          </p:nvSpPr>
          <p:spPr>
            <a:xfrm>
              <a:off x="4343040" y="55720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40"/>
          <p:cNvGrpSpPr/>
          <p:nvPr/>
        </p:nvGrpSpPr>
        <p:grpSpPr>
          <a:xfrm>
            <a:off x="5643720" y="4643280"/>
            <a:ext cx="1571400" cy="1857600"/>
            <a:chOff x="5643720" y="4643280"/>
            <a:chExt cx="1571400" cy="1857600"/>
          </a:xfrm>
        </p:grpSpPr>
        <p:pic>
          <p:nvPicPr>
            <p:cNvPr id="267" name="图片 41" descr="vava0113-img566x600-12338042602512408487-4.jpg"/>
            <p:cNvPicPr/>
            <p:nvPr/>
          </p:nvPicPr>
          <p:blipFill>
            <a:blip r:embed="rId13"/>
            <a:srcRect l="36755" t="47502" r="0" b="0"/>
            <a:stretch/>
          </p:blipFill>
          <p:spPr>
            <a:xfrm>
              <a:off x="5643720" y="4643280"/>
              <a:ext cx="1571400" cy="18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Box 42"/>
            <p:cNvSpPr/>
            <p:nvPr/>
          </p:nvSpPr>
          <p:spPr>
            <a:xfrm>
              <a:off x="6129000" y="55008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43"/>
          <p:cNvGrpSpPr/>
          <p:nvPr/>
        </p:nvGrpSpPr>
        <p:grpSpPr>
          <a:xfrm>
            <a:off x="7429680" y="4643280"/>
            <a:ext cx="1571400" cy="1857600"/>
            <a:chOff x="7429680" y="4643280"/>
            <a:chExt cx="1571400" cy="1857600"/>
          </a:xfrm>
        </p:grpSpPr>
        <p:pic>
          <p:nvPicPr>
            <p:cNvPr id="270" name="图片 44" descr="vava0113-img566x600-12338042602512408487-4.jpg"/>
            <p:cNvPicPr/>
            <p:nvPr/>
          </p:nvPicPr>
          <p:blipFill>
            <a:blip r:embed="rId14"/>
            <a:srcRect l="36755" t="47502" r="0" b="0"/>
            <a:stretch/>
          </p:blipFill>
          <p:spPr>
            <a:xfrm>
              <a:off x="7429680" y="4643280"/>
              <a:ext cx="1571400" cy="18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Box 45"/>
            <p:cNvSpPr/>
            <p:nvPr/>
          </p:nvSpPr>
          <p:spPr>
            <a:xfrm>
              <a:off x="7914960" y="55008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Calibri"/>
                </a:rPr>
                <a:t>咬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内容占位符 3" descr="1353572737_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圆角矩形标注 4"/>
          <p:cNvSpPr/>
          <p:nvPr/>
        </p:nvSpPr>
        <p:spPr>
          <a:xfrm>
            <a:off x="5643720" y="1214280"/>
            <a:ext cx="3214440" cy="207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5" descr="326580_190000545129_2.jpg"/>
          <p:cNvPicPr/>
          <p:nvPr/>
        </p:nvPicPr>
        <p:blipFill>
          <a:blip r:embed="rId2"/>
          <a:srcRect l="23921" t="14233" r="34353" b="20738"/>
          <a:stretch/>
        </p:blipFill>
        <p:spPr>
          <a:xfrm>
            <a:off x="5857920" y="1357200"/>
            <a:ext cx="2714760" cy="1714680"/>
          </a:xfrm>
          <a:prstGeom prst="rect">
            <a:avLst/>
          </a:prstGeom>
          <a:ln w="0">
            <a:noFill/>
          </a:ln>
        </p:spPr>
      </p:pic>
      <p:pic>
        <p:nvPicPr>
          <p:cNvPr id="276" name="绿色通道(Green Channel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内容占位符 3" descr="1353572737_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圆角矩形标注 4"/>
          <p:cNvSpPr/>
          <p:nvPr/>
        </p:nvSpPr>
        <p:spPr>
          <a:xfrm>
            <a:off x="5643720" y="1214280"/>
            <a:ext cx="3214440" cy="207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6" descr="201312616035922032024.jpg"/>
          <p:cNvPicPr/>
          <p:nvPr/>
        </p:nvPicPr>
        <p:blipFill>
          <a:blip r:embed="rId2"/>
          <a:srcRect l="15312" t="22501" r="16252" b="22501"/>
          <a:stretch/>
        </p:blipFill>
        <p:spPr>
          <a:xfrm>
            <a:off x="6072120" y="1428840"/>
            <a:ext cx="25005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内容占位符 3" descr="1353572737_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圆角矩形标注 4"/>
          <p:cNvSpPr/>
          <p:nvPr/>
        </p:nvSpPr>
        <p:spPr>
          <a:xfrm>
            <a:off x="5643720" y="1214280"/>
            <a:ext cx="3214440" cy="207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图片 5" descr="u=776996816,1986382676&amp;fm=21&amp;gp=0.jpg"/>
          <p:cNvPicPr/>
          <p:nvPr/>
        </p:nvPicPr>
        <p:blipFill>
          <a:blip r:embed="rId2"/>
          <a:srcRect l="0" t="0" r="0" b="5686"/>
          <a:stretch/>
        </p:blipFill>
        <p:spPr>
          <a:xfrm>
            <a:off x="5929200" y="1357200"/>
            <a:ext cx="2676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内容占位符 3" descr="1353572737_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圆角矩形标注 4"/>
          <p:cNvSpPr/>
          <p:nvPr/>
        </p:nvSpPr>
        <p:spPr>
          <a:xfrm>
            <a:off x="5072040" y="214200"/>
            <a:ext cx="2714760" cy="2714760"/>
          </a:xfrm>
          <a:prstGeom prst="wedgeRoundRectCallout">
            <a:avLst>
              <a:gd name="adj1" fmla="val -61935"/>
              <a:gd name="adj2" fmla="val 91138"/>
              <a:gd name="adj3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6"/>
          <p:cNvSpPr/>
          <p:nvPr/>
        </p:nvSpPr>
        <p:spPr>
          <a:xfrm>
            <a:off x="5214960" y="5000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们有壳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们不靠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也不靠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们靠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内容占位符 3" descr="12280774at3vcov3vzict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内容占位符 3" descr=""/>
          <p:cNvPicPr/>
          <p:nvPr/>
        </p:nvPicPr>
        <p:blipFill>
          <a:blip r:embed="rId1"/>
          <a:stretch/>
        </p:blipFill>
        <p:spPr>
          <a:xfrm>
            <a:off x="1268280" y="-299880"/>
            <a:ext cx="4957920" cy="387648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5" descr=""/>
          <p:cNvPicPr/>
          <p:nvPr/>
        </p:nvPicPr>
        <p:blipFill>
          <a:blip r:embed="rId2"/>
          <a:stretch/>
        </p:blipFill>
        <p:spPr>
          <a:xfrm>
            <a:off x="2095560" y="3022560"/>
            <a:ext cx="459576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2438280" y="1571760"/>
            <a:ext cx="292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叠叠自己的小被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洗洗自己的小手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己的事情自己做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样我们才会长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小狮子2"/>
          <p:cNvPicPr/>
          <p:nvPr/>
        </p:nvPicPr>
        <p:blipFill>
          <a:blip r:embed="rId2"/>
          <a:stretch/>
        </p:blipFill>
        <p:spPr>
          <a:xfrm>
            <a:off x="4572000" y="3733920"/>
            <a:ext cx="6248520" cy="500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小狮子4"/>
          <p:cNvPicPr/>
          <p:nvPr/>
        </p:nvPicPr>
        <p:blipFill>
          <a:blip r:embed="rId3"/>
          <a:stretch/>
        </p:blipFill>
        <p:spPr>
          <a:xfrm>
            <a:off x="1523880" y="3076560"/>
            <a:ext cx="4038840" cy="3781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456640" y="1357200"/>
            <a:ext cx="4240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只小狮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9"/>
          <p:cNvGrpSpPr/>
          <p:nvPr/>
        </p:nvGrpSpPr>
        <p:grpSpPr>
          <a:xfrm>
            <a:off x="5547240" y="642960"/>
            <a:ext cx="1106640" cy="1905480"/>
            <a:chOff x="5547240" y="642960"/>
            <a:chExt cx="1106640" cy="1905480"/>
          </a:xfrm>
        </p:grpSpPr>
        <p:sp>
          <p:nvSpPr>
            <p:cNvPr id="56" name="Text Box 7"/>
            <p:cNvSpPr/>
            <p:nvPr/>
          </p:nvSpPr>
          <p:spPr>
            <a:xfrm>
              <a:off x="5558760" y="642960"/>
              <a:ext cx="109512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sh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6"/>
            <p:cNvSpPr/>
            <p:nvPr/>
          </p:nvSpPr>
          <p:spPr>
            <a:xfrm>
              <a:off x="5547240" y="135720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狮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圆角矩形 8"/>
          <p:cNvSpPr/>
          <p:nvPr/>
        </p:nvSpPr>
        <p:spPr>
          <a:xfrm>
            <a:off x="5429160" y="2857680"/>
            <a:ext cx="3214800" cy="64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5572080" y="292896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猪，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狐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ei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428920" y="1928880"/>
            <a:ext cx="635796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一只叫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        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小狮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另一只叫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        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小狮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小狮子4"/>
          <p:cNvPicPr/>
          <p:nvPr/>
        </p:nvPicPr>
        <p:blipFill>
          <a:blip r:embed="rId2"/>
          <a:stretch/>
        </p:blipFill>
        <p:spPr>
          <a:xfrm>
            <a:off x="285840" y="3214800"/>
            <a:ext cx="2705040" cy="321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小狮子2"/>
          <p:cNvPicPr/>
          <p:nvPr/>
        </p:nvPicPr>
        <p:blipFill>
          <a:blip r:embed="rId3"/>
          <a:stretch/>
        </p:blipFill>
        <p:spPr>
          <a:xfrm>
            <a:off x="0" y="642960"/>
            <a:ext cx="6248520" cy="442908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4977000" y="2000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勤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261400" y="4071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懒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小狮子2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000240" y="1854360"/>
            <a:ext cx="7985160" cy="5003640"/>
          </a:xfrm>
          <a:prstGeom prst="rect">
            <a:avLst/>
          </a:prstGeom>
          <a:ln w="0">
            <a:noFill/>
          </a:ln>
        </p:spPr>
      </p:pic>
      <p:sp>
        <p:nvSpPr>
          <p:cNvPr id="68" name="圆角矩形 4"/>
          <p:cNvSpPr/>
          <p:nvPr/>
        </p:nvSpPr>
        <p:spPr>
          <a:xfrm>
            <a:off x="571680" y="4929120"/>
            <a:ext cx="707220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826920" y="4935600"/>
            <a:ext cx="781704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小狮子</a:t>
            </a:r>
            <a:r>
              <a:rPr b="1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整天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滚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、撕、咬，</a:t>
            </a:r>
            <a:r>
              <a:rPr b="1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非常刻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bei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752480" y="18288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828800" y="1752480"/>
            <a:ext cx="594360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ɡ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ǔn   pū   sī   yǎo 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滚 扑 撕 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滚"/>
          <p:cNvPicPr/>
          <p:nvPr/>
        </p:nvPicPr>
        <p:blipFill>
          <a:blip r:embed="rId1"/>
          <a:stretch/>
        </p:blipFill>
        <p:spPr>
          <a:xfrm>
            <a:off x="0" y="-262080"/>
            <a:ext cx="9144000" cy="7120080"/>
          </a:xfrm>
          <a:prstGeom prst="rect">
            <a:avLst/>
          </a:prstGeom>
          <a:ln w="0">
            <a:noFill/>
          </a:ln>
        </p:spPr>
      </p:pic>
      <p:sp>
        <p:nvSpPr>
          <p:cNvPr id="74" name="WordArt 3"/>
          <p:cNvSpPr txBox="1"/>
          <p:nvPr/>
        </p:nvSpPr>
        <p:spPr>
          <a:xfrm>
            <a:off x="6705720" y="1905120"/>
            <a:ext cx="1600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ea"/>
              </a:rPr>
              <a:t>滚</a:t>
            </a:r>
            <a:endParaRPr b="1" lang="en-US" sz="8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ea"/>
              <a:ea typeface="+mn-e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扑"/>
          <p:cNvPicPr/>
          <p:nvPr/>
        </p:nvPicPr>
        <p:blipFill>
          <a:blip r:embed="rId1"/>
          <a:stretch/>
        </p:blipFill>
        <p:spPr>
          <a:xfrm>
            <a:off x="0" y="-157320"/>
            <a:ext cx="9144000" cy="717264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1752480" y="2819520"/>
            <a:ext cx="164808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ea"/>
              </a:rPr>
              <a:t>扑</a:t>
            </a:r>
            <a:endParaRPr b="1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ea"/>
              <a:ea typeface="+mn-e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4:10:31Z</dcterms:created>
  <dc:creator/>
  <dc:description/>
  <dc:language>en-US</dc:language>
  <cp:lastModifiedBy>user</cp:lastModifiedBy>
  <dcterms:modified xsi:type="dcterms:W3CDTF">2016-03-30T14:12:40Z</dcterms:modified>
  <cp:revision>1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