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066-B461-450E-98D7-34F7A28D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A1B-540D-4F43-9E4C-861F8B8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AF7-B00C-4538-A3E7-3D8890C3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BEA-AA11-4503-B31B-60813043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735-F041-438D-8514-AAB36EA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257-C63C-4AF5-9FF1-2532157B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D23-F61D-4F2B-BEC0-EECC3C9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331-1958-4F39-8D85-CC8F914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BE8-1409-4755-A881-7B00ECA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72B-58A9-4185-A059-4AE9DAC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3D3-6FD6-4224-981D-5EA2736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7CF-FF96-40EE-AD3E-31F3F79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C9EA-A5C9-4B2C-B894-E53DB1645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484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.</a:t>
            </a:r>
            <a:r>
              <a:rPr b="0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明天再练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95640" y="549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我已经下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决心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要练习长跑。瞧着吧，将来我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准能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当个长跑运动员。明天我就开始练。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044720" y="304812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864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小鸭子对大家说：“我已经下了决心要练习长跑。瞧着吧，将来我准能当个长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明天我就开始练。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，一天天过去了，小鸭子没认真练过一次长跑！直到今天，小鸭子走起路来，还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摇一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慢腾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476280"/>
            <a:ext cx="8928000" cy="54547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076720" y="3284640"/>
            <a:ext cx="2159280" cy="2016000"/>
            <a:chOff x="5076720" y="3284640"/>
            <a:chExt cx="2159280" cy="2016000"/>
          </a:xfrm>
        </p:grpSpPr>
        <p:sp>
          <p:nvSpPr>
            <p:cNvPr id="75" name=""/>
            <p:cNvSpPr/>
            <p:nvPr/>
          </p:nvSpPr>
          <p:spPr>
            <a:xfrm>
              <a:off x="5076720" y="3284640"/>
              <a:ext cx="215928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76720" y="4293360"/>
              <a:ext cx="2159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56360" y="3284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405080" y="1052640"/>
            <a:ext cx="2158920" cy="2016000"/>
            <a:chOff x="1405080" y="1052640"/>
            <a:chExt cx="2158920" cy="2016000"/>
          </a:xfrm>
        </p:grpSpPr>
        <p:sp>
          <p:nvSpPr>
            <p:cNvPr id="79" name=""/>
            <p:cNvSpPr/>
            <p:nvPr/>
          </p:nvSpPr>
          <p:spPr>
            <a:xfrm>
              <a:off x="1405080" y="1052640"/>
              <a:ext cx="215892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05080" y="2061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4360" y="1052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403280" y="3284640"/>
            <a:ext cx="2158920" cy="2016000"/>
            <a:chOff x="1403280" y="3284640"/>
            <a:chExt cx="2158920" cy="2016000"/>
          </a:xfrm>
        </p:grpSpPr>
        <p:sp>
          <p:nvSpPr>
            <p:cNvPr id="83" name=""/>
            <p:cNvSpPr/>
            <p:nvPr/>
          </p:nvSpPr>
          <p:spPr>
            <a:xfrm>
              <a:off x="1403280" y="3284640"/>
              <a:ext cx="215892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03280" y="4293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82560" y="3284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076720" y="1052640"/>
            <a:ext cx="2159280" cy="2016000"/>
            <a:chOff x="5076720" y="1052640"/>
            <a:chExt cx="2159280" cy="2016000"/>
          </a:xfrm>
        </p:grpSpPr>
        <p:sp>
          <p:nvSpPr>
            <p:cNvPr id="87" name=""/>
            <p:cNvSpPr/>
            <p:nvPr/>
          </p:nvSpPr>
          <p:spPr>
            <a:xfrm>
              <a:off x="5076720" y="1052640"/>
              <a:ext cx="215928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6720" y="2061360"/>
              <a:ext cx="2159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56360" y="1052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926360" y="1125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明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9800" y="10526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再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24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9800" y="32846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当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2548080" cy="316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476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98900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天早上，忽然刮起了大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鸭子缩着脖子蹲在家里，不敢出门。他自言自语地说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：“今天刮风了，明天再练吧！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38360" y="2060640"/>
            <a:ext cx="5705640" cy="479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900000" y="270828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鸭子缩着脖子蹲在家里，不敢出门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言自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说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：“今天刮风了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明天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再练吧！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38360" y="2060640"/>
            <a:ext cx="5705640" cy="479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900000" y="270828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213372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天，天阴沉沉的，小雨一个劲儿地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0"/>
            <a:ext cx="7920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鸭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趴在床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又自言自语地说：“今天下雨了，明天再练吧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5292720" cy="415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2847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341360"/>
            <a:ext cx="82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天，风停了，雨住了，红彤彤的太阳，蓝蓝的天，白云朵朵像船帆，美极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认识我们的新朋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979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íng    zài    yǐ   dā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  再  已  当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ǎo     yán   chuáng   du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  言    床    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0"/>
            <a:ext cx="8353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鸭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兴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拍着翅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叫唤：“今天天气真好，可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痛痛快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玩一玩，明天再练长跑也不晚！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24360" y="2048040"/>
            <a:ext cx="5076720" cy="480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96720" y="3048120"/>
            <a:ext cx="4643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你想对这只小鸭子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79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想说：“小鸭子，别等明天了。如果那样，你是什么也学不会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421000" cy="244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小鸭子对大家说：“我已经下了决心要练习长跑。瞧着吧，将来我准能当个长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明天我就开始练。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，一天天过去了，小鸭子没认真练过一次长跑！直到今天，小鸭子走起路来，还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摇一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慢腾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6000" y="476280"/>
            <a:ext cx="8928000" cy="5454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5076720" y="3284640"/>
            <a:ext cx="2159280" cy="2016000"/>
            <a:chOff x="5076720" y="3284640"/>
            <a:chExt cx="2159280" cy="2016000"/>
          </a:xfrm>
        </p:grpSpPr>
        <p:sp>
          <p:nvSpPr>
            <p:cNvPr id="124" name=""/>
            <p:cNvSpPr/>
            <p:nvPr/>
          </p:nvSpPr>
          <p:spPr>
            <a:xfrm>
              <a:off x="5076720" y="3284640"/>
              <a:ext cx="215928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6720" y="4293360"/>
              <a:ext cx="2159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360" y="3284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05080" y="1052640"/>
            <a:ext cx="2158920" cy="2016000"/>
            <a:chOff x="1405080" y="1052640"/>
            <a:chExt cx="2158920" cy="2016000"/>
          </a:xfrm>
        </p:grpSpPr>
        <p:sp>
          <p:nvSpPr>
            <p:cNvPr id="128" name=""/>
            <p:cNvSpPr/>
            <p:nvPr/>
          </p:nvSpPr>
          <p:spPr>
            <a:xfrm>
              <a:off x="1405080" y="1052640"/>
              <a:ext cx="215892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5080" y="2061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84360" y="1052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03280" y="3284640"/>
            <a:ext cx="2158920" cy="2016000"/>
            <a:chOff x="1403280" y="3284640"/>
            <a:chExt cx="2158920" cy="2016000"/>
          </a:xfrm>
        </p:grpSpPr>
        <p:sp>
          <p:nvSpPr>
            <p:cNvPr id="132" name=""/>
            <p:cNvSpPr/>
            <p:nvPr/>
          </p:nvSpPr>
          <p:spPr>
            <a:xfrm>
              <a:off x="1403280" y="3284640"/>
              <a:ext cx="215892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3280" y="4293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2560" y="3284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076720" y="1052640"/>
            <a:ext cx="2159280" cy="2016000"/>
            <a:chOff x="5076720" y="1052640"/>
            <a:chExt cx="2159280" cy="2016000"/>
          </a:xfrm>
        </p:grpSpPr>
        <p:sp>
          <p:nvSpPr>
            <p:cNvPr id="136" name=""/>
            <p:cNvSpPr/>
            <p:nvPr/>
          </p:nvSpPr>
          <p:spPr>
            <a:xfrm>
              <a:off x="5076720" y="1052640"/>
              <a:ext cx="2159280" cy="20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6720" y="2061360"/>
              <a:ext cx="2159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56360" y="1052640"/>
              <a:ext cx="0" cy="201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926360" y="981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早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9800" y="10526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47240" y="32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99800" y="32846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2548080" cy="316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476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1125360"/>
            <a:ext cx="8424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明  再  已  当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早  言  床  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49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549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549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708280"/>
            <a:ext cx="11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2708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   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692720" y="69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双横线里的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īng           yùn            dòng           yuá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   运   动   员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ǐ           yīn              zhù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ě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始   阴   住   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907920"/>
            <a:ext cx="758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经  运动员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始  阴  住  </a:t>
            </a:r>
            <a:r>
              <a:rPr b="1" lang="zh-CN" sz="9600" spc="-1" strike="noStrike">
                <a:solidFill>
                  <a:srgbClr val="008000"/>
                </a:solidFill>
                <a:latin typeface="Arial"/>
              </a:rPr>
              <a:t>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3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04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3577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28464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284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z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284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ě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Arial"/>
                <a:ea typeface="楷体_GB2312"/>
              </a:rPr>
              <a:t>读一读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720800"/>
            <a:ext cx="838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明天   早上   再练  自言自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床上   已经   开始    运动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阴沉沉    红彤彤   白云朵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Arial"/>
                <a:ea typeface="楷体_GB2312"/>
              </a:rPr>
              <a:t>想一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4170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、小鸭子下的决心是什么？</a:t>
            </a:r>
            <a:r>
              <a:rPr b="0" lang="zh-CN" sz="2400" spc="-1" strike="noStrike">
                <a:solidFill>
                  <a:srgbClr val="9900ff"/>
                </a:solidFill>
                <a:latin typeface="Times New Roman"/>
              </a:rPr>
              <a:t>你从哪一句知道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、小鸭子最后成为了一名长跑运动员吗？</a:t>
            </a:r>
            <a:r>
              <a:rPr b="0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你从哪一句知道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549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我已经下了决心要练习长跑。瞧着吧，将来我准能当个长跑运动员。明天我就开始练。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044720" y="304812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864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 </dc:creator>
  <dc:description> </dc:description>
  <cp:keywords/>
  <dc:language>en-US</dc:language>
  <cp:lastModifiedBy>User</cp:lastModifiedBy>
  <dcterms:modified xsi:type="dcterms:W3CDTF">2016-02-05T12:40:06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