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FCA-6F08-4D21-8AC4-72C78967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F3E-F3D5-45DD-A9F1-E13349A7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170-5965-4C39-AB16-C0CD2A1D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145-BB01-4F6B-8E15-25F4F346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0D7-E479-4559-8BF3-225C3882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551-991F-4113-BAB3-8F00EE34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F2A-AAC5-47F5-B4E6-BBFC03D9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D90-A3BD-4FE9-BC5E-1FC9E958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2D7-C0DE-453B-85D3-CB47A85B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C4B-31C1-46F8-9834-91B7E65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A84-3450-4552-B0D4-A25B883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701-6C78-47B9-B652-667CC09A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BFF6-0C44-47E1-98CB-AD71DFC00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124000" y="1557360"/>
            <a:ext cx="6048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"/>
              </a:rPr>
              <a:t>识字四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1125360"/>
            <a:ext cx="9144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驰    千    庄    池             苞   泡     跑    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养   虾    茶     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76360" y="2205000"/>
            <a:ext cx="59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千里  庄稼  鱼虾  沏茶  脚步  响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87280" y="836640"/>
            <a:ext cx="7128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马能行千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土能种庄稼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人不是你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水能养鱼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27640" y="8366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20606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00720" y="3284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8136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24720" y="242100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7280" y="836640"/>
            <a:ext cx="7128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马能行千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土能种庄稼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人不是你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水能养鱼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3429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0000" y="465300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20000" y="83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1484280"/>
            <a:ext cx="1368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2852640"/>
            <a:ext cx="165564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724360" y="1267920"/>
            <a:ext cx="144000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724360" y="2781360"/>
            <a:ext cx="1440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00000" y="620640"/>
            <a:ext cx="633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草能开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水能沏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脚走得快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火响声大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620640"/>
            <a:ext cx="9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2060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342900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479736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2565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620640"/>
            <a:ext cx="633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草能开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水能沏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脚走得快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有火响声大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335772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620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472428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1989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1413000"/>
            <a:ext cx="223200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148360" y="1197000"/>
            <a:ext cx="201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3933720"/>
            <a:ext cx="223200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148360" y="2708280"/>
            <a:ext cx="223200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403280" y="1168560"/>
          <a:ext cx="1656000" cy="1726920"/>
        </p:xfrm>
        <a:graphic>
          <a:graphicData uri="http://schemas.openxmlformats.org/drawingml/2006/table">
            <a:tbl>
              <a:tblPr/>
              <a:tblGrid>
                <a:gridCol w="892080"/>
                <a:gridCol w="7639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867280" y="1197000"/>
          <a:ext cx="1584360" cy="16556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476360" y="3429000"/>
          <a:ext cx="1655640" cy="1655640"/>
        </p:xfrm>
        <a:graphic>
          <a:graphicData uri="http://schemas.openxmlformats.org/drawingml/2006/table">
            <a:tbl>
              <a:tblPr/>
              <a:tblGrid>
                <a:gridCol w="863280"/>
                <a:gridCol w="79236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547640" y="1197000"/>
            <a:ext cx="19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796000" y="3213000"/>
          <a:ext cx="1655640" cy="1726920"/>
        </p:xfrm>
        <a:graphic>
          <a:graphicData uri="http://schemas.openxmlformats.org/drawingml/2006/table">
            <a:tbl>
              <a:tblPr/>
              <a:tblGrid>
                <a:gridCol w="828360"/>
                <a:gridCol w="82728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867280" y="119700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342900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35772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379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151600"/>
            <a:ext cx="241128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03280" y="1168560"/>
          <a:ext cx="1656000" cy="1726920"/>
        </p:xfrm>
        <a:graphic>
          <a:graphicData uri="http://schemas.openxmlformats.org/drawingml/2006/table">
            <a:tbl>
              <a:tblPr/>
              <a:tblGrid>
                <a:gridCol w="892080"/>
                <a:gridCol w="76392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867280" y="1197000"/>
          <a:ext cx="1584360" cy="165564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476360" y="3429000"/>
          <a:ext cx="1655640" cy="1655640"/>
        </p:xfrm>
        <a:graphic>
          <a:graphicData uri="http://schemas.openxmlformats.org/drawingml/2006/table">
            <a:tbl>
              <a:tblPr/>
              <a:tblGrid>
                <a:gridCol w="863280"/>
                <a:gridCol w="79236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1547640" y="1197000"/>
            <a:ext cx="19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苞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96000" y="3213000"/>
          <a:ext cx="1655640" cy="1726920"/>
        </p:xfrm>
        <a:graphic>
          <a:graphicData uri="http://schemas.openxmlformats.org/drawingml/2006/table">
            <a:tbl>
              <a:tblPr/>
              <a:tblGrid>
                <a:gridCol w="828360"/>
                <a:gridCol w="82728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867280" y="119700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342900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335772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236000" y="5000760"/>
            <a:ext cx="1908000" cy="185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7:26:03Z</dcterms:created>
  <dc:creator>  </dc:creator>
  <dc:description> </dc:description>
  <cp:keywords/>
  <dc:language>en-US</dc:language>
  <cp:lastModifiedBy>User</cp:lastModifiedBy>
  <dcterms:modified xsi:type="dcterms:W3CDTF">2016-02-05T12:38:51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