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672-71EA-4C77-B39D-ABFF3C0C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4BD-AC48-4ED7-89E7-0672698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0A4-231C-4053-983C-A16A6641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2F-F476-4D4F-8247-7B333CFA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03B-3E00-4C64-9076-C66C53E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F46-5FC1-4D0B-BE9B-7898253D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DF0-4C5B-4794-80AE-8A77D25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46D-6F1A-4A5C-AB02-E21C664C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30C-E759-4B8C-AE51-3191596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9EC-2F6F-4E47-8756-EC9968B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D5D-3FE2-4C40-837A-4D689C9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9F0-AA08-4CCC-84C4-EBBAFBC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4DA-89D3-495D-986F-0DABA899D6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&#19968;&#24180;&#32423;&#19979;&#31532;&#19971;&#21333;&#20803;&#35828;&#35838;&#29579;&#25307;&#24351;.ppt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951360" y="984240"/>
            <a:ext cx="39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26   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小白兔和小灰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665440" y="3211560"/>
            <a:ext cx="1717560" cy="246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721560" y="3146400"/>
            <a:ext cx="19238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" descr=""/>
          <p:cNvPicPr/>
          <p:nvPr/>
        </p:nvPicPr>
        <p:blipFill>
          <a:blip r:embed="rId1"/>
          <a:stretch/>
        </p:blipFill>
        <p:spPr>
          <a:xfrm>
            <a:off x="6084720" y="-106200"/>
            <a:ext cx="5213520" cy="521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"/>
          <p:cNvPicPr/>
          <p:nvPr/>
        </p:nvPicPr>
        <p:blipFill>
          <a:blip r:embed="rId2"/>
          <a:stretch/>
        </p:blipFill>
        <p:spPr>
          <a:xfrm>
            <a:off x="230040" y="-106200"/>
            <a:ext cx="5213520" cy="521316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"/>
          <p:cNvSpPr/>
          <p:nvPr/>
        </p:nvSpPr>
        <p:spPr>
          <a:xfrm>
            <a:off x="1512000" y="54180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小白兔种白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"/>
          <p:cNvSpPr/>
          <p:nvPr/>
        </p:nvSpPr>
        <p:spPr>
          <a:xfrm>
            <a:off x="7366680" y="54180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小灰兔吃白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1562040" y="1479600"/>
            <a:ext cx="90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144440" y="1647720"/>
            <a:ext cx="9882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Calibri"/>
                <a:ea typeface="楷体"/>
              </a:rPr>
              <a:t>小白兔收下菜子，小灰兔收下白菜，它们回到家后又是怎么做的呢？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Calibri"/>
                <a:ea typeface="楷体"/>
              </a:rPr>
              <a:t>请你再到课文中找一找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1562040" y="1479600"/>
            <a:ext cx="90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44440" y="1647720"/>
            <a:ext cx="9882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Calibri"/>
                <a:ea typeface="楷体"/>
              </a:rPr>
              <a:t>小白兔回到家，把地翻松了，种上菜子。</a:t>
            </a:r>
            <a:r>
              <a:rPr b="0" lang="zh-CN" sz="4200" spc="-1" strike="noStrike">
                <a:solidFill>
                  <a:srgbClr val="000000"/>
                </a:solidFill>
                <a:latin typeface="Calibri"/>
                <a:ea typeface="楷体"/>
              </a:rPr>
              <a:t>读一读这句话，你从哪里感受到小白兔不容易？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92400" y="237960"/>
            <a:ext cx="4187880" cy="68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把地翻松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把书打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把窗户打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把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＿＿＿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把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＿＿＿＿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38120" y="484200"/>
            <a:ext cx="9880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白菜长出来了。小白兔常常给白菜浇水，施肥，拔草，捉虫。白菜很快就长大了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1454040" y="1571760"/>
            <a:ext cx="926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白菜长出来了。小白兔常常给白菜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浇水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施肥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拔草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捉虫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。白菜很快就长大了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454040" y="1571760"/>
            <a:ext cx="926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白菜长出来了。小白兔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常常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给白菜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浇水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施肥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拔草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捉虫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。白菜很快就长大了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5"/>
          <p:cNvSpPr/>
          <p:nvPr/>
        </p:nvSpPr>
        <p:spPr>
          <a:xfrm>
            <a:off x="3556080" y="2489040"/>
            <a:ext cx="1547640" cy="91440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0" y="558720"/>
            <a:ext cx="5597640" cy="559908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5913360" y="8190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白菜长出来了。小白兔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常常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给白菜浇水，施肥，拔草，捉虫。白菜很快就长大了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0" y="558720"/>
            <a:ext cx="5597640" cy="559908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5913360" y="8190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白菜长出来了。小白兔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常常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给白菜浇水，施肥，拔草，捉虫。白菜很快就长大了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儿童歌曲 - 劳动最光荣" descr=""/>
          <p:cNvPicPr/>
          <p:nvPr/>
        </p:nvPicPr>
        <p:blipFill>
          <a:blip r:embed="rId2"/>
          <a:stretch/>
        </p:blipFill>
        <p:spPr>
          <a:xfrm>
            <a:off x="6637320" y="521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06. Sacrifice 奉献" descr=""/>
          <p:cNvPicPr/>
          <p:nvPr/>
        </p:nvPicPr>
        <p:blipFill>
          <a:blip r:embed="rId3"/>
          <a:stretch/>
        </p:blipFill>
        <p:spPr>
          <a:xfrm>
            <a:off x="9107640" y="521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323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4707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619128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6742080" y="1197000"/>
            <a:ext cx="534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他不干活了，饿了就吃老山羊送的白菜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"/>
          <p:cNvSpPr/>
          <p:nvPr/>
        </p:nvSpPr>
        <p:spPr>
          <a:xfrm>
            <a:off x="1728720" y="3484440"/>
            <a:ext cx="7980480" cy="2562840"/>
          </a:xfrm>
          <a:prstGeom prst="rect">
            <a:avLst/>
          </a:prstGeom>
          <a:solidFill>
            <a:srgbClr val="f8f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翻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 种菜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浇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施肥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 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ject 56" descr=""/>
          <p:cNvPicPr/>
          <p:nvPr/>
        </p:nvPicPr>
        <p:blipFill>
          <a:blip r:embed="rId1"/>
          <a:stretch/>
        </p:blipFill>
        <p:spPr>
          <a:xfrm>
            <a:off x="299880" y="252360"/>
            <a:ext cx="1990800" cy="285912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2290680" y="600120"/>
            <a:ext cx="8826480" cy="2562840"/>
          </a:xfrm>
          <a:prstGeom prst="rect">
            <a:avLst/>
          </a:prstGeom>
          <a:solidFill>
            <a:srgbClr val="f8f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给  一车白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回  饥  时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吃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ject 57" descr=""/>
          <p:cNvPicPr/>
          <p:nvPr/>
        </p:nvPicPr>
        <p:blipFill>
          <a:blip r:embed="rId2"/>
          <a:stretch/>
        </p:blipFill>
        <p:spPr>
          <a:xfrm>
            <a:off x="9510840" y="3403440"/>
            <a:ext cx="209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2276640" y="-76320"/>
            <a:ext cx="6624360" cy="3780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914400" y="3409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灰兔很奇怪，问道：“小白兔，你的菜是哪儿来的？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497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白兔说：“是我自己种的。只有自己种，才有吃不完的菜。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771480" y="233280"/>
            <a:ext cx="1060776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706400" y="13082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灰兔很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奇怪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问道：“小白兔，你的菜是哪儿来的？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06400" y="340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白兔说：“是我自己种的。只有自己种，才有吃不完的菜。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09800" y="5875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只有自己种，才有吃不完的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865160" y="4014720"/>
            <a:ext cx="6572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只有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才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_____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909800" y="1635120"/>
            <a:ext cx="75898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只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爱劳动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才会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有收获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65160" y="2865600"/>
            <a:ext cx="828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只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刻苦学习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才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ject 28" descr=""/>
          <p:cNvPicPr/>
          <p:nvPr/>
        </p:nvPicPr>
        <p:blipFill>
          <a:blip r:embed="rId1"/>
          <a:stretch/>
        </p:blipFill>
        <p:spPr>
          <a:xfrm>
            <a:off x="7986600" y="3294000"/>
            <a:ext cx="2475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">
            <a:hlinkClick r:id="rId1"/>
          </p:cNvPr>
          <p:cNvSpPr/>
          <p:nvPr/>
        </p:nvSpPr>
        <p:spPr>
          <a:xfrm>
            <a:off x="1195560" y="2998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续编小故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1260360" y="1523880"/>
            <a:ext cx="965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灰兔听了小白兔的话会怎么想，怎么做呢？请同学们发挥想象力以小组为单位，以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今天的小灰兔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为题把这个故事编下去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"/>
          <p:cNvSpPr/>
          <p:nvPr/>
        </p:nvSpPr>
        <p:spPr>
          <a:xfrm>
            <a:off x="3219480" y="1743120"/>
            <a:ext cx="594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  浇  施  肥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饿  候  挑  担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413880" y="14191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4829040" y="309420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hòu</a:t>
            </a:r>
            <a:r>
              <a:rPr b="0" lang="en-US" sz="1800" spc="-1" strike="noStrike">
                <a:solidFill>
                  <a:srgbClr val="000000"/>
                </a:solidFill>
                <a:latin typeface="DotumChe"/>
                <a:ea typeface="DotumCh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812120" y="1419120"/>
            <a:ext cx="8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j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473640" y="3063960"/>
            <a:ext cx="6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è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7967520" y="1162080"/>
            <a:ext cx="6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fé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7963200" y="3081240"/>
            <a:ext cx="10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DotumChe"/>
                <a:ea typeface="DotumCh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6382800" y="1419120"/>
            <a:ext cx="8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shī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1"/>
          <p:cNvSpPr/>
          <p:nvPr/>
        </p:nvSpPr>
        <p:spPr>
          <a:xfrm>
            <a:off x="6385320" y="3094200"/>
            <a:ext cx="8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otumChe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"/>
          <p:cNvSpPr/>
          <p:nvPr/>
        </p:nvSpPr>
        <p:spPr>
          <a:xfrm>
            <a:off x="2201760" y="1484280"/>
            <a:ext cx="7767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  浇  施  肥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饿  候  挑  担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385920" y="893880"/>
            <a:ext cx="1003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自读要求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、请自由朗读课文，注音读准字音，读通句子，    不填字、不掉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、给每个自然段标上序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373640" y="4643280"/>
            <a:ext cx="1028520" cy="147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318360" y="4794120"/>
            <a:ext cx="12128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2"/>
          <p:cNvSpPr/>
          <p:nvPr/>
        </p:nvSpPr>
        <p:spPr>
          <a:xfrm>
            <a:off x="2160720" y="638280"/>
            <a:ext cx="836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请同学们认真读课文，边读边想：小白兔和小灰兔的表现有什么相同的地方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317520" y="30240"/>
            <a:ext cx="6939000" cy="396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504800" y="3822840"/>
            <a:ext cx="946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灰兔收下了，说：“谢谢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17520" y="4792680"/>
            <a:ext cx="896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白兔说： “我不要白菜，请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给我一些菜子吧。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8484480" y="104148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帮助别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乐于助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317520" y="30240"/>
            <a:ext cx="6939000" cy="396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504800" y="3822840"/>
            <a:ext cx="946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灰兔收下了，说：“谢谢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7520" y="4792680"/>
            <a:ext cx="896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白兔说： “我不要白菜，请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您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给我一些菜子吧。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7"/>
          <p:cNvSpPr/>
          <p:nvPr/>
        </p:nvSpPr>
        <p:spPr>
          <a:xfrm>
            <a:off x="10706760" y="329760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有礼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1481040" y="1119240"/>
            <a:ext cx="836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请同学们想一想，小灰兔和小白兔有哪些不同的地方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5:31:07Z</dcterms:created>
  <dc:creator/>
  <dc:description/>
  <dc:language>en-US</dc:language>
  <cp:lastModifiedBy>user</cp:lastModifiedBy>
  <dcterms:modified xsi:type="dcterms:W3CDTF">2016-03-30T14:22:5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