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3.png" ContentType="image/png"/>
  <Override PartName="/ppt/media/image10.gif" ContentType="image/gi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0EF-A92E-4E85-A71E-404F73CC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827-8439-4AA5-8341-82AF9B19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89B-D467-48D6-92A2-08F37386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477-304D-43F2-8DCC-98208918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6E37-1750-472E-9D89-5C93F93B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508D-B5F4-4E58-9B87-5F24A06F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E0BF-ACD6-4928-8AF1-75287DE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C45-4B28-4639-AD60-8868A891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420-7D0F-4C82-BCEE-00CDBBCC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FF69-D739-4B09-8416-77D69325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0A68-86EF-4372-89E6-F28058B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6EC-9573-4558-84B8-087DB9EB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22A-8B99-48BD-98B3-9F49A96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EBA8-47F2-489D-884C-581FD9E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5523-DEF7-4F52-A229-761B84D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C413-0755-4DC8-AC2A-A36D1AAF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240-C9B0-44FF-9D49-5E07C884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284-EE1E-4D0B-8775-DEAE7AC0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8E0-C810-438B-B69A-3F7ED0E5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6EA-712F-4589-B650-C9254C5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B14-511A-4646-83BF-98D8F0C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E8D-1701-47ED-98EA-A454BE3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303-5B27-49DD-9D1C-D42161B8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C1F-1A12-4590-A1CD-9DB57BD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D0DD-393F-4C1D-BAA3-C6ED4D9BB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2B8-D9DE-4F8F-87E7-6EC14441DD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00CF-76AF-4738-A317-CE4B48A68E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{8B443129-8115-43C6-8D81-DF4AFAB79D6D}"/>
          <p:cNvPicPr/>
          <p:nvPr/>
        </p:nvPicPr>
        <p:blipFill>
          <a:blip r:embed="rId2"/>
          <a:stretch/>
        </p:blipFill>
        <p:spPr>
          <a:xfrm>
            <a:off x="1986120" y="2585880"/>
            <a:ext cx="5089320" cy="34974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/>
          <p:nvPr/>
        </p:nvSpPr>
        <p:spPr>
          <a:xfrm>
            <a:off x="1752480" y="1268280"/>
            <a:ext cx="5327640" cy="112716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55640" y="4190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4457880" y="6130800"/>
            <a:ext cx="311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3bedd6ddfb229c2c5882dd29"/>
          <p:cNvPicPr/>
          <p:nvPr/>
        </p:nvPicPr>
        <p:blipFill>
          <a:blip r:embed="rId2"/>
          <a:stretch/>
        </p:blipFill>
        <p:spPr>
          <a:xfrm>
            <a:off x="182520" y="138240"/>
            <a:ext cx="8782200" cy="65847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-750960" y="403200"/>
            <a:ext cx="409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楷体_GB2312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4000" y="2492280"/>
            <a:ext cx="8137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这是一只</a:t>
            </a:r>
            <a:r>
              <a:rPr b="1" lang="zh-CN" sz="48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的小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这是一只</a:t>
            </a:r>
            <a:r>
              <a:rPr b="1" lang="zh-CN" sz="48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的獐子</a:t>
            </a:r>
            <a:r>
              <a:rPr b="0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3bedd6ddfb229c2c5882dd29"/>
          <p:cNvPicPr/>
          <p:nvPr/>
        </p:nvPicPr>
        <p:blipFill>
          <a:blip r:embed="rId2"/>
          <a:stretch/>
        </p:blipFill>
        <p:spPr>
          <a:xfrm>
            <a:off x="182520" y="138240"/>
            <a:ext cx="8782200" cy="6584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564000" y="189000"/>
            <a:ext cx="3672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Arial"/>
                <a:ea typeface="楷体_GB2312"/>
              </a:rPr>
              <a:t>小结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24000" y="2421000"/>
            <a:ext cx="71928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无论做什么事情，都要有坚定的信念，并坚持到底，最后一定会取得成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Fr6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"/>
          <p:cNvSpPr/>
          <p:nvPr/>
        </p:nvSpPr>
        <p:spPr>
          <a:xfrm>
            <a:off x="1763640" y="765000"/>
            <a:ext cx="1371600" cy="6098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403280" y="17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你想对这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獐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说些什么呢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403280" y="2781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你想对这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小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说些什么呢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2199960"/>
            <a:ext cx="867564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少壮不努力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老大徒伤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对着困难摇头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就无力在胜利面前微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灰心生失望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失望生动摇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动摇生失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有志者事竟成。</a:t>
            </a:r>
            <a:r>
              <a:rPr b="1" lang="en-US" sz="3600" spc="-1" strike="noStrike">
                <a:solidFill>
                  <a:srgbClr val="99cc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aeryhruol"/>
          <p:cNvPicPr/>
          <p:nvPr/>
        </p:nvPicPr>
        <p:blipFill>
          <a:blip r:embed="rId2"/>
          <a:stretch/>
        </p:blipFill>
        <p:spPr>
          <a:xfrm>
            <a:off x="6443640" y="98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/>
          <p:nvPr/>
        </p:nvSpPr>
        <p:spPr>
          <a:xfrm>
            <a:off x="2556000" y="2205000"/>
            <a:ext cx="4454280" cy="1528920"/>
          </a:xfrm>
          <a:custGeom>
            <a:avLst/>
            <a:gdLst>
              <a:gd name="textAreaLeft" fmla="*/ 0 w 4454280"/>
              <a:gd name="textAreaRight" fmla="*/ 4454640 w 4454280"/>
              <a:gd name="textAreaTop" fmla="*/ 0 h 1528920"/>
              <a:gd name="textAreaBottom" fmla="*/ 1529280 h 15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16"/>
          <p:cNvPicPr/>
          <p:nvPr/>
        </p:nvPicPr>
        <p:blipFill>
          <a:blip r:embed="rId2"/>
          <a:stretch/>
        </p:blipFill>
        <p:spPr>
          <a:xfrm>
            <a:off x="8317080" y="6432480"/>
            <a:ext cx="433080" cy="4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1547640" y="4437000"/>
            <a:ext cx="645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moban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hangye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er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beijing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tubiao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xiaza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liao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kejian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hit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aoan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n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2998800"/>
            <a:ext cx="9144000" cy="1366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"/>
          <p:cNvPicPr/>
          <p:nvPr/>
        </p:nvPicPr>
        <p:blipFill>
          <a:blip r:embed="rId1"/>
          <a:stretch/>
        </p:blipFill>
        <p:spPr>
          <a:xfrm>
            <a:off x="820800" y="314280"/>
            <a:ext cx="7711920" cy="2683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3097080"/>
            <a:ext cx="410364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png-0644"/>
          <p:cNvPicPr/>
          <p:nvPr/>
        </p:nvPicPr>
        <p:blipFill>
          <a:blip r:embed="rId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ng-0652"/>
          <p:cNvPicPr/>
          <p:nvPr/>
        </p:nvPicPr>
        <p:blipFill>
          <a:blip r:embed="rId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r6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187280" y="1700280"/>
            <a:ext cx="655344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减法     汗淋淋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劝说     抹汗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剩下     坚持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成功     流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/>
          <p:nvPr/>
        </p:nvSpPr>
        <p:spPr>
          <a:xfrm>
            <a:off x="1042920" y="1052640"/>
            <a:ext cx="3886200" cy="4572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小鹿住在河边，他要到对岸去，就得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[děi]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走很远的路，从水浅的地方过河。獐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zhānɡ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子住在半山腰，他要下山，就得花很多时间才能绕到山脚下。小鹿想造桥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qiáo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，獐子想铺路。可是一想，完成这些工作得花整整一年的时间，他们都退却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有一天，小鹿终于下定决心，开始造桥了。他从太阳升起一直忙到月亮出来，累得浑身汗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hàn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淋淋的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獐子见了，劝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quàn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他说：“别干了，这要花整整一年的时间呢！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小鹿抹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mǒ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抹汗说：“不，不到一年了，只剩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shènɡ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下三百六十四天了！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“可是，我看不出三百六十四天和三百六十五天有多大的区别呀？”獐子不解地问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“区别大着呢！从今天开始，我要坚持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jiānchí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做减法了，减去一天，就向成功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ɡōnɡ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靠近一步！”小鹿很坚定地回答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獐子摇摇头走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日子一天天过去，小鹿的减法做完了。它的门前有了一座结实的桥，可以很方便地过河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　　獐子呢，随着岁月的流逝（</a:t>
            </a:r>
            <a:r>
              <a:rPr b="0" lang="en-US" sz="2100" spc="-1" strike="noStrike">
                <a:solidFill>
                  <a:srgbClr val="000000"/>
                </a:solidFill>
                <a:latin typeface="宋体"/>
              </a:rPr>
              <a:t>shì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</a:rPr>
              <a:t>），他感到下山越来越费力了。“铺路吧！”獐子有时想，但想到得花一年的时间，他又发愁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7124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</a:rPr>
              <a:t>生字教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减    桥    汗    劝    抹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宋体"/>
              <a:buChar char="•"/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剩    坚    持    功    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5"/>
          <p:cNvSpPr/>
          <p:nvPr/>
        </p:nvSpPr>
        <p:spPr>
          <a:xfrm>
            <a:off x="3579840" y="31399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915920"/>
            <a:ext cx="8134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0099ff"/>
                </a:solidFill>
                <a:latin typeface="Arial"/>
              </a:rPr>
              <a:t>减法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0099ff"/>
                </a:solidFill>
                <a:latin typeface="Arial"/>
              </a:rPr>
              <a:t>汗淋淋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99ff"/>
                </a:solidFill>
                <a:latin typeface="Arial"/>
              </a:rPr>
              <a:t>抹汗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开始       剩下         退却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99ff"/>
                </a:solidFill>
                <a:latin typeface="Arial"/>
              </a:rPr>
              <a:t>坚持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99ff"/>
                </a:solidFill>
                <a:latin typeface="Arial"/>
              </a:rPr>
              <a:t>成功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99ff"/>
                </a:solidFill>
                <a:latin typeface="Arial"/>
              </a:rPr>
              <a:t>方便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流逝       浑身         造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84360" y="476280"/>
            <a:ext cx="33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词语教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284720" y="52624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0720" y="115920"/>
            <a:ext cx="30556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獐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00360" y="1413000"/>
            <a:ext cx="4174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99"/>
              </a:buClr>
              <a:buSzPct val="25000"/>
              <a:buFont typeface="宋体"/>
              <a:buChar char="•"/>
            </a:pP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一种哺乳动物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体形像鹿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但身体矮小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身体上是黄褐色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腹部白色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毛较粗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没有角</a:t>
            </a:r>
            <a:r>
              <a:rPr b="1" lang="en-US" sz="4000" spc="-1" strike="noStrike">
                <a:solidFill>
                  <a:srgbClr val="ff6699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宋体"/>
              </a:rPr>
              <a:t>生长在长江流域和福建一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006715152832"/>
          <p:cNvPicPr/>
          <p:nvPr/>
        </p:nvPicPr>
        <p:blipFill>
          <a:blip r:embed="rId2"/>
          <a:stretch/>
        </p:blipFill>
        <p:spPr>
          <a:xfrm>
            <a:off x="826920" y="3573360"/>
            <a:ext cx="3168720" cy="210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11491"/>
          <p:cNvPicPr/>
          <p:nvPr/>
        </p:nvPicPr>
        <p:blipFill>
          <a:blip r:embed="rId3"/>
          <a:stretch/>
        </p:blipFill>
        <p:spPr>
          <a:xfrm>
            <a:off x="1042920" y="7650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4CD-B35B-44F0-B21E-F80291EAC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83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6080"/>
            <a:ext cx="395892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他从太阳升起</a:t>
            </a: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一直</a:t>
            </a: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忙到月亮出来</a:t>
            </a:r>
            <a:r>
              <a:rPr b="1" lang="en-US" sz="4800" spc="-1" strike="noStrike">
                <a:solidFill>
                  <a:srgbClr val="9900cc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累得</a:t>
            </a: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浑身汗淋淋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06042813270924529"/>
          <p:cNvPicPr/>
          <p:nvPr/>
        </p:nvPicPr>
        <p:blipFill>
          <a:blip r:embed="rId2"/>
          <a:stretch/>
        </p:blipFill>
        <p:spPr>
          <a:xfrm>
            <a:off x="5219640" y="1413000"/>
            <a:ext cx="24415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41749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仿宋_GB2312"/>
                <a:ea typeface="仿宋_GB2312"/>
              </a:rPr>
              <a:t>    </a:t>
            </a:r>
            <a:r>
              <a:rPr b="1" lang="zh-CN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从今天开始</a:t>
            </a:r>
            <a:r>
              <a:rPr b="1" lang="en-US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,</a:t>
            </a:r>
            <a:r>
              <a:rPr b="1" lang="zh-CN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我要坚持做减法了</a:t>
            </a:r>
            <a:r>
              <a:rPr b="1" lang="en-US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,</a:t>
            </a:r>
            <a:r>
              <a:rPr b="1" lang="zh-CN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减去一天</a:t>
            </a:r>
            <a:r>
              <a:rPr b="1" lang="en-US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,</a:t>
            </a:r>
            <a:r>
              <a:rPr b="1" lang="zh-CN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就向成功靠近一步</a:t>
            </a:r>
            <a:r>
              <a:rPr b="1" lang="en-US" sz="6000" spc="-1" strike="noStrike">
                <a:solidFill>
                  <a:srgbClr val="ff00ff"/>
                </a:solidFill>
                <a:latin typeface="新宋体"/>
                <a:ea typeface="新宋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0f4e22593e8604fa9c8204d2"/>
          <p:cNvPicPr/>
          <p:nvPr/>
        </p:nvPicPr>
        <p:blipFill>
          <a:blip r:embed="rId2"/>
          <a:stretch/>
        </p:blipFill>
        <p:spPr>
          <a:xfrm>
            <a:off x="5076720" y="1125360"/>
            <a:ext cx="336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r60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/>
          <p:nvPr/>
        </p:nvSpPr>
        <p:spPr>
          <a:xfrm>
            <a:off x="971640" y="105264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9162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鹿累得浑身汗淋淋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5920" y="3068640"/>
            <a:ext cx="730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累得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15920" y="4292640"/>
            <a:ext cx="730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得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-144720" y="314172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11148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6348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89080" y="429264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747880" y="42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脸都红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832480" y="306864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浑身汗淋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4:12:00Z</dcterms:created>
  <dc:creator>第一PPT模板网-WWW.1PPT.COM</dc:creator>
  <dc:description>第一PPT模板网-WWW.1PPT.COM</dc:description>
  <cp:keywords>第一PPT模板网-WWW.1PPT.COM</cp:keywords>
  <dc:language>en-US</dc:language>
  <cp:lastModifiedBy>123</cp:lastModifiedBy>
  <dcterms:modified xsi:type="dcterms:W3CDTF">2017-04-07T07:10:55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37</vt:lpwstr>
  </property>
</Properties>
</file>