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5404-CE27-4097-8551-7726CCBF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C97-AFE2-4F8E-BBDD-608BF243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4A7DA-4BDA-40C0-B0B9-A63892BA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3088C-694F-4582-B1B3-013E8C35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51F57-2CDE-41DE-8A5C-52DA21A8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80B87-3E9D-4D8E-A894-7AE57B38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C5467-BFDA-43C5-A9BA-7E5D81F3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04009-472F-4D2D-9EA8-010A1AAC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CCF67-6F0F-47F7-A9CD-527CCA12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362D8-5BB0-4642-B7DB-10251948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30A9C-1904-49A3-8B58-5AD75B07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E571A-8B5A-4CF0-BAB7-9401B702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BE4-C646-45A9-AE75-E8171BB3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DC7C6-AFF4-43E0-BBC8-BA005C42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58920-7208-411B-A068-C7162838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C7755-C918-43BF-9C37-E28BF3B3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DE377-9BC2-4CFB-9177-AB8F44E5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2D884-0046-4D2C-A040-FE87B989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66978-3155-47F0-9749-FEECBA62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B76CB-8CC9-4C30-B34B-BB2351F7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EB0DD-F7A7-4080-96BE-88377426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E487B-D156-434C-B10C-E4EDE888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77E4B-0149-4D6B-8335-0F29D251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7C86-6B3E-46F3-8328-19AC954A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EF167-8855-49AC-8090-5AFBB137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64011-DAF3-41BF-B95A-9A97EF5E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A1778-45D2-4063-AB49-8553261E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9B242-6BB0-47DF-8AEE-B9255E5B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42DA4-2985-4346-9FF5-131DEE18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E6531-263E-4CAC-8D85-0966F724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900DE-B82A-4465-BEFA-D7C28DFA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BD6D5-E427-4836-AE6D-8155758A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238FB-2935-41E9-B59B-9FBACE33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A7D99-B234-454A-94DB-52587B4A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CADA-A83C-4CE5-A8B6-CAAC7ECE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87FFD-9BA5-4C4E-8036-D26FCAD7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71A6C-9402-48B4-8EA7-534289CE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9F65E-7B8F-4877-AC56-649AF9F8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4C805-48E9-4357-AE77-A4863E2F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12A5E-6BB1-4D23-93B1-CDE75F8A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07909-9ED6-407F-8E02-029BBE4C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409BB-257F-4A54-A60A-96D2F170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CA309-CAE4-4050-90F5-A0DEBF46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CE1B7-B2DD-4C11-AA1A-6031B719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39B9C-E5D7-4041-A39C-1860941C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FC5B-3DAB-4DB7-99E1-5DB02630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B9193-8BF7-4A4D-9EAF-D0AC4622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DB4F3-A0AD-4776-B3AA-1674DF7E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9EBAD-4641-4649-B5BF-3FAEE70B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3FED6-B44C-4359-B80F-33AF392C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E9F4A-C554-450F-95BE-1F13E046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56E20-11F9-4AF6-997B-DC1F8C90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F1E1C-CD7F-4635-83EA-169CA362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27096-1522-4B12-BF83-F39FE18B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E9A64-1C96-4F88-B974-58D91433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A9A23-7763-47A4-B01D-BE649C13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4B73-A010-4223-89D8-86F53B6B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298D9-A9B8-4FA1-94F6-DF335DC0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3D5DE-7964-4DA5-990C-BF2FB414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E9936-AE54-4387-ACB4-8776EDD5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6F3CC-0689-48B5-8E62-14A0EDF2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D7566-38A4-43B9-A35A-E1B3AB7F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C8D5C-28CC-43A6-89AD-02EA9E4E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6CBCE-5CCB-440F-A147-255900B2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B3BE-0B2D-4153-9FFA-B74A4498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4906-55D3-40F0-9E3C-C426050F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7757-3A0F-4BE5-80A4-F539D4B4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FB5E-6389-4DB3-9B53-857DE7B0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8C54-B5DE-485D-9D65-6949DC6F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3D25-70E8-4DA2-862B-7BB3EDD5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80AA-2A8A-451D-B3D9-4C4C9429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10C8-36A6-4449-85D0-5A0B13F5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D1D5-D88A-4812-AF34-1B5D2BB7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0693-6EE4-4051-8D56-6A2E9679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88D49-04D3-4677-8D41-CA805ABD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E0B9A-99BF-4581-B930-7D938A35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7F68D-EA06-4EA5-AC4D-39195F64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00D1F-3E1A-46EB-B302-963C0DD5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C01E5-CF8F-400F-AF92-97F2B420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E488-902D-41DA-96A4-667F1034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DE361-AF36-4377-A415-9190F942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6849-4DED-42C7-B5C9-CA49EBC5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CED04-4DA4-4EB7-8198-27D6CC8A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A8BE4-1FF5-4A82-8544-2E0D3335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604B-1F7E-475E-8BF6-F26705A8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322DD-EC2F-4AD9-93D9-3C027EDE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3140F-3F81-4DB0-B4ED-312B41CE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A0DD6-66C8-4EC7-8EE7-373E600F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21795-0B99-46DC-A18A-D6584E67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C1706-9C63-4CFF-A7D8-E07EF36F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253-AD97-4DCF-8A0D-10FCD78F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63639-C59A-439E-9CA4-0E92F0C3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7A38F-9F21-42A0-B865-9711FFEE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97A51-C038-4F71-AB23-F0074BA1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20E83-618F-4BC7-A35A-2E96A8DB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78B99-48FB-41CF-9421-6CF6A840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38824-C482-43B5-8708-2DC67305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38ED2-2E4E-4583-9079-5EB53CFE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22227-210F-4540-944C-55F14248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15B26-07FC-4FEA-99EB-1197657D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5A722-6DBD-431B-82A5-CF021F17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ACF-FD15-4C92-806C-6918D0E3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A72BA-742E-48C7-AA77-8708C000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F66B9-9EC6-49C9-98BF-2D760D2E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F9AEA-8644-4ECB-B3D5-8337E726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01779-0E2F-4355-8443-C82A4209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D47C1-3183-4C54-9869-6F482829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96E41-4298-4AEA-B676-20A160F6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898DB-605D-4367-96DD-61AC4D86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6B618-297E-4CD7-9E2D-88659FE5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560FA-8BE3-4FE3-B999-83F1EAB5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61047-D9C9-4011-8CFF-09C3676E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03B-804F-4A4F-BA4F-FA7B031D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F1B89-35CA-42F3-8BA7-D609E099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456CB-568D-4E1E-8E6C-2E26C4A2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ADFDA-9C22-4ED8-B03F-D8AE5ADC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537F7-A4CB-4BCE-A629-A0DD7F5F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B1F9D-84FE-4CB7-9CC3-F484C617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802E2-917C-449E-BBA7-B2C964CC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C04FE-D57A-4DA7-AA2B-DCB2CC2D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CD621-CE19-4E0F-BA3E-7DBE2EF9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86E15-BEA6-48F6-A88B-C8161621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2078D-118F-4D37-9E32-7CEE8E8A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7F3-6236-419B-9969-999ADE9B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E67F4-FB60-4854-99C2-79E325EA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0709F-4CA6-4A43-B85B-0972BBAE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C6B73-750E-4831-93A3-97227689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F92FE-5CA8-49E5-AD78-B89D6328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8FC6C-21AC-49E7-83FA-3E1AFD29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57619-4A88-441C-9941-873E6143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EA8F2-CA07-408E-9646-9856E483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C3CC1-F61A-4680-BF22-4262B2C9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52B43-6E44-42CD-87A7-829BB47F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8C9BF-814B-4613-956A-CEB09558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DD4-012B-41C0-B957-66C938DB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3BFCC-AE0E-49F8-9818-B80364B0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747AC-CC37-4CE9-BFF3-848C37FE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FD580-74AD-403E-8F57-FAD175F1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AAD91-2C9D-45E0-AFDB-D6DB7085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DE1B1-0C47-4E9B-82ED-D51425DE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CCDD4-681E-4E90-8422-5364260D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53AA5-485C-42AC-A9E3-575569EF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2BAEE-3E2A-4D63-AB7A-B825FF0B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E442F-8DF2-4763-B26C-14224A10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7EE40-7882-4AD3-9DD3-9ABE385E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830-578A-4ABC-B25C-E24173FA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5E3C2-5C90-4BB9-9F36-62ABE0FE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51289-A4FD-4C23-8421-0E0AF992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BB67C-71D6-4C9C-9604-EDFF07B5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0F206-0CE4-4B31-8F68-F9A0A6D2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B4510-6256-4CB7-9C46-C4E16AC1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45577-9DE9-45B2-8511-938CBB8C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FBF00-28AB-4BCE-9C69-FFCB5D99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5FEC4-214C-49A4-BC3B-3EB98827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74F46-073B-41CB-B873-A31D3067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2D8FB-5D0C-4E93-BE07-41BAD953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D7CB-BE52-43BA-89AA-96D533CFCD3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7D53-DDD6-4809-AC7C-1053C90019B7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BD78-29A3-499E-92E0-36A07E0E1F97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4570-0097-4DD7-BFEC-2A45CC1B2F33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F14A-49F0-478F-855B-871AE6309920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D099-FA92-4408-BF2A-59A96E364085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F200-68FB-4B72-94F0-B0C008525A1E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2BED-FFAA-49FC-9B38-434819268957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F245-C34D-4608-97A6-03DCE25D32F2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B62A-DC1E-4D56-AD08-42AC8E5319AD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5C2E-83D1-444B-AF07-FC4329FC678B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EB99-34E8-43D1-94C6-82D123B0525D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6E8D-373F-469D-BDA7-3C9D9E1170A0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8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4"/>
          <p:cNvSpPr/>
          <p:nvPr/>
        </p:nvSpPr>
        <p:spPr>
          <a:xfrm>
            <a:off x="1979640" y="112536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不懂就问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WordArt 24"/>
          <p:cNvSpPr txBox="1"/>
          <p:nvPr/>
        </p:nvSpPr>
        <p:spPr>
          <a:xfrm>
            <a:off x="324000" y="333360"/>
            <a:ext cx="2514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写一写</a:t>
            </a:r>
            <a:endParaRPr b="1" lang="en-US" sz="66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63" name="Picture 25" descr="p2 生字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3"/>
          <p:cNvSpPr/>
          <p:nvPr/>
        </p:nvSpPr>
        <p:spPr>
          <a:xfrm>
            <a:off x="684360" y="1989000"/>
            <a:ext cx="79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学习遇到不懂的问题，孙中山是怎么做的？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5"/>
          <p:cNvSpPr/>
          <p:nvPr/>
        </p:nvSpPr>
        <p:spPr>
          <a:xfrm>
            <a:off x="1403280" y="1628640"/>
            <a:ext cx="7272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于是，他壮着胆子站起来，问：“先生，您刚才让我背的这段书是什么意思？您能讲讲吗？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4"/>
          <p:cNvSpPr/>
          <p:nvPr/>
        </p:nvSpPr>
        <p:spPr>
          <a:xfrm>
            <a:off x="539640" y="90792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这一问，把正在摇头晃脑高声念书的同学们吓呆了，教室里顿时鸦雀无声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755640" y="350028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这一问，把正在高声念书的同学们吓呆了，教室里很安静。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7"/>
          <p:cNvSpPr/>
          <p:nvPr/>
        </p:nvSpPr>
        <p:spPr>
          <a:xfrm>
            <a:off x="684360" y="1700280"/>
            <a:ext cx="777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先生拿着戒尺，走到孙中山跟前，厉声问道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：“你会背了？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612720" y="3860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楷体_GB2312"/>
              </a:rPr>
              <a:t>会背了。”孙中山说着，就把那段书一字不错地背了出来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11"/>
          <p:cNvSpPr/>
          <p:nvPr/>
        </p:nvSpPr>
        <p:spPr>
          <a:xfrm>
            <a:off x="250920" y="1844640"/>
            <a:ext cx="87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先生收起戒尺，摆摆手让孙中山坐下，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：“书中的道理，你们长大了自然会知道的。不过，学问，学问，不懂就问。现在你们既然想听，我就讲讲吧。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3"/>
          <p:cNvSpPr/>
          <p:nvPr/>
        </p:nvSpPr>
        <p:spPr>
          <a:xfrm>
            <a:off x="395280" y="1125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先生讲得很仔细，大家听得很认真。从此，孙中山一有不懂的事情，就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主动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地问，养成了良好的学习习惯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547640" y="24210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就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395280" y="3860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有时间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认真地读书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203640" y="2235240"/>
            <a:ext cx="2514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谢 谢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3"/>
          <p:cNvSpPr/>
          <p:nvPr/>
        </p:nvSpPr>
        <p:spPr>
          <a:xfrm>
            <a:off x="971640" y="1341360"/>
            <a:ext cx="86756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私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塾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落  讲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照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例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顿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  习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惯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戒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尺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吓呆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糊里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糊涂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鸦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雀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摇头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晃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  一字不错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4356000" y="2205000"/>
            <a:ext cx="136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3"/>
          <p:cNvSpPr/>
          <p:nvPr/>
        </p:nvSpPr>
        <p:spPr>
          <a:xfrm>
            <a:off x="900000" y="2349360"/>
            <a:ext cx="14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2484360" y="155736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宋体"/>
              </a:rPr>
              <a:t>jià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5"/>
          <p:cNvSpPr/>
          <p:nvPr/>
        </p:nvSpPr>
        <p:spPr>
          <a:xfrm>
            <a:off x="2268360" y="220500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2484360" y="37908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宋体"/>
              </a:rPr>
              <a:t>jiā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4140360" y="1557360"/>
            <a:ext cx="403200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师、教室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学、教育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4211640" y="386568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书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3"/>
          <p:cNvSpPr/>
          <p:nvPr/>
        </p:nvSpPr>
        <p:spPr>
          <a:xfrm>
            <a:off x="1042920" y="14479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意思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1258920" y="28526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：思想 愿意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3"/>
          <p:cNvSpPr/>
          <p:nvPr/>
        </p:nvSpPr>
        <p:spPr>
          <a:xfrm>
            <a:off x="1042920" y="14479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教室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1258920" y="2852640"/>
            <a:ext cx="6985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攵：放－教－收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－故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7308720" y="5661000"/>
            <a:ext cx="18352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3"/>
          <p:cNvSpPr/>
          <p:nvPr/>
        </p:nvSpPr>
        <p:spPr>
          <a:xfrm>
            <a:off x="1042920" y="14479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戒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尺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   道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理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1258920" y="28526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：理 玩 珍珠 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7308720" y="5661000"/>
            <a:ext cx="18352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3"/>
          <p:cNvSpPr/>
          <p:nvPr/>
        </p:nvSpPr>
        <p:spPr>
          <a:xfrm>
            <a:off x="1042920" y="14479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养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成   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良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好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7308720" y="5661000"/>
            <a:ext cx="18352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3"/>
          <p:cNvSpPr/>
          <p:nvPr/>
        </p:nvSpPr>
        <p:spPr>
          <a:xfrm>
            <a:off x="1042920" y="14479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良”加部首变新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1258920" y="40672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浪  娘  狼  粮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7308720" y="5661000"/>
            <a:ext cx="18352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3"/>
          <p:cNvSpPr/>
          <p:nvPr/>
        </p:nvSpPr>
        <p:spPr>
          <a:xfrm>
            <a:off x="324000" y="692280"/>
            <a:ext cx="86756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私塾  段落  讲解  照例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顿时  习惯  戒尺  吓呆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糊里糊涂  鸦雀无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摇头晃脑  一字不错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4356000" y="2205000"/>
            <a:ext cx="136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08:46:51Z</dcterms:created>
  <dc:creator/>
  <dc:description/>
  <dc:language>en-US</dc:language>
  <cp:lastModifiedBy/>
  <dcterms:modified xsi:type="dcterms:W3CDTF">2014-04-23T00:27:5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