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0BC-7D1A-4DFB-BF77-561EA330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142-F930-488B-8808-DE714FA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89A-7912-44BF-9E0A-B39050B9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B99-3E56-4BCE-BF47-50D6043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6AD-E4CC-4086-B07F-1B63D8B8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125-7477-4BFB-86BB-C1D1F0E3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A7-A43E-4633-944A-427841AA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019-A3D5-42C3-B66A-6EA8D71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0AF-5821-4A6F-8CAD-D4D4A6C8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06D-04B4-45F4-BD49-7E320D4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8AB-C715-4580-9858-BA1E45C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5EE-3E22-469A-9E2F-37F2AD3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422-4B16-4C63-890D-B0680688D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945" t="11609" r="21723" b="19365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1835280" y="242100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字典大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611280" y="90792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字典大楼真大真大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那里住着好多好多人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常常去登门求教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总是能得到满意的回答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lenovo\Desktop\图片1.png"/>
          <p:cNvPicPr/>
          <p:nvPr/>
        </p:nvPicPr>
        <p:blipFill>
          <a:blip r:embed="rId1"/>
          <a:srcRect l="0" t="0" r="-2371" b="19246"/>
          <a:stretch/>
        </p:blipFill>
        <p:spPr>
          <a:xfrm>
            <a:off x="4486320" y="4254480"/>
            <a:ext cx="4681440" cy="260352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2664000" y="2709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登门求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lenovo\Desktop\图片1.png"/>
          <p:cNvPicPr/>
          <p:nvPr/>
        </p:nvPicPr>
        <p:blipFill>
          <a:blip r:embed="rId1"/>
          <a:srcRect l="0" t="0" r="-2371" b="19246"/>
          <a:stretch/>
        </p:blipFill>
        <p:spPr>
          <a:xfrm>
            <a:off x="4483080" y="4254480"/>
            <a:ext cx="4681440" cy="2603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6"/>
          <p:cNvSpPr/>
          <p:nvPr/>
        </p:nvSpPr>
        <p:spPr>
          <a:xfrm>
            <a:off x="611280" y="1125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那次，我读一篇文章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遇到一个生字“耙”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按照“门牌”找到它的“住址”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啊，原来碎土、平地要用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864880" y="2925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门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6944040" y="2925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住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lenovo\Desktop\图片1.png"/>
          <p:cNvPicPr/>
          <p:nvPr/>
        </p:nvPicPr>
        <p:blipFill>
          <a:blip r:embed="rId1"/>
          <a:srcRect l="0" t="0" r="-2371" b="19246"/>
          <a:stretch/>
        </p:blipFill>
        <p:spPr>
          <a:xfrm>
            <a:off x="4483080" y="4221000"/>
            <a:ext cx="4681440" cy="2603520"/>
          </a:xfrm>
          <a:prstGeom prst="rect">
            <a:avLst/>
          </a:prstGeom>
          <a:ln w="0">
            <a:noFill/>
          </a:ln>
        </p:spPr>
      </p:pic>
      <p:sp>
        <p:nvSpPr>
          <p:cNvPr id="104" name="矩形 8"/>
          <p:cNvSpPr/>
          <p:nvPr/>
        </p:nvSpPr>
        <p:spPr>
          <a:xfrm>
            <a:off x="611280" y="1125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次，我写日记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硬写不出两个字：“疙瘩”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连忙去拜访字典大楼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它耐心地告诉我字的笔画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1327320" y="387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耐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718200" y="387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lenovo\Desktop\图片1.png"/>
          <p:cNvPicPr/>
          <p:nvPr/>
        </p:nvPicPr>
        <p:blipFill>
          <a:blip r:embed="rId1"/>
          <a:srcRect l="0" t="0" r="-2371" b="19246"/>
          <a:stretch/>
        </p:blipFill>
        <p:spPr>
          <a:xfrm>
            <a:off x="4483080" y="4254480"/>
            <a:ext cx="4681440" cy="2603520"/>
          </a:xfrm>
          <a:prstGeom prst="rect">
            <a:avLst/>
          </a:prstGeom>
          <a:ln w="0">
            <a:noFill/>
          </a:ln>
        </p:spPr>
      </p:pic>
      <p:sp>
        <p:nvSpPr>
          <p:cNvPr id="108" name="矩形 8"/>
          <p:cNvSpPr/>
          <p:nvPr/>
        </p:nvSpPr>
        <p:spPr>
          <a:xfrm>
            <a:off x="611280" y="1125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字典大楼真大真大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谁知道建造它花费了多少春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人们用智慧、心血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不断为它添砖加瓦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6450120" y="2073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春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325908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2230200" y="387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823320" y="39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不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048840" y="3900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添砖加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lenovo\Desktop\图片1.png"/>
          <p:cNvPicPr/>
          <p:nvPr/>
        </p:nvPicPr>
        <p:blipFill>
          <a:blip r:embed="rId1"/>
          <a:srcRect l="0" t="0" r="-2371" b="19246"/>
          <a:stretch/>
        </p:blipFill>
        <p:spPr>
          <a:xfrm>
            <a:off x="4483080" y="4254480"/>
            <a:ext cx="4681440" cy="2603520"/>
          </a:xfrm>
          <a:prstGeom prst="rect">
            <a:avLst/>
          </a:prstGeom>
          <a:ln w="0">
            <a:noFill/>
          </a:ln>
        </p:spPr>
      </p:pic>
      <p:sp>
        <p:nvSpPr>
          <p:cNvPr id="115" name="矩形 3"/>
          <p:cNvSpPr/>
          <p:nvPr/>
        </p:nvSpPr>
        <p:spPr>
          <a:xfrm>
            <a:off x="611280" y="103968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字典大楼真大真大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现在我已离不开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为了学好知识、本领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要经常去那里拜访专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3708360" y="29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755640" y="242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养成查字典的好习惯了吗？用你的经验说一说查字典有什么好处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8680" y="-108000"/>
            <a:ext cx="2746440" cy="1181160"/>
            <a:chOff x="-58680" y="-108000"/>
            <a:chExt cx="2746440" cy="1181160"/>
          </a:xfrm>
        </p:grpSpPr>
        <p:pic>
          <p:nvPicPr>
            <p:cNvPr id="11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-58680" y="-108000"/>
              <a:ext cx="27464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9240" y="39240"/>
              <a:ext cx="25513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领会升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20945" t="11609" r="21723" b="19365"/>
          <a:stretch/>
        </p:blipFill>
        <p:spPr>
          <a:xfrm>
            <a:off x="0" y="-25560"/>
            <a:ext cx="910908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768760" y="3168720"/>
            <a:ext cx="3265200" cy="40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58680" y="-108000"/>
            <a:ext cx="2746440" cy="1181160"/>
            <a:chOff x="-58680" y="-108000"/>
            <a:chExt cx="2746440" cy="1181160"/>
          </a:xfrm>
        </p:grpSpPr>
        <p:pic>
          <p:nvPicPr>
            <p:cNvPr id="4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-58680" y="-108000"/>
              <a:ext cx="27464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40" y="39240"/>
              <a:ext cx="25513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认读字词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2"/>
          <p:cNvSpPr/>
          <p:nvPr/>
        </p:nvSpPr>
        <p:spPr>
          <a:xfrm>
            <a:off x="611280" y="1052640"/>
            <a:ext cx="820872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字典 心血 一篇文章 地址 疙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823320" y="1054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字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1042920" y="1989000"/>
            <a:ext cx="590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楼真大真大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那里住着好多好多人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359680" y="2916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人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lenovo\Desktop\图片1.png"/>
          <p:cNvPicPr/>
          <p:nvPr/>
        </p:nvPicPr>
        <p:blipFill>
          <a:blip r:embed="rId2"/>
          <a:srcRect l="0" t="0" r="-2371" b="19246"/>
          <a:stretch/>
        </p:blipFill>
        <p:spPr>
          <a:xfrm>
            <a:off x="4483080" y="4254480"/>
            <a:ext cx="4681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2"/>
          <p:cNvSpPr/>
          <p:nvPr/>
        </p:nvSpPr>
        <p:spPr>
          <a:xfrm>
            <a:off x="3203640" y="2760840"/>
            <a:ext cx="5724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部首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结构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书写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半部分最后一笔“横”两端都出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字典 经典 引经据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50920" y="2781360"/>
            <a:ext cx="2881080" cy="3126600"/>
            <a:chOff x="250920" y="2781360"/>
            <a:chExt cx="2881080" cy="3126600"/>
          </a:xfrm>
        </p:grpSpPr>
        <p:grpSp>
          <p:nvGrpSpPr>
            <p:cNvPr id="53" name=""/>
            <p:cNvGrpSpPr/>
            <p:nvPr/>
          </p:nvGrpSpPr>
          <p:grpSpPr>
            <a:xfrm>
              <a:off x="250920" y="2853360"/>
              <a:ext cx="2881080" cy="2880000"/>
              <a:chOff x="250920" y="2853360"/>
              <a:chExt cx="2881080" cy="2880000"/>
            </a:xfrm>
          </p:grpSpPr>
          <p:sp>
            <p:nvSpPr>
              <p:cNvPr id="54" name="矩形 7"/>
              <p:cNvSpPr/>
              <p:nvPr/>
            </p:nvSpPr>
            <p:spPr>
              <a:xfrm>
                <a:off x="250920" y="2853360"/>
                <a:ext cx="2881080" cy="2880000"/>
              </a:xfrm>
              <a:prstGeom prst="rect">
                <a:avLst/>
              </a:prstGeom>
              <a:noFill/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8"/>
              <p:cNvSpPr/>
              <p:nvPr/>
            </p:nvSpPr>
            <p:spPr>
              <a:xfrm>
                <a:off x="250920" y="4293360"/>
                <a:ext cx="288108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接连接符 9"/>
              <p:cNvSpPr/>
              <p:nvPr/>
            </p:nvSpPr>
            <p:spPr>
              <a:xfrm>
                <a:off x="1691640" y="2853360"/>
                <a:ext cx="0" cy="2880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" name="矩形 10"/>
            <p:cNvSpPr/>
            <p:nvPr/>
          </p:nvSpPr>
          <p:spPr>
            <a:xfrm>
              <a:off x="322920" y="2781360"/>
              <a:ext cx="27374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典</a:t>
              </a:r>
              <a:endParaRPr b="0" lang="en-US" sz="19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2" descr="D:\二下语文\1单元\201005302243531896p.gif"/>
          <p:cNvPicPr/>
          <p:nvPr/>
        </p:nvPicPr>
        <p:blipFill>
          <a:blip r:embed="rId1"/>
          <a:srcRect l="0" t="0" r="43713" b="27595"/>
          <a:stretch/>
        </p:blipFill>
        <p:spPr>
          <a:xfrm>
            <a:off x="324000" y="836640"/>
            <a:ext cx="85262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4427640" y="573120"/>
            <a:ext cx="43923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字典、词典、经典、引经据典。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427640" y="2852640"/>
            <a:ext cx="43923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典章、典制、典故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427640" y="4508640"/>
            <a:ext cx="43210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盛典、大典、典礼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900000" y="549360"/>
            <a:ext cx="266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可以作为标准的书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900000" y="2852640"/>
            <a:ext cx="266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标准，法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900000" y="4510080"/>
            <a:ext cx="266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指典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右箭头 8"/>
          <p:cNvSpPr/>
          <p:nvPr/>
        </p:nvSpPr>
        <p:spPr>
          <a:xfrm>
            <a:off x="3708360" y="765000"/>
            <a:ext cx="647640" cy="503280"/>
          </a:xfrm>
          <a:prstGeom prst="rightArrow">
            <a:avLst>
              <a:gd name="adj1" fmla="val 50000"/>
              <a:gd name="adj2" fmla="val 5004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右箭头 10"/>
          <p:cNvSpPr/>
          <p:nvPr/>
        </p:nvSpPr>
        <p:spPr>
          <a:xfrm>
            <a:off x="3708360" y="2924280"/>
            <a:ext cx="647640" cy="504720"/>
          </a:xfrm>
          <a:prstGeom prst="rightArrow">
            <a:avLst>
              <a:gd name="adj1" fmla="val 50000"/>
              <a:gd name="adj2" fmla="val 4990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右箭头 11"/>
          <p:cNvSpPr/>
          <p:nvPr/>
        </p:nvSpPr>
        <p:spPr>
          <a:xfrm>
            <a:off x="3708360" y="4581360"/>
            <a:ext cx="647640" cy="503280"/>
          </a:xfrm>
          <a:prstGeom prst="rightArrow">
            <a:avLst>
              <a:gd name="adj1" fmla="val 50000"/>
              <a:gd name="adj2" fmla="val 5004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2840400" y="981000"/>
            <a:ext cx="11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人们用智慧、心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血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断为它添砖加瓦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2507760" y="3090960"/>
            <a:ext cx="34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今天中午我们点了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血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豆腐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4593600" y="40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xu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230080" y="249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xi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1280" y="3929040"/>
            <a:ext cx="7777080" cy="2288160"/>
            <a:chOff x="611280" y="3929040"/>
            <a:chExt cx="7777080" cy="2288160"/>
          </a:xfrm>
        </p:grpSpPr>
        <p:sp>
          <p:nvSpPr>
            <p:cNvPr id="73" name="矩形 6"/>
            <p:cNvSpPr/>
            <p:nvPr/>
          </p:nvSpPr>
          <p:spPr>
            <a:xfrm>
              <a:off x="611280" y="3929040"/>
              <a:ext cx="7777080" cy="22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en-US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xuè</a:t>
              </a: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（心血）（血战到底）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血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 </a:t>
              </a:r>
              <a:r>
                <a:rPr b="1" lang="en-US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xiě</a:t>
              </a: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（鸡血）（血淋淋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左大括号 7"/>
            <p:cNvSpPr/>
            <p:nvPr/>
          </p:nvSpPr>
          <p:spPr>
            <a:xfrm>
              <a:off x="1475280" y="4437000"/>
              <a:ext cx="288000" cy="1512360"/>
            </a:xfrm>
            <a:custGeom>
              <a:avLst/>
              <a:gdLst>
                <a:gd name="textAreaLeft" fmla="*/ 183960 w 288000"/>
                <a:gd name="textAreaRight" fmla="*/ 288360 w 288000"/>
                <a:gd name="textAreaTop" fmla="*/ 7200 h 1512360"/>
                <a:gd name="textAreaBottom" fmla="*/ 1505160 h 151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2"/>
                    <a:pt x="10800" y="343"/>
                  </a:cubicBezTo>
                  <a:lnTo>
                    <a:pt x="10800" y="10457"/>
                  </a:lnTo>
                  <a:cubicBezTo>
                    <a:pt x="10800" y="10629"/>
                    <a:pt x="5400" y="10800"/>
                    <a:pt x="0" y="10800"/>
                  </a:cubicBezTo>
                  <a:cubicBezTo>
                    <a:pt x="5400" y="10800"/>
                    <a:pt x="10800" y="10972"/>
                    <a:pt x="10800" y="11143"/>
                  </a:cubicBezTo>
                  <a:lnTo>
                    <a:pt x="10800" y="21257"/>
                  </a:lnTo>
                  <a:cubicBezTo>
                    <a:pt x="10800" y="21429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5"/>
          <p:cNvSpPr/>
          <p:nvPr/>
        </p:nvSpPr>
        <p:spPr>
          <a:xfrm>
            <a:off x="324000" y="981000"/>
            <a:ext cx="5616360" cy="1783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读书 回答 建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登门求教 添砖加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1722240" y="3046320"/>
            <a:ext cx="62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谁知道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建造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    ）它花费了多少春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3364200" y="2997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创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http://zidian.bmcha.cn/zidian/pic/zy/jgw/767B.gif"/>
          <p:cNvPicPr/>
          <p:nvPr/>
        </p:nvPicPr>
        <p:blipFill>
          <a:blip r:embed="rId1"/>
          <a:stretch/>
        </p:blipFill>
        <p:spPr>
          <a:xfrm>
            <a:off x="2771640" y="0"/>
            <a:ext cx="2276640" cy="2276640"/>
          </a:xfrm>
          <a:prstGeom prst="rect">
            <a:avLst/>
          </a:prstGeom>
          <a:ln w="0">
            <a:noFill/>
          </a:ln>
        </p:spPr>
      </p:pic>
      <p:sp>
        <p:nvSpPr>
          <p:cNvPr id="79" name="矩形 3"/>
          <p:cNvSpPr/>
          <p:nvPr/>
        </p:nvSpPr>
        <p:spPr>
          <a:xfrm>
            <a:off x="3492360" y="2276640"/>
            <a:ext cx="5146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部首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癶　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b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结构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书写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认清部首笔画和在田格中的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登山 登台 五谷丰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1916280"/>
            <a:ext cx="3313080" cy="3736080"/>
            <a:chOff x="250920" y="1916280"/>
            <a:chExt cx="3313080" cy="3736080"/>
          </a:xfrm>
        </p:grpSpPr>
        <p:grpSp>
          <p:nvGrpSpPr>
            <p:cNvPr id="81" name=""/>
            <p:cNvGrpSpPr/>
            <p:nvPr/>
          </p:nvGrpSpPr>
          <p:grpSpPr>
            <a:xfrm>
              <a:off x="250920" y="2234520"/>
              <a:ext cx="3313080" cy="3287520"/>
              <a:chOff x="250920" y="2234520"/>
              <a:chExt cx="3313080" cy="3287520"/>
            </a:xfrm>
          </p:grpSpPr>
          <p:sp>
            <p:nvSpPr>
              <p:cNvPr id="82" name="矩形 7"/>
              <p:cNvSpPr/>
              <p:nvPr/>
            </p:nvSpPr>
            <p:spPr>
              <a:xfrm>
                <a:off x="250920" y="2234520"/>
                <a:ext cx="3313080" cy="3287520"/>
              </a:xfrm>
              <a:prstGeom prst="rect">
                <a:avLst/>
              </a:prstGeom>
              <a:noFill/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接连接符 8"/>
              <p:cNvSpPr/>
              <p:nvPr/>
            </p:nvSpPr>
            <p:spPr>
              <a:xfrm>
                <a:off x="250920" y="3878280"/>
                <a:ext cx="331308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接连接符 9"/>
              <p:cNvSpPr/>
              <p:nvPr/>
            </p:nvSpPr>
            <p:spPr>
              <a:xfrm>
                <a:off x="1907640" y="2234520"/>
                <a:ext cx="0" cy="32875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矩形 6"/>
            <p:cNvSpPr/>
            <p:nvPr/>
          </p:nvSpPr>
          <p:spPr>
            <a:xfrm>
              <a:off x="416160" y="1916280"/>
              <a:ext cx="31478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登</a:t>
              </a:r>
              <a:endParaRPr b="0" lang="en-US" sz="23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3" descr="http://zidian.bmcha.cn/zidian/pic/zy/jw/767B.gif"/>
          <p:cNvPicPr/>
          <p:nvPr/>
        </p:nvPicPr>
        <p:blipFill>
          <a:blip r:embed="rId2"/>
          <a:stretch/>
        </p:blipFill>
        <p:spPr>
          <a:xfrm>
            <a:off x="4500720" y="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zidian.bmcha.cn/zidian/pic/zy/xz2/767B.gif"/>
          <p:cNvPicPr/>
          <p:nvPr/>
        </p:nvPicPr>
        <p:blipFill>
          <a:blip r:embed="rId3"/>
          <a:stretch/>
        </p:blipFill>
        <p:spPr>
          <a:xfrm>
            <a:off x="6516720" y="0"/>
            <a:ext cx="2131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468360" y="981000"/>
            <a:ext cx="6480000" cy="21686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字典 心血 一篇文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地址 疙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68360" y="5589720"/>
            <a:ext cx="648000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耐心 满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468360" y="3284640"/>
            <a:ext cx="6480000" cy="21686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读书 回答 建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登门求教 添砖加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611280" y="19130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这篇课文有几个小节？每一个都说了一件什么事儿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58680" y="-108000"/>
            <a:ext cx="2746440" cy="1181160"/>
            <a:chOff x="-58680" y="-108000"/>
            <a:chExt cx="2746440" cy="1181160"/>
          </a:xfrm>
        </p:grpSpPr>
        <p:pic>
          <p:nvPicPr>
            <p:cNvPr id="93" name="圆角矩形 6" descr=""/>
            <p:cNvPicPr/>
            <p:nvPr/>
          </p:nvPicPr>
          <p:blipFill>
            <a:blip r:embed="rId1"/>
            <a:stretch/>
          </p:blipFill>
          <p:spPr>
            <a:xfrm>
              <a:off x="-58680" y="-108000"/>
              <a:ext cx="27464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9240" y="39240"/>
              <a:ext cx="25513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分层学文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" name="Picture 2" descr="C:\Users\lenovo\Desktop\图片1.png"/>
          <p:cNvPicPr/>
          <p:nvPr/>
        </p:nvPicPr>
        <p:blipFill>
          <a:blip r:embed="rId2"/>
          <a:srcRect l="0" t="0" r="-2371" b="19246"/>
          <a:stretch/>
        </p:blipFill>
        <p:spPr>
          <a:xfrm>
            <a:off x="4483080" y="4254480"/>
            <a:ext cx="4681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7:53:38Z</dcterms:created>
  <dc:creator/>
  <dc:description/>
  <dc:language>en-US</dc:language>
  <cp:lastModifiedBy>陈群</cp:lastModifiedBy>
  <dcterms:modified xsi:type="dcterms:W3CDTF">2014-04-23T00:58:11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