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9440-632D-40EF-BAFB-2E8A0D1F1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7B6-437F-43C4-A301-AFAAFBC4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AAFC-68C9-4196-BAC4-6627D248D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DB26-3752-4E44-A651-E3AC4ACB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FA1C-FB20-404C-A771-64804685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1008-E0FD-40D9-BCFD-B75446F8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976-AB50-455B-A81E-C3A2A6C3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6244-E65C-4FBC-B82B-EAC9A015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F48-2134-4B89-BDFE-57DDAA41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168-6389-4DBA-8B98-DDB62E17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CDF-08C5-4D30-AC49-7A3359E3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6DEC-6C8A-41D2-9C5F-72E2C439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CDE93-63A7-4CAE-9A5B-93A86533D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200991222405282679"/>
          <p:cNvPicPr/>
          <p:nvPr/>
        </p:nvPicPr>
        <p:blipFill>
          <a:blip r:embed="rId2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繁星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冰心</a:t>
            </a:r>
            <a:br>
              <a:rPr sz="3200"/>
            </a:b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母亲啊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天上的风雨来了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鸟儿躲到它的巢里；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心中的风雨来了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我只躲到你的怀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伸手相拥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美食吃得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饱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拔足奔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跑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快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火药做鞭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炮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，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冰</a:t>
            </a: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"/>
              </a:rPr>
              <a:t>雹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从天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2680"/>
            <a:ext cx="8229600" cy="610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"/>
              </a:rPr>
              <a:t>自己读一读第一小节，说说写了什么事情，妈妈的爱是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24000" y="404640"/>
          <a:ext cx="8362800" cy="5913360"/>
        </p:xfrm>
        <a:graphic>
          <a:graphicData uri="http://schemas.openxmlformats.org/drawingml/2006/table">
            <a:tbl>
              <a:tblPr/>
              <a:tblGrid>
                <a:gridCol w="4175280"/>
                <a:gridCol w="4187520"/>
              </a:tblGrid>
              <a:tr h="94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什么事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什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在夏天夜晚为我扇扇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清凉的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组讨论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小节，填完表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24000" y="333360"/>
          <a:ext cx="8373960" cy="5905440"/>
        </p:xfrm>
        <a:graphic>
          <a:graphicData uri="http://schemas.openxmlformats.org/drawingml/2006/table">
            <a:tbl>
              <a:tblPr/>
              <a:tblGrid>
                <a:gridCol w="4187880"/>
                <a:gridCol w="4186080"/>
              </a:tblGrid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什么事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什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在夏天夜晚为我扇扇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清凉的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在雨天为我送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遮雨的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395280" y="549360"/>
          <a:ext cx="8302680" cy="4336920"/>
        </p:xfrm>
        <a:graphic>
          <a:graphicData uri="http://schemas.openxmlformats.org/drawingml/2006/table">
            <a:tbl>
              <a:tblPr/>
              <a:tblGrid>
                <a:gridCol w="4151160"/>
                <a:gridCol w="4151520"/>
              </a:tblGrid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什么事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什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在夏天夜晚为我扇扇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清凉的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在雨天为我送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遮雨的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抱我去医院，看我生病她着急得哭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滴落的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5280" y="404640"/>
          <a:ext cx="8640720" cy="5237280"/>
        </p:xfrm>
        <a:graphic>
          <a:graphicData uri="http://schemas.openxmlformats.org/drawingml/2006/table">
            <a:tbl>
              <a:tblPr/>
              <a:tblGrid>
                <a:gridCol w="4321080"/>
                <a:gridCol w="4319640"/>
              </a:tblGrid>
              <a:tr h="932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什么事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什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36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在夏天夜晚为我扇扇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清凉的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0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在雨天为我送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遮雨的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抱我去医院，看我生病她着急得哭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滴落的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我说谎被妈妈批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责备的目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50920" y="260280"/>
          <a:ext cx="8785080" cy="5811840"/>
        </p:xfrm>
        <a:graphic>
          <a:graphicData uri="http://schemas.openxmlformats.org/drawingml/2006/table">
            <a:tbl>
              <a:tblPr/>
              <a:tblGrid>
                <a:gridCol w="4218120"/>
                <a:gridCol w="4566960"/>
              </a:tblGrid>
              <a:tr h="878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什么事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什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在夏天夜晚为我扇扇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清凉的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在雨天为我送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遮雨的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380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抱我去医院，看我生病她着急得哭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滴落的泪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我说谎被妈妈批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责备的目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教育我要爱祖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楷体"/>
                        </a:rPr>
                        <a:t>妈妈的爱是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  <a:ea typeface="楷体"/>
                        </a:rPr>
                        <a:t>亲切的教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8251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妈妈对我这么关心，妈妈这么爱我，我怎么想？我该怎样报答妈妈给我的爱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"/>
          <p:cNvSpPr txBox="1"/>
          <p:nvPr/>
        </p:nvSpPr>
        <p:spPr>
          <a:xfrm>
            <a:off x="3780000" y="476280"/>
            <a:ext cx="26301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说一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楷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妈妈的爱还是什么？试着仿照课文再写一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9900cc"/>
                </a:solidFill>
                <a:latin typeface="楷体"/>
                <a:ea typeface="楷体"/>
              </a:rPr>
              <a:t>妈妈的爱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有一回，同事送给妈妈一块巧克力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妈妈自己舍不得吃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小心地包好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带回家给我，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啊，妈妈的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"/>
              </a:rPr>
              <a:t>香甜的巧克力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在一个很冷很冷的大风天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我从学校出来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却发现校门外冻得直跺脚的妈妈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她冒着寒风给我送来棉衣，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啊，妈妈的爱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"/>
              </a:rPr>
              <a:t>暖暖的棉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58636e7b1cf556f02e73b3b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"/>
          <p:cNvGraphicFramePr/>
          <p:nvPr/>
        </p:nvGraphicFramePr>
        <p:xfrm>
          <a:off x="2050920" y="692280"/>
          <a:ext cx="4537080" cy="4800600"/>
        </p:xfrm>
        <a:graphic>
          <a:graphicData uri="http://schemas.openxmlformats.org/drawingml/2006/table">
            <a:tbl>
              <a:tblPr/>
              <a:tblGrid>
                <a:gridCol w="2216160"/>
                <a:gridCol w="2320920"/>
              </a:tblGrid>
              <a:tr h="24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Text Box 3"/>
          <p:cNvSpPr/>
          <p:nvPr/>
        </p:nvSpPr>
        <p:spPr>
          <a:xfrm>
            <a:off x="2124000" y="404640"/>
            <a:ext cx="42483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ff0066"/>
                </a:solidFill>
                <a:latin typeface="Times New Roman"/>
                <a:ea typeface="楷体"/>
              </a:rPr>
              <a:t>热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58636e7b1cf556f02e73b3b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2050920" y="692280"/>
          <a:ext cx="4537080" cy="4800600"/>
        </p:xfrm>
        <a:graphic>
          <a:graphicData uri="http://schemas.openxmlformats.org/drawingml/2006/table">
            <a:tbl>
              <a:tblPr/>
              <a:tblGrid>
                <a:gridCol w="2216160"/>
                <a:gridCol w="2320920"/>
              </a:tblGrid>
              <a:tr h="24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14"/>
          <p:cNvSpPr/>
          <p:nvPr/>
        </p:nvSpPr>
        <p:spPr>
          <a:xfrm>
            <a:off x="2814480" y="62064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ff0066"/>
                </a:solidFill>
                <a:latin typeface="Times New Roman"/>
                <a:ea typeface="楷体"/>
              </a:rPr>
              <a:t>凉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58636e7b1cf556f02e73b3b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050920" y="692280"/>
          <a:ext cx="4537080" cy="4800600"/>
        </p:xfrm>
        <a:graphic>
          <a:graphicData uri="http://schemas.openxmlformats.org/drawingml/2006/table">
            <a:tbl>
              <a:tblPr/>
              <a:tblGrid>
                <a:gridCol w="2216160"/>
                <a:gridCol w="2320920"/>
              </a:tblGrid>
              <a:tr h="24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Text Box 14"/>
          <p:cNvSpPr/>
          <p:nvPr/>
        </p:nvSpPr>
        <p:spPr>
          <a:xfrm>
            <a:off x="2984400" y="333360"/>
            <a:ext cx="25430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1000" spc="-1" strike="noStrike">
                <a:solidFill>
                  <a:srgbClr val="ff0066"/>
                </a:solidFill>
                <a:latin typeface="Times New Roman"/>
                <a:ea typeface="楷体"/>
              </a:rPr>
              <a:t>校</a:t>
            </a:r>
            <a:endParaRPr b="0" lang="en-US" sz="3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58636e7b1cf556f02e73b3b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050920" y="692280"/>
          <a:ext cx="4537080" cy="4800600"/>
        </p:xfrm>
        <a:graphic>
          <a:graphicData uri="http://schemas.openxmlformats.org/drawingml/2006/table">
            <a:tbl>
              <a:tblPr/>
              <a:tblGrid>
                <a:gridCol w="2216160"/>
                <a:gridCol w="2320920"/>
              </a:tblGrid>
              <a:tr h="24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Text Box 14"/>
          <p:cNvSpPr/>
          <p:nvPr/>
        </p:nvSpPr>
        <p:spPr>
          <a:xfrm>
            <a:off x="3124080" y="549360"/>
            <a:ext cx="2314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0" spc="-1" strike="noStrike">
                <a:solidFill>
                  <a:srgbClr val="ff0066"/>
                </a:solidFill>
                <a:latin typeface="Times New Roman"/>
                <a:ea typeface="楷体"/>
              </a:rPr>
              <a:t>抱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58636e7b1cf556f02e73b3b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2050920" y="692280"/>
          <a:ext cx="4537080" cy="4800600"/>
        </p:xfrm>
        <a:graphic>
          <a:graphicData uri="http://schemas.openxmlformats.org/drawingml/2006/table">
            <a:tbl>
              <a:tblPr/>
              <a:tblGrid>
                <a:gridCol w="2216160"/>
                <a:gridCol w="2320920"/>
              </a:tblGrid>
              <a:tr h="24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14"/>
          <p:cNvSpPr/>
          <p:nvPr/>
        </p:nvSpPr>
        <p:spPr>
          <a:xfrm>
            <a:off x="2959200" y="47628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ff0066"/>
                </a:solidFill>
                <a:latin typeface="Times New Roman"/>
                <a:ea typeface="楷体"/>
              </a:rPr>
              <a:t>摸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58636e7b1cf556f02e73b3b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2050920" y="692280"/>
          <a:ext cx="4537080" cy="4800600"/>
        </p:xfrm>
        <a:graphic>
          <a:graphicData uri="http://schemas.openxmlformats.org/drawingml/2006/table">
            <a:tbl>
              <a:tblPr/>
              <a:tblGrid>
                <a:gridCol w="2216160"/>
                <a:gridCol w="2320920"/>
              </a:tblGrid>
              <a:tr h="24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Text Box 14"/>
          <p:cNvSpPr/>
          <p:nvPr/>
        </p:nvSpPr>
        <p:spPr>
          <a:xfrm>
            <a:off x="3031920" y="62064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ff0066"/>
                </a:solidFill>
                <a:latin typeface="Times New Roman"/>
                <a:ea typeface="楷体"/>
              </a:rPr>
              <a:t>批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58636e7b1cf556f02e73b3b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2050920" y="692280"/>
          <a:ext cx="4537080" cy="4800600"/>
        </p:xfrm>
        <a:graphic>
          <a:graphicData uri="http://schemas.openxmlformats.org/drawingml/2006/table">
            <a:tbl>
              <a:tblPr/>
              <a:tblGrid>
                <a:gridCol w="2216160"/>
                <a:gridCol w="2320920"/>
              </a:tblGrid>
              <a:tr h="24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Text Box 14"/>
          <p:cNvSpPr/>
          <p:nvPr/>
        </p:nvSpPr>
        <p:spPr>
          <a:xfrm>
            <a:off x="2959200" y="40464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ff0066"/>
                </a:solidFill>
                <a:latin typeface="Times New Roman"/>
                <a:ea typeface="楷体"/>
              </a:rPr>
              <a:t>评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58636e7b1cf556f02e73b3b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050920" y="692280"/>
          <a:ext cx="4537080" cy="4800600"/>
        </p:xfrm>
        <a:graphic>
          <a:graphicData uri="http://schemas.openxmlformats.org/drawingml/2006/table">
            <a:tbl>
              <a:tblPr/>
              <a:tblGrid>
                <a:gridCol w="2216160"/>
                <a:gridCol w="2320920"/>
              </a:tblGrid>
              <a:tr h="240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38160">
                      <a:solidFill>
                        <a:srgbClr val="333399"/>
                      </a:solidFill>
                    </a:lnT>
                    <a:lnB w="1872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333399"/>
                      </a:solidFill>
                    </a:lnL>
                    <a:lnR w="1872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333399"/>
                      </a:solidFill>
                    </a:lnL>
                    <a:lnR w="38160">
                      <a:solidFill>
                        <a:srgbClr val="333399"/>
                      </a:solidFill>
                    </a:lnR>
                    <a:lnT w="18720">
                      <a:solidFill>
                        <a:srgbClr val="333399"/>
                      </a:solidFill>
                    </a:lnT>
                    <a:lnB w="381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Text Box 14"/>
          <p:cNvSpPr/>
          <p:nvPr/>
        </p:nvSpPr>
        <p:spPr>
          <a:xfrm>
            <a:off x="3031920" y="54936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ff0066"/>
                </a:solidFill>
                <a:latin typeface="Times New Roman"/>
                <a:ea typeface="楷体"/>
              </a:rPr>
              <a:t>责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shān zhe shàn zi  shī tòu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扇   着  扇  子   湿  透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yī shɑnɡ    qīnɡ liánɡ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衣  裳       清  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zhē  yǔ     hěn tànɡ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遮  雨      很  烫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479680" y="2522520"/>
            <a:ext cx="39132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07932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47640" y="-36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pī pinɡ   zé bèi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批  评    责 备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jiào hu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shuō huǎnɡ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教  诲     说    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961920"/>
            <a:ext cx="8229600" cy="741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扇着    扇子   湿透   衣裳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清凉    遮雨   很烫   说谎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批评    责备   教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shī    shɑnɡ    zhē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湿      裳       遮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tànɡ   huānɡ    huì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烫      慌       诲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pī      zé       pínɡ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批      责       评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热  校  摸  抱  责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批  评  湿  遮  裳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烫  慌  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8000" y="260280"/>
            <a:ext cx="8229600" cy="627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多音字：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扇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shān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扇风）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扇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shàn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扇子）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切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qiē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切菜）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切</a:t>
            </a: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qiè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（亲切）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63640" y="4759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我会区分：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凉（   ） 批（   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惊（   ） 比（   ）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评（   ） 抱（   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平（   ） 饱（   ）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泡（   ）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雹（   ）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       跑（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02:40:41Z</dcterms:created>
  <dc:creator/>
  <dc:description/>
  <dc:language>en-US</dc:language>
  <cp:lastModifiedBy/>
  <dcterms:modified xsi:type="dcterms:W3CDTF">2014-04-23T01:36:2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