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EF1-2466-4C60-BB24-6189B283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D76-DE37-4A2B-AF13-2F78EFF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FD8-2CB5-4192-9279-2BDB8CA1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AC9-88B4-4DC8-9795-EE150F05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3B2-4F84-459C-9503-C5D24ECE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7FE-4E64-47A2-AC87-A0FB574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83B-3A6B-4627-9338-D6A6803F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A26-1677-4820-AC82-2D82E4D8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80C-E0C2-422E-910D-7AFA83C8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DC5-7326-40A9-82B8-050019D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2A4-CF27-457C-B7A8-90698A7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DE2-EF31-49D0-A423-E4D21A1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E86-8EBF-48AB-BBD5-641DCC529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562720" y="175248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066680" y="2424240"/>
            <a:ext cx="739152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  <a:ea typeface="华文新魏"/>
              </a:rPr>
              <a:t>         </a:t>
            </a: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杨树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04920" y="12193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3" descr=""/>
          <p:cNvPicPr/>
          <p:nvPr/>
        </p:nvPicPr>
        <p:blipFill>
          <a:blip r:embed="rId2"/>
          <a:stretch/>
        </p:blipFill>
        <p:spPr>
          <a:xfrm>
            <a:off x="2459160" y="119052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514600" y="137160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感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4338720" cy="4429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417760" y="140004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谢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ys"/>
          <p:cNvPicPr/>
          <p:nvPr/>
        </p:nvPicPr>
        <p:blipFill>
          <a:blip r:embed="rId2"/>
          <a:stretch/>
        </p:blipFill>
        <p:spPr>
          <a:xfrm>
            <a:off x="974880" y="1486080"/>
            <a:ext cx="7162560" cy="53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5101817412972419"/>
          <p:cNvPicPr/>
          <p:nvPr/>
        </p:nvPicPr>
        <p:blipFill>
          <a:blip r:embed="rId2"/>
          <a:stretch/>
        </p:blipFill>
        <p:spPr>
          <a:xfrm>
            <a:off x="1003320" y="1504800"/>
            <a:ext cx="713736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3-%20(4)"/>
          <p:cNvPicPr/>
          <p:nvPr/>
        </p:nvPicPr>
        <p:blipFill>
          <a:blip r:embed="rId2"/>
          <a:stretch/>
        </p:blipFill>
        <p:spPr>
          <a:xfrm>
            <a:off x="990720" y="1635120"/>
            <a:ext cx="7010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小练笔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752480"/>
            <a:ext cx="7848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523880" y="2851200"/>
            <a:ext cx="5791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听过大叶杨唱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在歌中唱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杨树之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90720" y="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286000" y="1692360"/>
            <a:ext cx="64008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名字叫大叶杨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天喜欢哗啦啦地歌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刮风时唱得欢快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雨时唱得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风雨来帮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歌儿也悄悄地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2514600" y="1143000"/>
            <a:ext cx="4648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唱给学步的小宝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他和蝴蝶捉迷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唱给白发的老奶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她在树下聊家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唱给下棋的老爷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他悠闲度时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get (5)"/>
          <p:cNvPicPr/>
          <p:nvPr/>
        </p:nvPicPr>
        <p:blipFill>
          <a:blip r:embed="rId2"/>
          <a:stretch/>
        </p:blipFill>
        <p:spPr>
          <a:xfrm>
            <a:off x="0" y="4803840"/>
            <a:ext cx="320040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get (7)"/>
          <p:cNvPicPr/>
          <p:nvPr/>
        </p:nvPicPr>
        <p:blipFill>
          <a:blip r:embed="rId3"/>
          <a:stretch/>
        </p:blipFill>
        <p:spPr>
          <a:xfrm>
            <a:off x="3200400" y="4789440"/>
            <a:ext cx="3086280" cy="208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get (4)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get"/>
          <p:cNvPicPr/>
          <p:nvPr/>
        </p:nvPicPr>
        <p:blipFill>
          <a:blip r:embed="rId5"/>
          <a:srcRect l="0" t="0" r="0" b="12051"/>
          <a:stretch/>
        </p:blipFill>
        <p:spPr>
          <a:xfrm>
            <a:off x="3200400" y="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609480" y="27432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唱给</a:t>
            </a:r>
            <a:r>
              <a:rPr b="0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————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让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陪、伴）</a:t>
            </a:r>
            <a:r>
              <a:rPr b="0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——————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get (8)"/>
          <p:cNvPicPr/>
          <p:nvPr/>
        </p:nvPicPr>
        <p:blipFill>
          <a:blip r:embed="rId6"/>
          <a:stretch/>
        </p:blipFill>
        <p:spPr>
          <a:xfrm>
            <a:off x="0" y="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" descr=""/>
          <p:cNvPicPr/>
          <p:nvPr/>
        </p:nvPicPr>
        <p:blipFill>
          <a:blip r:embed="rId7"/>
          <a:stretch/>
        </p:blipFill>
        <p:spPr>
          <a:xfrm>
            <a:off x="6286680" y="4749840"/>
            <a:ext cx="29718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2438280" y="1828800"/>
            <a:ext cx="5181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边唱边拉起手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行人送去一片凉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边唱边轻轻鼓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金色的太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它使我们翠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它使我们染上金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562040" y="1828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杨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02040" y="1828800"/>
            <a:ext cx="16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响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316560" y="1828800"/>
            <a:ext cx="16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陪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537240" y="1908000"/>
            <a:ext cx="17686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3581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凉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038480" y="3581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鼓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324480" y="358128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感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295280" y="1981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895480" y="198108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343400" y="19051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867280" y="19051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238880" y="19051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295280" y="35812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2895480" y="358128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771560" y="2392200"/>
            <a:ext cx="461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419720" y="35812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036480" y="3581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7238880" y="35812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3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338720" cy="4429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94080" y="147636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3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4338720" cy="4429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798640" y="147636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亮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3:24:25Z</dcterms:created>
  <dc:creator/>
  <dc:description/>
  <dc:language>en-US</dc:language>
  <cp:lastModifiedBy/>
  <dcterms:modified xsi:type="dcterms:W3CDTF">2014-04-23T03:04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