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935-575A-4784-A103-A4836B21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B93-4123-45EC-A88B-184A53C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E22-7214-4D9F-9F34-F6BAF333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72B-B69F-4A24-B414-B75A858B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D80-BE86-4267-BAEB-875A837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366-0831-4A52-B6D1-CA4DB27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891-C0F8-4652-95E9-DB711DDA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D4D-F9BB-4B1D-9221-AAD02D2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ADE-3812-44CA-803D-45FFDA98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962-5100-490F-BCEF-B29A1F07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185-AA37-47A4-968D-78B5925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2AB-1FE3-44B4-8DCF-BF7ACD2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6CC-6C20-4A96-AD32-319C6354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7a08410c963103d203f2e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590920" y="121932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一片树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835200" y="530280"/>
            <a:ext cx="74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每一个路过的小家伙，都取下了一片树叶。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仅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过了一天，当小黄牛来浇水时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目瞪口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小椿树一片叶子也不剩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58960" y="3213000"/>
            <a:ext cx="2022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、仅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758960" y="4021200"/>
            <a:ext cx="5221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强调时间很短，只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58960" y="4765680"/>
            <a:ext cx="1589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、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58960" y="5661000"/>
            <a:ext cx="5221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说明情况出乎意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-30240" y="158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2843280" y="1158840"/>
            <a:ext cx="446544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目瞪口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46200" y="3132000"/>
            <a:ext cx="729288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瞪着眼睛说不出话来，本文形容因为吃惊而发愣的样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990720" y="152388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你是这棵小椿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想对动物们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未命名"/>
          <p:cNvPicPr/>
          <p:nvPr/>
        </p:nvPicPr>
        <p:blipFill>
          <a:blip r:embed="rId2"/>
          <a:srcRect l="0" t="0" r="-1193" b="0"/>
          <a:stretch/>
        </p:blipFill>
        <p:spPr>
          <a:xfrm>
            <a:off x="423720" y="3611520"/>
            <a:ext cx="640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13716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2"/>
          <p:cNvPicPr/>
          <p:nvPr/>
        </p:nvPicPr>
        <p:blipFill>
          <a:blip r:embed="rId2"/>
          <a:stretch/>
        </p:blipFill>
        <p:spPr>
          <a:xfrm>
            <a:off x="533520" y="558720"/>
            <a:ext cx="6858000" cy="3753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771480" y="4632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见小椿树一片叶子也不剩，小动物们会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85800" y="9907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62120" y="19051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勿以恶小而为之，勿以善小而不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正的爱是用行动，而不是说说而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1600200" y="81900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勿以恶小而为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324000" y="1989000"/>
            <a:ext cx="8137440" cy="11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68360" y="3933720"/>
            <a:ext cx="8136000" cy="2376720"/>
          </a:xfrm>
          <a:prstGeom prst="roundRect">
            <a:avLst>
              <a:gd name="adj" fmla="val 130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7440" y="40989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醒：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小错误的累积有可能酿成大错误，我们千万不能因为是小错误就去做一些不该做的事情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9280" y="255600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意思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要以为坏事很小就去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487520" y="70812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勿以善小而不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76360" y="357336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80880" y="35845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忠告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也许一个人只是做了很小的一件好事，但是，做的人多了，就有可能会发生奇迹。小朋友们，让我们都来做好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6922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80880" y="2368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意思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要以为好事很小就不去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200400" y="2787480"/>
            <a:ext cx="21718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谢 谢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914400" y="121932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椿树       嫩叶     书签     纪念    秀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14400" y="2362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抖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保护      欣  赏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523880" y="3276720"/>
            <a:ext cx="624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90720" y="3581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攀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表演       咂着嘴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醉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滋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43000" y="4952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尝尝     仅仅      捋      剩下       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38080" y="60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ūn      nèn         q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914400" y="1905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ǒu        bǎo      xī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ǎ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zàn    ji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99072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ān        yǎn      zā               zuì      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990720" y="4419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áng        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     luō     shèng        qi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7200" y="1523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围绕课题，课文讲了一个什么故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90720" y="48769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3048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栽下一棵小椿树，路过的小动物们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结果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609480" y="19810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路过的小动物们喜欢小椿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90720" y="48769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5800" y="4876920"/>
            <a:ext cx="19051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幻灯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743200" y="48769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52880" y="48769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15840" y="-648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1447920"/>
            <a:ext cx="7238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哟，一棵多么漂亮的小树！当然应该爱护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只小兔子蹦蹦跳跳地走过，欣赏一阵之后，赞叹地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“小树太可爱了，把一片嫩叶夹在我的画册里当书签，那多美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兔子小心地摘下一片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1722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33520" y="838080"/>
            <a:ext cx="7162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一发现小树苗，便欢呼起来：“多么秀丽的小椿树哇！以后它一定会长得高耸入云。到那时，我要在树干上做攀登技巧表演。噢，让我取片叶子做个纪念吧，对，只要一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仔细地掐下了一片树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6324480" y="137160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2666880" y="502920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09480" y="19810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85800" y="9907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6858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熊对小树看了又看，闻了又闻，咂着嘴说：“这棵小树不只长得好看，还有股醉人的香味儿。我要摘一片叶子尝尝，看到底是什么滋味。不错，为了爱护小树，我绝对不采第二片叶子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熊捋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ō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一片小椿树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505320" y="12952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533520" y="1828800"/>
            <a:ext cx="2819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3492360" y="0"/>
            <a:ext cx="3961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欣赏 赞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26920" y="2349360"/>
            <a:ext cx="43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欢呼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484360" y="393372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看了又看 闻了又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5640" y="693720"/>
            <a:ext cx="39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兔子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   熊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419640" y="620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59280" y="76500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Tahoma"/>
              </a:rPr>
              <a:t>小心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地摘下一片叶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3564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5292720" y="1628640"/>
            <a:ext cx="216000" cy="21600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987640" y="2708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Tahoma"/>
              </a:rPr>
              <a:t>仔细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地掐下一片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435640" y="3068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5219640" y="3573360"/>
            <a:ext cx="216000" cy="21600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79280" y="234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79280" y="4076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042920" y="5013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203640" y="443700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捋下一片小椿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419640" y="558972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3492360" y="5229360"/>
            <a:ext cx="216000" cy="21564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042920" y="9079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小兔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1042920" y="278136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小猴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044720" y="45100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小   熊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5:50:54Z</dcterms:created>
  <dc:creator/>
  <dc:description/>
  <dc:language>en-US</dc:language>
  <cp:lastModifiedBy/>
  <dcterms:modified xsi:type="dcterms:W3CDTF">2014-04-23T05:02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