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C8B-60A3-48F3-8010-3B3637C7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390-625F-45EE-97A0-DBD67649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B43-5A0E-4B24-B7E9-8727F007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91E-D9CC-417F-9E08-E002855B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0C65-2971-4A2F-9860-334594E3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99FF-30AA-45B8-B8EA-9671D541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3977-DDF2-496F-B1AA-58A7630F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D739-30C7-4B78-B577-9664E4A8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DF9F-2600-456E-AC7A-A042BB41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A270-8771-4A18-835B-A99140D6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3BDC-A0D4-4A35-BB24-7F32B437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6A7-6B13-4756-9091-B0953C9E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4791-BE79-44CF-AE6D-FF35FBA2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7E37-0A24-46B5-81ED-F0F4A951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E868-FFCE-4E31-9109-379505A4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3661-1AEB-4ABE-94F5-94A85881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EB1C-23EB-47A4-84B9-3EAFA2B5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53A-B06E-4E47-813D-E0A105D0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1DC-7F15-4387-BC07-8339D679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D70-D797-47D1-8153-0FB97C02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520-D773-4F2B-B5A7-C9F75A94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948-1A06-499E-BB0F-D06C6AD2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291-0E80-46AD-BCF3-3CC619D7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771-1F66-4690-B3CF-EC702D78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46E3-F18D-44C0-AC1F-32A8E40E021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A1E1-4FF5-4AFC-AC21-502DF25F206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sm047"/>
          <p:cNvPicPr/>
          <p:nvPr/>
        </p:nvPicPr>
        <p:blipFill>
          <a:blip r:embed="rId1"/>
          <a:stretch/>
        </p:blipFill>
        <p:spPr>
          <a:xfrm>
            <a:off x="0" y="-385920"/>
            <a:ext cx="9396360" cy="8107560"/>
          </a:xfrm>
          <a:prstGeom prst="rect">
            <a:avLst/>
          </a:prstGeom>
          <a:ln w="0">
            <a:noFill/>
          </a:ln>
        </p:spPr>
      </p:pic>
      <p:sp>
        <p:nvSpPr>
          <p:cNvPr id="152" name="WordArt 7"/>
          <p:cNvSpPr txBox="1"/>
          <p:nvPr/>
        </p:nvSpPr>
        <p:spPr>
          <a:xfrm>
            <a:off x="1897200" y="882720"/>
            <a:ext cx="5600520" cy="18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25560">
                  <a:solidFill>
                    <a:srgbClr val="993300"/>
                  </a:solidFill>
                  <a:miter/>
                </a:ln>
                <a:solidFill>
                  <a:srgbClr val="003300"/>
                </a:solidFill>
                <a:effectLst>
                  <a:outerShdw dist="107932" dir="18900000" blurRad="0" rotWithShape="0">
                    <a:srgbClr val="000099">
                      <a:alpha val="50000"/>
                    </a:srgbClr>
                  </a:outerShdw>
                </a:effectLst>
                <a:latin typeface="宋体"/>
              </a:rPr>
              <a:t>植树的季节</a:t>
            </a:r>
            <a:endParaRPr b="1" lang="en-US" sz="6000" spc="1" strike="noStrike">
              <a:ln w="25560">
                <a:solidFill>
                  <a:srgbClr val="993300"/>
                </a:solidFill>
                <a:miter/>
              </a:ln>
              <a:solidFill>
                <a:srgbClr val="003300"/>
              </a:solidFill>
              <a:effectLst>
                <a:outerShdw dist="107932" dir="18900000" blurRad="0" rotWithShape="0">
                  <a:srgbClr val="000099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Object 3" descr=""/>
          <p:cNvPicPr/>
          <p:nvPr/>
        </p:nvPicPr>
        <p:blipFill>
          <a:blip r:embed="rId1"/>
          <a:stretch/>
        </p:blipFill>
        <p:spPr>
          <a:xfrm>
            <a:off x="2916360" y="1952640"/>
            <a:ext cx="4338360" cy="44290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2978280" y="1916280"/>
            <a:ext cx="4114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整</a:t>
            </a:r>
            <a:endParaRPr b="0" lang="en-US" sz="2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094200" y="217440"/>
            <a:ext cx="387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Gothic"/>
                <a:ea typeface="仿宋_GB2312"/>
              </a:rPr>
              <a:t>zheng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4643280" y="333360"/>
            <a:ext cx="214560" cy="28728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Line 7"/>
          <p:cNvSpPr/>
          <p:nvPr/>
        </p:nvSpPr>
        <p:spPr>
          <a:xfrm flipV="1">
            <a:off x="4857840" y="333360"/>
            <a:ext cx="217440" cy="28728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3" descr=""/>
          <p:cNvPicPr/>
          <p:nvPr/>
        </p:nvPicPr>
        <p:blipFill>
          <a:blip r:embed="rId1"/>
          <a:stretch/>
        </p:blipFill>
        <p:spPr>
          <a:xfrm>
            <a:off x="2916360" y="1952640"/>
            <a:ext cx="4338360" cy="44290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2978280" y="1916280"/>
            <a:ext cx="4114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齐</a:t>
            </a:r>
            <a:endParaRPr b="0" lang="en-US" sz="2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4263480" y="23760"/>
            <a:ext cx="132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qi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AutoShape 6"/>
          <p:cNvSpPr/>
          <p:nvPr/>
        </p:nvSpPr>
        <p:spPr>
          <a:xfrm rot="19358400">
            <a:off x="5219280" y="259920"/>
            <a:ext cx="504720" cy="144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Object 3" descr=""/>
          <p:cNvPicPr/>
          <p:nvPr/>
        </p:nvPicPr>
        <p:blipFill>
          <a:blip r:embed="rId1"/>
          <a:stretch/>
        </p:blipFill>
        <p:spPr>
          <a:xfrm>
            <a:off x="2916360" y="1952640"/>
            <a:ext cx="4338360" cy="44290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2978280" y="1916280"/>
            <a:ext cx="4114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队</a:t>
            </a:r>
            <a:endParaRPr b="0" lang="en-US" sz="2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3918240" y="239760"/>
            <a:ext cx="205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d</a:t>
            </a:r>
            <a:r>
              <a:rPr b="1" lang="en-US" sz="9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u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5510160" y="404640"/>
            <a:ext cx="214200" cy="28764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Object 3" descr=""/>
          <p:cNvPicPr/>
          <p:nvPr/>
        </p:nvPicPr>
        <p:blipFill>
          <a:blip r:embed="rId1"/>
          <a:stretch/>
        </p:blipFill>
        <p:spPr>
          <a:xfrm>
            <a:off x="2916360" y="1952640"/>
            <a:ext cx="4338360" cy="44290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978280" y="1916280"/>
            <a:ext cx="4114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葱</a:t>
            </a:r>
            <a:endParaRPr b="0" lang="en-US" sz="2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3595320" y="168120"/>
            <a:ext cx="31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cong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04640"/>
            <a:ext cx="504720" cy="1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Object 3" descr=""/>
          <p:cNvPicPr/>
          <p:nvPr/>
        </p:nvPicPr>
        <p:blipFill>
          <a:blip r:embed="rId1"/>
          <a:stretch/>
        </p:blipFill>
        <p:spPr>
          <a:xfrm>
            <a:off x="2916360" y="1952640"/>
            <a:ext cx="4338360" cy="44290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2978280" y="1916280"/>
            <a:ext cx="4114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翠</a:t>
            </a:r>
            <a:endParaRPr b="0" lang="en-US" sz="2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4047120" y="239760"/>
            <a:ext cx="191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9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u</a:t>
            </a: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5437080" y="333360"/>
            <a:ext cx="214560" cy="28728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5"/>
          <p:cNvSpPr/>
          <p:nvPr/>
        </p:nvSpPr>
        <p:spPr>
          <a:xfrm>
            <a:off x="4135680" y="3213000"/>
            <a:ext cx="114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你想对小树说些什么？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2403720" y="260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entury Gothic"/>
                <a:ea typeface="华文新魏"/>
              </a:rPr>
              <a:t>讨论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2847240" y="1844640"/>
            <a:ext cx="152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  <a:ea typeface="华文新魏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Century Gothic"/>
                <a:ea typeface="华文新魏"/>
              </a:rPr>
              <a:t>、说说树的作用。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21618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黑体"/>
                <a:ea typeface="黑体"/>
              </a:rPr>
              <a:t>谢 谢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3"/>
          <p:cNvSpPr txBox="1"/>
          <p:nvPr/>
        </p:nvSpPr>
        <p:spPr>
          <a:xfrm>
            <a:off x="1411200" y="189000"/>
            <a:ext cx="5759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ff00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你们认识这些词语吗？</a:t>
            </a:r>
            <a:endParaRPr b="1" lang="en-US" sz="9600" spc="1" strike="noStrike">
              <a:ln w="12600">
                <a:solidFill>
                  <a:srgbClr val="ff00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629640" y="2924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植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树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358360" y="2924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仿佛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073040" y="2874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呼吸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730120" y="2874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扛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着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7359120" y="28670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栽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到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29640" y="3882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浇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水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287080" y="3913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土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001400" y="3840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整齐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5658840" y="3882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排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队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7346520" y="3828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欢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迎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4"/>
          <p:cNvSpPr/>
          <p:nvPr/>
        </p:nvSpPr>
        <p:spPr>
          <a:xfrm>
            <a:off x="588240" y="220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起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2315520" y="220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凉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960360" y="220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荒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山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5601600" y="220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采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伐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7212960" y="220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屏障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516960" y="3286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服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2215800" y="328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湿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漉漉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4376520" y="328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冒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出来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6528240" y="3284640"/>
            <a:ext cx="152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一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捆捆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1280880" y="4270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红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艳艳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3512880" y="4292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黄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澄澄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5932800" y="4270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青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华文中宋"/>
              </a:rPr>
              <a:t>葱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绿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1741320" y="115920"/>
            <a:ext cx="43434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3240">
                  <a:solidFill>
                    <a:srgbClr val="ff0066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看谁读的棒！</a:t>
            </a:r>
            <a:endParaRPr b="0" lang="en-US" sz="9600" spc="1" strike="noStrike">
              <a:ln w="3240">
                <a:solidFill>
                  <a:srgbClr val="ff0066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73680" y="1525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植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689120" y="155736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仿   佛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4065480" y="155736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呼   吸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347160" y="15969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扛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7534800" y="1565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栽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298800" y="2460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浇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813320" y="2533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培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41480" y="253368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整   齐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5271120" y="26049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队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6350400" y="26049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迎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7646040" y="263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撑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00600" y="3573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纳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670400" y="3613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荒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2818440" y="3686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伐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921120" y="368604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屏   障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6350400" y="3686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制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7574400" y="37180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漉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298800" y="4694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冒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1597320" y="46944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捆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2821320" y="47260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艳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970800" y="4797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澄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5126400" y="48369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葱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6352920" y="4910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翠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7503120" y="4910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场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4511520" y="14130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71101"/>
                </a:solidFill>
                <a:latin typeface="Century Gothic"/>
                <a:ea typeface="华文中宋"/>
              </a:rPr>
              <a:t>组词，看谁组得多。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505880" y="2762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华文中宋"/>
              </a:rPr>
              <a:t>植树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434240" y="4125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华文中宋"/>
              </a:rPr>
              <a:t>树叶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183480" y="41259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华文中宋"/>
              </a:rPr>
              <a:t>树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5055120" y="4157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华文中宋"/>
              </a:rPr>
              <a:t>树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00400" y="2563920"/>
            <a:ext cx="1079640" cy="1218960"/>
            <a:chOff x="3200400" y="2563920"/>
            <a:chExt cx="1079640" cy="1218960"/>
          </a:xfrm>
        </p:grpSpPr>
        <p:pic>
          <p:nvPicPr>
            <p:cNvPr id="207" name="Object 14" descr=""/>
            <p:cNvPicPr/>
            <p:nvPr/>
          </p:nvPicPr>
          <p:blipFill>
            <a:blip r:embed="rId1"/>
            <a:stretch/>
          </p:blipFill>
          <p:spPr>
            <a:xfrm>
              <a:off x="3200400" y="2563920"/>
              <a:ext cx="1079640" cy="11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5"/>
            <p:cNvSpPr/>
            <p:nvPr/>
          </p:nvSpPr>
          <p:spPr>
            <a:xfrm>
              <a:off x="3311280" y="2959560"/>
              <a:ext cx="6336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780000" y="4005360"/>
            <a:ext cx="1079280" cy="1218960"/>
            <a:chOff x="3780000" y="4005360"/>
            <a:chExt cx="1079280" cy="1218960"/>
          </a:xfrm>
        </p:grpSpPr>
        <p:pic>
          <p:nvPicPr>
            <p:cNvPr id="210" name="Object 17" descr=""/>
            <p:cNvPicPr/>
            <p:nvPr/>
          </p:nvPicPr>
          <p:blipFill>
            <a:blip r:embed="rId2"/>
            <a:stretch/>
          </p:blipFill>
          <p:spPr>
            <a:xfrm>
              <a:off x="3780000" y="4005360"/>
              <a:ext cx="1079280" cy="11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18"/>
            <p:cNvSpPr/>
            <p:nvPr/>
          </p:nvSpPr>
          <p:spPr>
            <a:xfrm>
              <a:off x="3890880" y="4401000"/>
              <a:ext cx="6332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649840" y="4010040"/>
            <a:ext cx="1079640" cy="1218960"/>
            <a:chOff x="5649840" y="4010040"/>
            <a:chExt cx="1079640" cy="1218960"/>
          </a:xfrm>
        </p:grpSpPr>
        <p:pic>
          <p:nvPicPr>
            <p:cNvPr id="213" name="Object 20" descr=""/>
            <p:cNvPicPr/>
            <p:nvPr/>
          </p:nvPicPr>
          <p:blipFill>
            <a:blip r:embed="rId3"/>
            <a:stretch/>
          </p:blipFill>
          <p:spPr>
            <a:xfrm>
              <a:off x="5649840" y="4010040"/>
              <a:ext cx="107964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21"/>
            <p:cNvSpPr/>
            <p:nvPr/>
          </p:nvSpPr>
          <p:spPr>
            <a:xfrm>
              <a:off x="5760720" y="4405680"/>
              <a:ext cx="6336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15" name="Text Box 22"/>
          <p:cNvSpPr/>
          <p:nvPr/>
        </p:nvSpPr>
        <p:spPr>
          <a:xfrm>
            <a:off x="4043880" y="2789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华文中宋"/>
              </a:rPr>
              <a:t>树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003640" y="2568600"/>
            <a:ext cx="1079640" cy="1218960"/>
            <a:chOff x="5003640" y="2568600"/>
            <a:chExt cx="1079640" cy="1218960"/>
          </a:xfrm>
        </p:grpSpPr>
        <p:pic>
          <p:nvPicPr>
            <p:cNvPr id="217" name="Object 25" descr=""/>
            <p:cNvPicPr/>
            <p:nvPr/>
          </p:nvPicPr>
          <p:blipFill>
            <a:blip r:embed="rId4"/>
            <a:stretch/>
          </p:blipFill>
          <p:spPr>
            <a:xfrm>
              <a:off x="5003640" y="2568600"/>
              <a:ext cx="107964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26"/>
            <p:cNvSpPr/>
            <p:nvPr/>
          </p:nvSpPr>
          <p:spPr>
            <a:xfrm>
              <a:off x="5114520" y="2964240"/>
              <a:ext cx="6336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19" name="Text Box 27"/>
          <p:cNvSpPr/>
          <p:nvPr/>
        </p:nvSpPr>
        <p:spPr>
          <a:xfrm>
            <a:off x="5916960" y="27795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entury Gothic"/>
                <a:ea typeface="华文中宋"/>
              </a:rPr>
              <a:t>树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Object 5" descr=""/>
          <p:cNvPicPr/>
          <p:nvPr/>
        </p:nvPicPr>
        <p:blipFill>
          <a:blip r:embed="rId1"/>
          <a:stretch/>
        </p:blipFill>
        <p:spPr>
          <a:xfrm>
            <a:off x="2916360" y="1952640"/>
            <a:ext cx="4338360" cy="44290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2978280" y="2111400"/>
            <a:ext cx="4114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植</a:t>
            </a:r>
            <a:endParaRPr b="0" lang="en-US" sz="2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97080" y="16200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h 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580000" y="765000"/>
            <a:ext cx="142920" cy="64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AutoShape 10"/>
          <p:cNvSpPr/>
          <p:nvPr/>
        </p:nvSpPr>
        <p:spPr>
          <a:xfrm rot="19358400">
            <a:off x="5435640" y="404640"/>
            <a:ext cx="504720" cy="1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Object 5" descr=""/>
          <p:cNvPicPr/>
          <p:nvPr/>
        </p:nvPicPr>
        <p:blipFill>
          <a:blip r:embed="rId1"/>
          <a:stretch/>
        </p:blipFill>
        <p:spPr>
          <a:xfrm>
            <a:off x="2916360" y="1952640"/>
            <a:ext cx="4338360" cy="4429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978280" y="1916280"/>
            <a:ext cx="4114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场</a:t>
            </a:r>
            <a:endParaRPr b="0" lang="en-US" sz="2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048120" y="291960"/>
            <a:ext cx="391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Gothic"/>
                <a:ea typeface="仿宋_GB2312"/>
              </a:rPr>
              <a:t>chang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Line 11"/>
          <p:cNvSpPr/>
          <p:nvPr/>
        </p:nvSpPr>
        <p:spPr>
          <a:xfrm>
            <a:off x="4788000" y="404640"/>
            <a:ext cx="214200" cy="28764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Line 12"/>
          <p:cNvSpPr/>
          <p:nvPr/>
        </p:nvSpPr>
        <p:spPr>
          <a:xfrm flipV="1">
            <a:off x="5002200" y="404280"/>
            <a:ext cx="217440" cy="28764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Object 3" descr=""/>
          <p:cNvPicPr/>
          <p:nvPr/>
        </p:nvPicPr>
        <p:blipFill>
          <a:blip r:embed="rId1"/>
          <a:stretch/>
        </p:blipFill>
        <p:spPr>
          <a:xfrm>
            <a:off x="2916360" y="1952640"/>
            <a:ext cx="4338360" cy="44290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2978280" y="1916280"/>
            <a:ext cx="4114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扛</a:t>
            </a:r>
            <a:endParaRPr b="0" lang="en-US" sz="2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486600" y="168120"/>
            <a:ext cx="324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Gothic"/>
              </a:rPr>
              <a:t>kang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AutoShape 6"/>
          <p:cNvSpPr/>
          <p:nvPr/>
        </p:nvSpPr>
        <p:spPr>
          <a:xfrm rot="19358400">
            <a:off x="4500720" y="404640"/>
            <a:ext cx="504720" cy="1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Object 3" descr=""/>
          <p:cNvPicPr/>
          <p:nvPr/>
        </p:nvPicPr>
        <p:blipFill>
          <a:blip r:embed="rId1"/>
          <a:stretch/>
        </p:blipFill>
        <p:spPr>
          <a:xfrm>
            <a:off x="2916360" y="1952640"/>
            <a:ext cx="4338360" cy="4429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2978280" y="1916280"/>
            <a:ext cx="4114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培</a:t>
            </a:r>
            <a:endParaRPr b="0" lang="en-US" sz="2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4004640" y="174600"/>
            <a:ext cx="204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Gothic"/>
                <a:ea typeface="华文中宋"/>
              </a:rPr>
              <a:t>pei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AutoShape 6"/>
          <p:cNvSpPr/>
          <p:nvPr/>
        </p:nvSpPr>
        <p:spPr>
          <a:xfrm rot="19358400">
            <a:off x="5148360" y="404640"/>
            <a:ext cx="504720" cy="1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01:10:53Z</dcterms:created>
  <dc:creator/>
  <dc:description/>
  <dc:language>en-US</dc:language>
  <cp:lastModifiedBy/>
  <dcterms:modified xsi:type="dcterms:W3CDTF">2014-04-23T02:39:5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