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6D1-089F-4584-98A3-32C95FCE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FCC-59B3-4D05-A752-7E51E93F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75E-C34C-4512-8D93-982859C2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A4E-BF5C-4E7B-AE10-8205B2DB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06D-54B3-4D7A-BE38-E254120B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53C-60C3-4AEC-9D39-EDD770AD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FA8-1B92-414D-BC8C-408B57E5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BB5-8AAA-4525-9BF2-5587BFFC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3A4-A1AA-4D73-9D96-759103D1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4223-99A3-4D4B-A44A-E669042A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008-8387-4295-9353-45DA5D24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8EC-7DAC-40AA-A9A5-744FF170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FE19-F79A-47B3-8A0C-9B2D44C1C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水静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755640" y="620640"/>
            <a:ext cx="7372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美丽的武夷山</a:t>
            </a:r>
            <a:endParaRPr b="1" lang="en-US" sz="9600" spc="1" strike="noStrike">
              <a:ln w="1260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00000" y="65181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e106"/>
                </a:solidFill>
                <a:latin typeface="Arial"/>
                <a:ea typeface="黑体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6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"/>
          <p:cNvSpPr/>
          <p:nvPr/>
        </p:nvSpPr>
        <p:spPr>
          <a:xfrm>
            <a:off x="-179280" y="234936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68360" y="19044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溪水很清，清得可以看见溪底的沙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8137440" y="0"/>
            <a:ext cx="100656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071113034545503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58920" y="1342800"/>
            <a:ext cx="70581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武夷山的溪水绕着山峰转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九个弯，所以就叫九曲溪。溪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很清，清得可以看见溪底的沙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溪水很静，静得像一面镜子。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岸的山峰、绿竹映入水中，就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一幅水上的风景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7"/>
          <p:cNvPicPr/>
          <p:nvPr/>
        </p:nvPicPr>
        <p:blipFill>
          <a:blip r:embed="rId1"/>
          <a:stretch/>
        </p:blipFill>
        <p:spPr>
          <a:xfrm>
            <a:off x="19080" y="333360"/>
            <a:ext cx="9137520" cy="652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99840" y="10800"/>
            <a:ext cx="8335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到武夷山游览，可以爬山，也可以坐在古朴的竹筏上，在九曲溪上绕着山峰静静地、缓缓地、曲曲弯弯地漂行。溪水轻轻拍着竹筏，青山徐徐从两边退去，人们会有一种入诗入画的感觉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71113034545503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5280" y="1125000"/>
            <a:ext cx="7427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古人云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桂林山水甲天下，不如武夷一小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郭沫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武夷山上有仙灵，山下寒流曲曲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朱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武夷收尽天下美，愿乘长风我再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白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"/>
          <p:cNvPicPr/>
          <p:nvPr/>
        </p:nvPicPr>
        <p:blipFill>
          <a:blip r:embed="rId1"/>
          <a:srcRect l="5661" t="0" r="0" b="0"/>
          <a:stretch/>
        </p:blipFill>
        <p:spPr>
          <a:xfrm>
            <a:off x="-6480" y="0"/>
            <a:ext cx="91886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4"/>
          <p:cNvSpPr txBox="1"/>
          <p:nvPr/>
        </p:nvSpPr>
        <p:spPr>
          <a:xfrm>
            <a:off x="395280" y="33336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也是小导游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71113034545503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作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收集其他著名景点的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祖国河山的秀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背诵古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华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感受西岳华山的险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7"/>
          <p:cNvSpPr txBox="1"/>
          <p:nvPr/>
        </p:nvSpPr>
        <p:spPr>
          <a:xfrm rot="20503800">
            <a:off x="1843200" y="518760"/>
            <a:ext cx="25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8378000"/>
                </a:gradFill>
                <a:latin typeface="宋体"/>
              </a:rPr>
              <a:t>词语列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8378000"/>
              </a:gradFill>
              <a:latin typeface="宋体"/>
              <a:ea typeface="宋体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684360" y="18525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武夷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844720" y="18525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福建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5364000" y="185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山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7524720" y="18525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溪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684360" y="27162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随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2771640" y="278928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山势险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5437080" y="27162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玉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7380360" y="2644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竹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11280" y="36529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古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2771640" y="365292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缓缓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5076720" y="358128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徐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7020000" y="3581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西北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611280" y="4589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最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771640" y="4589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通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5003640" y="45165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沙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7020000" y="44449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景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611280" y="55245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爬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700360" y="545292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入诗入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071113034545503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74920" y="1557360"/>
            <a:ext cx="59529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武夷山在福建省西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部，那里峰峰有溪水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绕，溪水随山峰弯曲回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20071113034545503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611280" y="1125360"/>
            <a:ext cx="79214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武夷山造型奇特，山势险峻。</a:t>
            </a:r>
            <a:br>
              <a:rPr sz="4000"/>
            </a:b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三十六峰有的像玉柱，有的像火 </a:t>
            </a:r>
            <a:br>
              <a:rPr sz="4000"/>
            </a:b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把，有的像鲜花，有的像竹笋。最</a:t>
            </a:r>
            <a:br>
              <a:rPr sz="4000"/>
            </a:b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险的是大王峰，从峰底向上有人工开出的台阶，一直通向峰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0071113034545503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三十六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玉柱，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的像火 把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鲜花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有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像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竹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71113034545503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三十六峰有的像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——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有的像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—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有的像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————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1908000" y="1413000"/>
            <a:ext cx="575964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展开想象的翅膀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071113034545503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611280" y="1125360"/>
            <a:ext cx="79214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武夷山造型奇特，山势险峻。</a:t>
            </a:r>
            <a:br>
              <a:rPr sz="4000"/>
            </a:b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三十六峰有的像玉柱，有的像火 </a:t>
            </a:r>
            <a:br>
              <a:rPr sz="4000"/>
            </a:b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把，有的像鲜花，有的像竹笋。最</a:t>
            </a:r>
            <a:br>
              <a:rPr sz="4000"/>
            </a:b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险的是大王峰，从峰底向上有人工开出的台阶，一直通向峰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971640" y="981000"/>
            <a:ext cx="7272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九曲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685360" y="333360"/>
            <a:ext cx="458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952680" y="189000"/>
            <a:ext cx="21913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Arial"/>
                <a:ea typeface="华文行楷"/>
              </a:rPr>
              <a:t>九曲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倒影图片"/>
          <p:cNvPicPr/>
          <p:nvPr/>
        </p:nvPicPr>
        <p:blipFill>
          <a:blip r:embed="rId1"/>
          <a:srcRect l="0" t="0" r="-381" b="0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366840" y="3782880"/>
            <a:ext cx="874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溪水很静，静得像一面镜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07:38:18Z</dcterms:created>
  <dc:creator/>
  <dc:description/>
  <dc:language>en-US</dc:language>
  <cp:lastModifiedBy/>
  <dcterms:modified xsi:type="dcterms:W3CDTF">2014-04-24T00:28:15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