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46179-FE47-4D25-AA40-F1A98AA57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D5D72-D1B0-4B1C-AC48-5F93B717C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8B5AF-D194-4A0B-975F-F3BEA0BCE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4CB2D-40E2-4CE6-881D-EA553DEE7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18BB8-0743-4F18-9F4F-8A131BEF6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25EB7-255F-41AC-B524-E61BBB6E4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9ED7C-1F48-4581-8FD7-20E7CFAB1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6E4F7-6C22-4D8C-86CE-106AF0966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8AD55-B6EE-4F6A-8710-BBE550220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2AC98-1828-41A0-ABF8-9C9FB2E6C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CCDAF-BAF1-4D78-835D-F644DDA5A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E0271-07CD-4E73-A845-59FB8B512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6145A-2088-4A64-B98B-6B6168193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A480A-0327-4652-BF5C-6FE0CC0D9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37491-E906-4913-A0BD-3AC579FCB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C2433-3591-44D3-A630-CCFCA5F92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BCB96-967B-49D8-978C-F1927B10A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1BC23-6046-4051-B8DA-991042864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0157E-AC4A-4CC3-B201-FB4D0327F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EEE5F-345F-4C83-BDB7-7DDDB6107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F56C4-D1BF-47C2-A295-EA97C5571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8CA92-044B-47DC-912A-8A7081D5A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384BA-CD89-4EBE-903C-595C2B3FC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EDCAE-A882-4439-B123-0ADC9DEEF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FC247-5018-4DDC-9DEC-1B15A3596AD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50E5E-2685-4A4F-8A27-AD506D1DDBD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 rot="5400000">
            <a:off x="3246480" y="2354400"/>
            <a:ext cx="2835360" cy="1628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山寨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3"/>
          <p:cNvSpPr/>
          <p:nvPr/>
        </p:nvSpPr>
        <p:spPr>
          <a:xfrm>
            <a:off x="250920" y="1268280"/>
            <a:ext cx="396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（        ）的山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4859280" y="1268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（         ）的小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2411280" y="4292640"/>
            <a:ext cx="54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林遮树掩的（        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6"/>
          <p:cNvSpPr/>
          <p:nvPr/>
        </p:nvSpPr>
        <p:spPr>
          <a:xfrm>
            <a:off x="250920" y="2708280"/>
            <a:ext cx="396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（        ）的小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7"/>
          <p:cNvSpPr/>
          <p:nvPr/>
        </p:nvSpPr>
        <p:spPr>
          <a:xfrm>
            <a:off x="4932360" y="2708280"/>
            <a:ext cx="396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（        ）的青藤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2"/>
          <p:cNvSpPr/>
          <p:nvPr/>
        </p:nvSpPr>
        <p:spPr>
          <a:xfrm>
            <a:off x="395280" y="423000"/>
            <a:ext cx="8064360" cy="40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扩词练习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烟（　　）（　　）（　　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弯（　　）（　　）（　　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唤（　　）（　　）（　　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挂（　　）（　　）（　　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2"/>
          <p:cNvSpPr/>
          <p:nvPr/>
        </p:nvSpPr>
        <p:spPr>
          <a:xfrm>
            <a:off x="1763640" y="2276640"/>
            <a:ext cx="6985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ff"/>
                </a:solidFill>
                <a:latin typeface="Arial"/>
                <a:ea typeface="楷体_GB2312"/>
              </a:rPr>
              <a:t>山寨风情欣赏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烟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3"/>
          <p:cNvSpPr/>
          <p:nvPr/>
        </p:nvSpPr>
        <p:spPr>
          <a:xfrm>
            <a:off x="1187280" y="1484280"/>
            <a:ext cx="259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</a:rPr>
              <a:t>炊  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山寨4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3"/>
          <p:cNvSpPr/>
          <p:nvPr/>
        </p:nvSpPr>
        <p:spPr>
          <a:xfrm>
            <a:off x="2268360" y="2133720"/>
            <a:ext cx="2880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</a:rPr>
              <a:t>林遮树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9"/>
          <p:cNvPicPr/>
          <p:nvPr/>
        </p:nvPicPr>
        <p:blipFill>
          <a:blip r:embed="rId2"/>
          <a:srcRect l="0" t="0" r="-390" b="0"/>
          <a:stretch/>
        </p:blipFill>
        <p:spPr>
          <a:xfrm>
            <a:off x="-47520" y="-25560"/>
            <a:ext cx="9178920" cy="689616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3"/>
          <p:cNvSpPr/>
          <p:nvPr/>
        </p:nvSpPr>
        <p:spPr>
          <a:xfrm>
            <a:off x="1263600" y="3645000"/>
            <a:ext cx="3313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</a:rPr>
              <a:t>七拐八弯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3"/>
          <p:cNvSpPr/>
          <p:nvPr/>
        </p:nvSpPr>
        <p:spPr>
          <a:xfrm>
            <a:off x="1547640" y="2604960"/>
            <a:ext cx="2881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</a:rPr>
              <a:t>青  藤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2552760" y="2092320"/>
            <a:ext cx="3811680" cy="263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875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再 见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1"/>
          <p:cNvPicPr/>
          <p:nvPr/>
        </p:nvPicPr>
        <p:blipFill>
          <a:blip r:embed="rId2"/>
          <a:srcRect l="0" t="0" r="-1183" b="10933"/>
          <a:stretch/>
        </p:blipFill>
        <p:spPr>
          <a:xfrm>
            <a:off x="0" y="19080"/>
            <a:ext cx="9252000" cy="6838920"/>
          </a:xfrm>
          <a:prstGeom prst="rect">
            <a:avLst/>
          </a:prstGeom>
          <a:ln w="0">
            <a:noFill/>
          </a:ln>
        </p:spPr>
      </p:pic>
      <p:sp>
        <p:nvSpPr>
          <p:cNvPr id="84" name="Text Box 3"/>
          <p:cNvSpPr/>
          <p:nvPr/>
        </p:nvSpPr>
        <p:spPr>
          <a:xfrm>
            <a:off x="1763640" y="1557360"/>
            <a:ext cx="7129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飘　  炊　  烟　  拐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弯　  亏　  狗　  汪　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"/>
          <p:cNvPicPr/>
          <p:nvPr/>
        </p:nvPicPr>
        <p:blipFill>
          <a:blip r:embed="rId2"/>
          <a:stretch/>
        </p:blipFill>
        <p:spPr>
          <a:xfrm>
            <a:off x="1863720" y="1413000"/>
            <a:ext cx="2016000" cy="19857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3" descr=""/>
          <p:cNvPicPr/>
          <p:nvPr/>
        </p:nvPicPr>
        <p:blipFill>
          <a:blip r:embed="rId3"/>
          <a:stretch/>
        </p:blipFill>
        <p:spPr>
          <a:xfrm>
            <a:off x="1871640" y="3625920"/>
            <a:ext cx="1935360" cy="19080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4" descr=""/>
          <p:cNvPicPr/>
          <p:nvPr/>
        </p:nvPicPr>
        <p:blipFill>
          <a:blip r:embed="rId4"/>
          <a:stretch/>
        </p:blipFill>
        <p:spPr>
          <a:xfrm>
            <a:off x="5607000" y="1469880"/>
            <a:ext cx="1957320" cy="19288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"/>
          <p:cNvPicPr/>
          <p:nvPr/>
        </p:nvPicPr>
        <p:blipFill>
          <a:blip r:embed="rId5"/>
          <a:stretch/>
        </p:blipFill>
        <p:spPr>
          <a:xfrm>
            <a:off x="5618160" y="3625920"/>
            <a:ext cx="1935000" cy="1908000"/>
          </a:xfrm>
          <a:prstGeom prst="rect">
            <a:avLst/>
          </a:prstGeom>
          <a:ln w="0">
            <a:noFill/>
          </a:ln>
        </p:spPr>
      </p:pic>
      <p:sp>
        <p:nvSpPr>
          <p:cNvPr id="89" name="TextBox 2"/>
          <p:cNvSpPr/>
          <p:nvPr/>
        </p:nvSpPr>
        <p:spPr>
          <a:xfrm>
            <a:off x="2124000" y="1413000"/>
            <a:ext cx="2879640" cy="16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5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拐</a:t>
            </a:r>
            <a:endParaRPr b="0" lang="en-US" sz="10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3"/>
          <p:cNvSpPr/>
          <p:nvPr/>
        </p:nvSpPr>
        <p:spPr>
          <a:xfrm>
            <a:off x="5823000" y="1473120"/>
            <a:ext cx="1873080" cy="16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5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狗</a:t>
            </a:r>
            <a:endParaRPr b="0" lang="en-US" sz="10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4"/>
          <p:cNvSpPr/>
          <p:nvPr/>
        </p:nvSpPr>
        <p:spPr>
          <a:xfrm>
            <a:off x="2079720" y="3716280"/>
            <a:ext cx="3929040" cy="16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5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弯</a:t>
            </a:r>
            <a:endParaRPr b="0" lang="en-US" sz="10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5"/>
          <p:cNvSpPr/>
          <p:nvPr/>
        </p:nvSpPr>
        <p:spPr>
          <a:xfrm>
            <a:off x="5846760" y="3639960"/>
            <a:ext cx="2089080" cy="16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5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亏</a:t>
            </a:r>
            <a:endParaRPr b="0" lang="en-US" sz="10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Box 1"/>
          <p:cNvSpPr/>
          <p:nvPr/>
        </p:nvSpPr>
        <p:spPr>
          <a:xfrm>
            <a:off x="1692360" y="1197000"/>
            <a:ext cx="626580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看着飘起的炊烟，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好像离山寨不远。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哪知道上山下山，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走就是</a:t>
            </a:r>
            <a:r>
              <a:rPr b="1" lang="zh-CN" sz="6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半天</a:t>
            </a:r>
            <a:r>
              <a:rPr b="1" lang="zh-CN" sz="6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！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图片 1" descr=""/>
          <p:cNvPicPr/>
          <p:nvPr/>
        </p:nvPicPr>
        <p:blipFill>
          <a:blip r:embed="rId2"/>
          <a:stretch/>
        </p:blipFill>
        <p:spPr>
          <a:xfrm>
            <a:off x="7920" y="0"/>
            <a:ext cx="9128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Box 2"/>
          <p:cNvSpPr/>
          <p:nvPr/>
        </p:nvSpPr>
        <p:spPr>
          <a:xfrm>
            <a:off x="468360" y="1052640"/>
            <a:ext cx="89280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路</a:t>
            </a:r>
            <a:r>
              <a:rPr b="1" lang="zh-CN" sz="6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七拐八弯</a:t>
            </a:r>
            <a:r>
              <a:rPr b="1" lang="zh-CN" sz="6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带着你</a:t>
            </a:r>
            <a:r>
              <a:rPr b="1" lang="zh-CN" sz="6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左转右转</a:t>
            </a:r>
            <a:r>
              <a:rPr b="1" lang="zh-CN" sz="6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明是到了寨边，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怎么一户人家也不见？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图片 1" descr=""/>
          <p:cNvPicPr/>
          <p:nvPr/>
        </p:nvPicPr>
        <p:blipFill>
          <a:blip r:embed="rId2"/>
          <a:stretch/>
        </p:blipFill>
        <p:spPr>
          <a:xfrm>
            <a:off x="0" y="4680"/>
            <a:ext cx="9144000" cy="684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Box 2"/>
          <p:cNvSpPr/>
          <p:nvPr/>
        </p:nvSpPr>
        <p:spPr>
          <a:xfrm>
            <a:off x="971640" y="1125360"/>
            <a:ext cx="832968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到处</a:t>
            </a:r>
            <a:r>
              <a:rPr b="1" lang="zh-CN" sz="6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林遮树掩</a:t>
            </a:r>
            <a:r>
              <a:rPr b="1" lang="zh-CN" sz="6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青藤垂挂</a:t>
            </a:r>
            <a:r>
              <a:rPr b="1" lang="zh-CN" sz="6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屋檐</a:t>
            </a:r>
            <a:r>
              <a:rPr b="1" lang="en-US" sz="6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……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多亏小狗几声汪汪，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才把客人唤到门前！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图片 1" descr=""/>
          <p:cNvPicPr/>
          <p:nvPr/>
        </p:nvPicPr>
        <p:blipFill>
          <a:blip r:embed="rId2"/>
          <a:stretch/>
        </p:blipFill>
        <p:spPr>
          <a:xfrm>
            <a:off x="6480" y="0"/>
            <a:ext cx="9131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10T01:08:05Z</dcterms:created>
  <dc:creator/>
  <dc:description/>
  <dc:language>en-US</dc:language>
  <cp:lastModifiedBy/>
  <dcterms:modified xsi:type="dcterms:W3CDTF">2014-04-23T23:55:36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</Properties>
</file>