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8.wmf" ContentType="image/x-wmf"/>
  <Override PartName="/ppt/media/image6.png" ContentType="image/png"/>
  <Override PartName="/ppt/media/image7.wmf" ContentType="image/x-wmf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00A-CCE2-4200-A51E-DE22D0B9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669-1B18-4299-AC13-DD8412E0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11D-19EF-43FF-9F60-F140C49C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52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300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78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52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300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B02-99CA-4F99-81E1-C2701304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5008-C686-4493-837C-4C3B1446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E3BF-D678-4DF1-8A17-8089849F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7504-28EF-4E2E-A8FB-FA100D0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2562-CE72-4E1C-A424-483348B2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3959-FA42-4F2C-AC1D-95380792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7840" y="666720"/>
            <a:ext cx="82152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11ED-7F1E-46DB-807D-7BF2D041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9EFB-4E1D-4A31-A61E-1D147BB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359-93FC-45E1-A978-5AA96B52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7ACA-A52D-45C5-A5D9-70607786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78F0-CE27-4453-B779-F3CCF12C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26B5-F520-4B04-AEA6-FE69B9F4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72A3-2ED8-4458-802D-A1E5B2E5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52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00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78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52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00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B0F2-4ABC-491F-AAFA-F53986D8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DFA7D-F6C9-4D8D-8123-4199F585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FF49-8D37-480C-9AEE-ED6D0F53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0F2E-7FA5-44D3-BC15-53E483B9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F678-348C-449D-8584-56662F87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1FA84-7DE7-4419-8E08-CE62237C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2C9-F210-4FC7-BEDD-4B5FBC43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47840" y="666720"/>
            <a:ext cx="82152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189C4-E708-42BA-8209-A3820AE9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61BF-B234-4140-9C29-4AE05120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1920-5BD6-4BB2-B166-A243EC05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3B626-C831-4DE8-BE49-955B8C6B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F61C-04B2-4B53-B30D-B7EEA73A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BA61-4E69-49DD-9B20-3BC7F0AE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2524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3000" y="13795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78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2524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3000" y="3949920"/>
            <a:ext cx="26449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81BDF-24A3-46B9-8378-06AE21BC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135-A3C5-49F2-8ED0-CA9BBD9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93A-D382-4CF1-9996-F37B8416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7840" y="666720"/>
            <a:ext cx="821520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C2A-4733-4D3C-8314-130A51DF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396-0D5F-4A5C-B520-A93EC3A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7680" y="39499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94F-043F-42E1-822F-E6F5D365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784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7680" y="1379520"/>
            <a:ext cx="40089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7840" y="3949920"/>
            <a:ext cx="821520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2DC-E00A-4E7E-A9DF-3228B73B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F56D-FA3D-441F-B89C-4B4533DF238A}" type="slidenum"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71b1d8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817e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0" t="131" r="0" b="0"/>
          <a:stretch/>
        </p:blipFill>
        <p:spPr>
          <a:xfrm>
            <a:off x="3240" y="-12600"/>
            <a:ext cx="914076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71b1d8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817e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1E50-23EC-43CC-B6C3-4B1722AB8869}" type="slidenum"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e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47840" y="1379520"/>
            <a:ext cx="8215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00817e"/>
              </a:buClr>
              <a:buSzPct val="5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601"/>
              </a:spcBef>
              <a:buClr>
                <a:srgbClr val="71b1d8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47840" y="666720"/>
            <a:ext cx="82152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817e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9603-5F2F-4D39-AD36-DA196D5E1BE1}" type="slidenum">
              <a:rPr b="0" lang="en-US" sz="9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12"/>
          <p:cNvSpPr txBox="1"/>
          <p:nvPr/>
        </p:nvSpPr>
        <p:spPr>
          <a:xfrm>
            <a:off x="2340000" y="1773360"/>
            <a:ext cx="482436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4d4d4d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山羊和小灰兔</a:t>
            </a:r>
            <a:endParaRPr b="0" lang="en-US" sz="1800" spc="1" strike="noStrike">
              <a:ln w="0">
                <a:noFill/>
              </a:ln>
              <a:solidFill>
                <a:srgbClr val="4d4d4d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24000" y="11844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幼圆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幼圆"/>
              </a:rPr>
              <a:t>、理解“犹豫”。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817e"/>
                </a:solidFill>
                <a:latin typeface="幼圆"/>
              </a:rPr>
              <a:t>(yóu yù)</a:t>
            </a: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做事拿不定主意，犹豫不决。</a:t>
            </a:r>
            <a:br>
              <a:rPr sz="2400"/>
            </a:b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幼圆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幼圆"/>
              </a:rPr>
              <a:t>、小山羊为什么犹豫了？你喜欢谁？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</p:txBody>
      </p:sp>
      <p:pic>
        <p:nvPicPr>
          <p:cNvPr id="167" name="Picture 5" descr="阅读质疑"/>
          <p:cNvPicPr/>
          <p:nvPr/>
        </p:nvPicPr>
        <p:blipFill>
          <a:blip r:embed="rId1"/>
          <a:stretch/>
        </p:blipFill>
        <p:spPr>
          <a:xfrm>
            <a:off x="5076720" y="4603680"/>
            <a:ext cx="39610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817e"/>
                </a:solidFill>
                <a:latin typeface="幼圆"/>
              </a:rPr>
              <a:t>守约：</a:t>
            </a:r>
            <a:r>
              <a:rPr b="1" lang="en-US" sz="3600" spc="-1" strike="noStrike">
                <a:solidFill>
                  <a:srgbClr val="00817e"/>
                </a:solidFill>
                <a:latin typeface="幼圆"/>
              </a:rPr>
              <a:t>shǒu   yuē  </a:t>
            </a:r>
            <a:r>
              <a:rPr b="1" lang="zh-CN" sz="3600" spc="-1" strike="noStrike">
                <a:solidFill>
                  <a:srgbClr val="00817e"/>
                </a:solidFill>
                <a:latin typeface="幼圆"/>
              </a:rPr>
              <a:t>遵守约定。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817e"/>
                </a:solidFill>
                <a:latin typeface="幼圆"/>
              </a:rPr>
              <a:t> 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817e"/>
                </a:solidFill>
                <a:latin typeface="幼圆"/>
              </a:rPr>
              <a:t>失约 ：</a:t>
            </a:r>
            <a:r>
              <a:rPr b="1" lang="en-US" sz="3600" spc="-1" strike="noStrike">
                <a:solidFill>
                  <a:srgbClr val="00817e"/>
                </a:solidFill>
                <a:latin typeface="幼圆"/>
              </a:rPr>
              <a:t>shī    yuē   </a:t>
            </a:r>
            <a:r>
              <a:rPr b="1" lang="zh-CN" sz="3600" spc="-1" strike="noStrike">
                <a:solidFill>
                  <a:srgbClr val="00817e"/>
                </a:solidFill>
                <a:latin typeface="幼圆"/>
              </a:rPr>
              <a:t>不去赴约。 </a:t>
            </a:r>
            <a:endParaRPr b="0" lang="en-US" sz="3600" spc="-1" strike="noStrike">
              <a:solidFill>
                <a:srgbClr val="00817e"/>
              </a:solidFill>
              <a:latin typeface="幼圆"/>
            </a:endParaRPr>
          </a:p>
        </p:txBody>
      </p:sp>
      <p:pic>
        <p:nvPicPr>
          <p:cNvPr id="169" name="Picture 4" descr="理解词语"/>
          <p:cNvPicPr/>
          <p:nvPr/>
        </p:nvPicPr>
        <p:blipFill>
          <a:blip r:embed="rId1"/>
          <a:stretch/>
        </p:blipFill>
        <p:spPr>
          <a:xfrm>
            <a:off x="6732720" y="4365720"/>
            <a:ext cx="20286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填上合适的词，注意标点。</a:t>
            </a: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817e"/>
                </a:solidFill>
                <a:latin typeface="幼圆"/>
              </a:rPr>
              <a:t>老师（   ）地说：“太好了！”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817e"/>
                </a:solidFill>
                <a:latin typeface="幼圆"/>
              </a:rPr>
              <a:t>妈妈（   ）地说：“你为什么写着几个字？”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817e"/>
                </a:solidFill>
                <a:latin typeface="幼圆"/>
              </a:rPr>
              <a:t>丁丁（   ）地说：“让我去吧！”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817e"/>
                </a:solidFill>
                <a:latin typeface="幼圆"/>
              </a:rPr>
              <a:t>冬冬（   ）地说：“我学会默读了！”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名言警句</a:t>
            </a: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24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一言既出，驷马难追。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话说出来，四匹马拉的车也追不上。意思是：有德行的人，说话算话，答应的事一定做到。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</a:rPr>
              <a:t>言必信，行必果。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817e"/>
                </a:solidFill>
                <a:latin typeface="幼圆"/>
              </a:rPr>
              <a:t>说话一定要守信用，做事一定要善始善终。</a:t>
            </a:r>
            <a:endParaRPr b="0" lang="en-US" sz="2400" spc="-1" strike="noStrike">
              <a:solidFill>
                <a:srgbClr val="00817e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自由组合，演一演这个故事。</a:t>
            </a:r>
            <a:br>
              <a:rPr sz="3200"/>
            </a:br>
            <a:endParaRPr b="1" lang="en-US" sz="3200" spc="-1" strike="noStrike">
              <a:solidFill>
                <a:srgbClr val="00817e"/>
              </a:solidFill>
              <a:latin typeface="华文中宋"/>
            </a:endParaRPr>
          </a:p>
        </p:txBody>
      </p:sp>
      <p:pic>
        <p:nvPicPr>
          <p:cNvPr id="175" name="图片 4" descr=""/>
          <p:cNvPicPr/>
          <p:nvPr/>
        </p:nvPicPr>
        <p:blipFill>
          <a:blip r:embed="rId1"/>
          <a:stretch/>
        </p:blipFill>
        <p:spPr>
          <a:xfrm>
            <a:off x="762120" y="175428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755640" y="1847880"/>
            <a:ext cx="8064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把你想对小山羊或小白兔说的话写到日记本上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492360" y="148428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作业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/>
          <p:cNvPicPr/>
          <p:nvPr/>
        </p:nvPicPr>
        <p:blipFill>
          <a:blip r:embed="rId1"/>
          <a:stretch/>
        </p:blipFill>
        <p:spPr>
          <a:xfrm>
            <a:off x="396720" y="1989000"/>
            <a:ext cx="3959280" cy="38894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" descr=""/>
          <p:cNvPicPr/>
          <p:nvPr/>
        </p:nvPicPr>
        <p:blipFill>
          <a:blip r:embed="rId2"/>
          <a:stretch/>
        </p:blipFill>
        <p:spPr>
          <a:xfrm>
            <a:off x="4788000" y="1911240"/>
            <a:ext cx="39607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3348000" y="125748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我会认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01640" y="2933280"/>
            <a:ext cx="7020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hén  cāo   yù   dān   wù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4d4d4d"/>
                </a:solidFill>
                <a:latin typeface="Arial"/>
              </a:rPr>
              <a:t>晨      操    遇     耽    误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1042920" y="2349360"/>
            <a:ext cx="78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宋体"/>
              </a:rPr>
              <a:t>蘑 菇     刺 猬      耽 误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宋体"/>
              </a:rPr>
              <a:t>道 歉     灰 兔      早 晨    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宋体"/>
              </a:rPr>
              <a:t>做 操     遇 见      咱 们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宋体"/>
              </a:rPr>
              <a:t>顺 路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中宋"/>
              </a:rPr>
              <a:t>我会读</a:t>
            </a:r>
            <a:endParaRPr b="1" lang="en-US" sz="6000" spc="-1" strike="noStrike">
              <a:solidFill>
                <a:srgbClr val="00817e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395280" y="1295280"/>
            <a:ext cx="1657440" cy="1657440"/>
            <a:chOff x="395280" y="1295280"/>
            <a:chExt cx="1657440" cy="1657440"/>
          </a:xfrm>
        </p:grpSpPr>
        <p:pic>
          <p:nvPicPr>
            <p:cNvPr id="134" name="Picture 16" descr="图片2"/>
            <p:cNvPicPr/>
            <p:nvPr/>
          </p:nvPicPr>
          <p:blipFill>
            <a:blip r:embed="rId1"/>
            <a:stretch/>
          </p:blipFill>
          <p:spPr>
            <a:xfrm>
              <a:off x="395280" y="1295280"/>
              <a:ext cx="16574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7"/>
            <p:cNvSpPr/>
            <p:nvPr/>
          </p:nvSpPr>
          <p:spPr>
            <a:xfrm>
              <a:off x="900000" y="1871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舅舅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1187280" y="1771560"/>
            <a:ext cx="2232000" cy="1800360"/>
            <a:chOff x="1187280" y="1771560"/>
            <a:chExt cx="2232000" cy="1800360"/>
          </a:xfrm>
        </p:grpSpPr>
        <p:pic>
          <p:nvPicPr>
            <p:cNvPr id="137" name="Picture 19" descr="图片2"/>
            <p:cNvPicPr/>
            <p:nvPr/>
          </p:nvPicPr>
          <p:blipFill>
            <a:blip r:embed="rId2"/>
            <a:stretch/>
          </p:blipFill>
          <p:spPr>
            <a:xfrm>
              <a:off x="1187280" y="177156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0"/>
            <p:cNvSpPr/>
            <p:nvPr/>
          </p:nvSpPr>
          <p:spPr>
            <a:xfrm>
              <a:off x="1763640" y="23479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羞愧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9" name="Group 8"/>
          <p:cNvGrpSpPr/>
          <p:nvPr/>
        </p:nvGrpSpPr>
        <p:grpSpPr>
          <a:xfrm>
            <a:off x="2050920" y="1052640"/>
            <a:ext cx="1712880" cy="1639800"/>
            <a:chOff x="2050920" y="1052640"/>
            <a:chExt cx="1712880" cy="1639800"/>
          </a:xfrm>
        </p:grpSpPr>
        <p:pic>
          <p:nvPicPr>
            <p:cNvPr id="140" name="Picture 22" descr="图片2"/>
            <p:cNvPicPr/>
            <p:nvPr/>
          </p:nvPicPr>
          <p:blipFill>
            <a:blip r:embed="rId3"/>
            <a:stretch/>
          </p:blipFill>
          <p:spPr>
            <a:xfrm>
              <a:off x="2050920" y="1052640"/>
              <a:ext cx="16398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3"/>
            <p:cNvSpPr/>
            <p:nvPr/>
          </p:nvSpPr>
          <p:spPr>
            <a:xfrm>
              <a:off x="2538360" y="1540080"/>
              <a:ext cx="12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早晨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" name="Group 11"/>
          <p:cNvGrpSpPr/>
          <p:nvPr/>
        </p:nvGrpSpPr>
        <p:grpSpPr>
          <a:xfrm>
            <a:off x="2771640" y="1987560"/>
            <a:ext cx="2016000" cy="1657440"/>
            <a:chOff x="2771640" y="1987560"/>
            <a:chExt cx="2016000" cy="1657440"/>
          </a:xfrm>
        </p:grpSpPr>
        <p:pic>
          <p:nvPicPr>
            <p:cNvPr id="143" name="Picture 25" descr="图片2"/>
            <p:cNvPicPr/>
            <p:nvPr/>
          </p:nvPicPr>
          <p:blipFill>
            <a:blip r:embed="rId4"/>
            <a:stretch/>
          </p:blipFill>
          <p:spPr>
            <a:xfrm>
              <a:off x="2771640" y="1987560"/>
              <a:ext cx="16574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6"/>
            <p:cNvSpPr/>
            <p:nvPr/>
          </p:nvSpPr>
          <p:spPr>
            <a:xfrm>
              <a:off x="3276360" y="24908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耽误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3635280" y="907920"/>
            <a:ext cx="2158920" cy="1584360"/>
            <a:chOff x="3635280" y="907920"/>
            <a:chExt cx="2158920" cy="1584360"/>
          </a:xfrm>
        </p:grpSpPr>
        <p:pic>
          <p:nvPicPr>
            <p:cNvPr id="146" name="Picture 28" descr="图片2"/>
            <p:cNvPicPr/>
            <p:nvPr/>
          </p:nvPicPr>
          <p:blipFill>
            <a:blip r:embed="rId5"/>
            <a:stretch/>
          </p:blipFill>
          <p:spPr>
            <a:xfrm>
              <a:off x="3635280" y="90792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29"/>
            <p:cNvSpPr/>
            <p:nvPr/>
          </p:nvSpPr>
          <p:spPr>
            <a:xfrm>
              <a:off x="4066920" y="141264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郑重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" name="Group 17"/>
          <p:cNvGrpSpPr/>
          <p:nvPr/>
        </p:nvGrpSpPr>
        <p:grpSpPr>
          <a:xfrm>
            <a:off x="4140360" y="2203560"/>
            <a:ext cx="1871640" cy="1584360"/>
            <a:chOff x="4140360" y="2203560"/>
            <a:chExt cx="1871640" cy="1584360"/>
          </a:xfrm>
        </p:grpSpPr>
        <p:pic>
          <p:nvPicPr>
            <p:cNvPr id="149" name="Picture 31" descr="图片2"/>
            <p:cNvPicPr/>
            <p:nvPr/>
          </p:nvPicPr>
          <p:blipFill>
            <a:blip r:embed="rId6"/>
            <a:stretch/>
          </p:blipFill>
          <p:spPr>
            <a:xfrm>
              <a:off x="4140360" y="220356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32"/>
            <p:cNvSpPr/>
            <p:nvPr/>
          </p:nvSpPr>
          <p:spPr>
            <a:xfrm>
              <a:off x="4570560" y="268308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一愣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" name="Group 20"/>
          <p:cNvGrpSpPr/>
          <p:nvPr/>
        </p:nvGrpSpPr>
        <p:grpSpPr>
          <a:xfrm>
            <a:off x="4643280" y="1295280"/>
            <a:ext cx="1871640" cy="1655640"/>
            <a:chOff x="4643280" y="1295280"/>
            <a:chExt cx="1871640" cy="1655640"/>
          </a:xfrm>
        </p:grpSpPr>
        <p:pic>
          <p:nvPicPr>
            <p:cNvPr id="152" name="Picture 34" descr="图片2"/>
            <p:cNvPicPr/>
            <p:nvPr/>
          </p:nvPicPr>
          <p:blipFill>
            <a:blip r:embed="rId7"/>
            <a:stretch/>
          </p:blipFill>
          <p:spPr>
            <a:xfrm>
              <a:off x="4643280" y="1295280"/>
              <a:ext cx="165564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35"/>
            <p:cNvSpPr/>
            <p:nvPr/>
          </p:nvSpPr>
          <p:spPr>
            <a:xfrm>
              <a:off x="5146560" y="180000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做操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4" name="Group 23"/>
          <p:cNvGrpSpPr/>
          <p:nvPr/>
        </p:nvGrpSpPr>
        <p:grpSpPr>
          <a:xfrm>
            <a:off x="5867280" y="1123920"/>
            <a:ext cx="1727280" cy="1582560"/>
            <a:chOff x="5867280" y="1123920"/>
            <a:chExt cx="1727280" cy="1582560"/>
          </a:xfrm>
        </p:grpSpPr>
        <p:pic>
          <p:nvPicPr>
            <p:cNvPr id="155" name="Picture 37" descr="图片2"/>
            <p:cNvPicPr/>
            <p:nvPr/>
          </p:nvPicPr>
          <p:blipFill>
            <a:blip r:embed="rId8"/>
            <a:stretch/>
          </p:blipFill>
          <p:spPr>
            <a:xfrm>
              <a:off x="5867280" y="1123920"/>
              <a:ext cx="1582560" cy="15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38"/>
            <p:cNvSpPr/>
            <p:nvPr/>
          </p:nvSpPr>
          <p:spPr>
            <a:xfrm>
              <a:off x="6298920" y="160164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抱歉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7" name="Group 26"/>
          <p:cNvGrpSpPr/>
          <p:nvPr/>
        </p:nvGrpSpPr>
        <p:grpSpPr>
          <a:xfrm>
            <a:off x="7126200" y="1295280"/>
            <a:ext cx="1873080" cy="1692360"/>
            <a:chOff x="7126200" y="1295280"/>
            <a:chExt cx="1873080" cy="1692360"/>
          </a:xfrm>
        </p:grpSpPr>
        <p:pic>
          <p:nvPicPr>
            <p:cNvPr id="158" name="Picture 40" descr="图片2"/>
            <p:cNvPicPr/>
            <p:nvPr/>
          </p:nvPicPr>
          <p:blipFill>
            <a:blip r:embed="rId9"/>
            <a:stretch/>
          </p:blipFill>
          <p:spPr>
            <a:xfrm>
              <a:off x="7126200" y="1295280"/>
              <a:ext cx="1692360" cy="16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41"/>
            <p:cNvSpPr/>
            <p:nvPr/>
          </p:nvSpPr>
          <p:spPr>
            <a:xfrm>
              <a:off x="7667640" y="1798560"/>
              <a:ext cx="13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遇见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-0.00399 0.78866 E">
                                      <p:cBhvr>
                                        <p:cTn id="6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0533 L -0.02743 0.67223 E">
                                      <p:cBhvr>
                                        <p:cTn id="11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L 0.00087 0.77291 E">
                                      <p:cBhvr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0532 L -0.00799 0.64051 E">
                                      <p:cBhvr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2 2.22222E-006 L -0.00781 0.80856 E">
                                      <p:cBhvr>
                                        <p:cTn id="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5"/>
                                      </p:cond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799 0.59861 E">
                                      <p:cBhvr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0.02379 0.72986 E">
                                      <p:cBhvr>
                                        <p:cTn id="36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7.40741E-007 L 0.0158 0.75602 E">
                                      <p:cBhvr>
                                        <p:cTn id="41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40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7 L -0.00382 0.71273 E">
                                      <p:cBhvr>
                                        <p:cTn id="46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611280" y="26370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、默读课文，找出描写小山羊做法的语句，用“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画出来。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、再读课文，找出写小灰兔表现的语句，用“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﹏﹏”</a:t>
            </a: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画出来。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61128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学习任务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内容占位符 3" descr=""/>
          <p:cNvPicPr/>
          <p:nvPr/>
        </p:nvPicPr>
        <p:blipFill>
          <a:blip r:embed="rId1"/>
          <a:stretch/>
        </p:blipFill>
        <p:spPr>
          <a:xfrm>
            <a:off x="-23760" y="-28440"/>
            <a:ext cx="91677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00000" y="981000"/>
            <a:ext cx="8244000" cy="19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★</a:t>
            </a:r>
            <a:r>
              <a:rPr b="1" lang="zh-CN" sz="3200" spc="-1" strike="noStrike">
                <a:solidFill>
                  <a:srgbClr val="4d4d4d"/>
                </a:solidFill>
                <a:latin typeface="Arial"/>
              </a:rPr>
              <a:t>小山羊在家里等啊等啊，等了很久也不见小灰兔来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★</a:t>
            </a:r>
            <a:r>
              <a:rPr b="1" lang="zh-CN" sz="3200" spc="-1" strike="noStrike">
                <a:solidFill>
                  <a:srgbClr val="4d4d4d"/>
                </a:solidFill>
                <a:latin typeface="Arial"/>
              </a:rPr>
              <a:t>刚才在路上遇见了小刺猬，我们聊了一会儿，耽误了一点儿时间，咱们吃了午饭再去吧。</a:t>
            </a:r>
            <a:r>
              <a:rPr b="0" lang="zh-CN" sz="3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611280" y="2637000"/>
            <a:ext cx="82818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4d4d4d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、分别找出小山羊和小灰兔表现的语句，读一读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、抓重点词交流感受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4d4d4d"/>
                </a:solidFill>
                <a:latin typeface="Arial"/>
              </a:rPr>
              <a:t>、读出感悟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24000" y="11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学法指导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06:35:10Z</dcterms:created>
  <dc:creator/>
  <dc:description/>
  <cp:keywords/>
  <dc:language>en-US</dc:language>
  <cp:lastModifiedBy>Windows 用户</cp:lastModifiedBy>
  <dcterms:modified xsi:type="dcterms:W3CDTF">2017-03-03T02:10:10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