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7.png" ContentType="image/png"/>
  <Override PartName="/ppt/media/image32.png" ContentType="image/png"/>
  <Override PartName="/ppt/media/image20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34.png" ContentType="image/png"/>
  <Override PartName="/ppt/media/image8.gif" ContentType="image/gif"/>
  <Override PartName="/ppt/media/image18.jpeg" ContentType="image/jpeg"/>
  <Override PartName="/ppt/media/image4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  <p:custShowLst>
    <p:custShow name="自定义放映 1" id="0">
      <p:sldLst>
        <p:sld r:id="rId35"/>
        <p:sld r:id="rId36"/>
        <p:sld r:id="rId37"/>
        <p:sld r:id="rId38"/>
      </p:sldLst>
    </p:custShow>
    <p:custShow name="自定义放映 2" id="1">
      <p:sldLst>
        <p:sld r:id="rId39"/>
        <p:sld r:id="rId4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564-5D65-4826-BBD0-7F704ED5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CB9-2E5D-4C83-9BF9-E7867729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DD5-60A1-41C1-B534-4D5ED50A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11C-4435-4DE2-9A3D-D4F2C82A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6996-97C6-4C7D-835F-54FFEB56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568F-AB97-4BD0-B707-6B53613A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5A9E-8411-4CD1-8252-69A72912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2FF3-9122-4D83-8CF5-4628C1B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48AA-5D44-4D74-9DE1-A40DA9FA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6269-5A2D-4ED4-B66F-B9BBE715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4BA6-A7F0-4367-98FC-371BB264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2DF-A68C-4211-9144-C1DBA41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6B41-7EBB-4E24-901F-863EF0D9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7732-03BB-4712-ACCB-D6FA9ED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2A2C-5568-42C3-AFA6-D5235A6F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976A-8945-4C67-9C48-1C841A0E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AF29-84C2-4AAE-B44D-11237CF8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97A-3434-4AF3-A520-A2E70677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6FC-44AC-4689-9ED4-3C22518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A36-56EA-4564-B411-FBF41A6A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E82-AB5B-43B9-BD57-7802333D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03A-C410-4E1C-9AB5-51A54AD7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25E-753C-428F-842F-17831F28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F86-5F5A-445C-B979-EAC27006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F84F-9802-4CDF-8C53-61CFBD8732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EE49-C93B-4976-8329-BC86ADDAF6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mage7"/>
          <p:cNvPicPr/>
          <p:nvPr/>
        </p:nvPicPr>
        <p:blipFill>
          <a:blip r:embed="rId2"/>
          <a:stretch/>
        </p:blipFill>
        <p:spPr>
          <a:xfrm>
            <a:off x="0" y="0"/>
            <a:ext cx="187812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image4"/>
          <p:cNvPicPr/>
          <p:nvPr/>
        </p:nvPicPr>
        <p:blipFill>
          <a:blip r:embed="rId3"/>
          <a:stretch/>
        </p:blipFill>
        <p:spPr>
          <a:xfrm>
            <a:off x="7113600" y="4554360"/>
            <a:ext cx="2030400" cy="2303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828720" y="1989000"/>
            <a:ext cx="8099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丁丁冬冬学识字（二）         汉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40000" y="2997360"/>
            <a:ext cx="6481800" cy="11912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个字是怎么组成的？谁表音，谁表义？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826920" y="141300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第二关   动脑识字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图片 4" descr="IMG_1034.JPG"/>
          <p:cNvPicPr/>
          <p:nvPr/>
        </p:nvPicPr>
        <p:blipFill>
          <a:blip r:embed="rId2"/>
          <a:stretch/>
        </p:blipFill>
        <p:spPr>
          <a:xfrm>
            <a:off x="755640" y="2852640"/>
            <a:ext cx="1460520" cy="1368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距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395280" y="476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55000"/>
                </a:solidFill>
                <a:latin typeface="Times New Roman"/>
              </a:rPr>
              <a:t>我当小老师  来教你认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距离   相距   车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艺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艺术   文艺   才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青铜器  铜矿  铜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盛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盛开   盛行   昌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3348000" y="1484280"/>
            <a:ext cx="30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简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11280" y="422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简化   简单   竹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:\Users\Fallon\Desktop\汉字游戏\素材\钥匙.jpg"/>
          <p:cNvPicPr/>
          <p:nvPr/>
        </p:nvPicPr>
        <p:blipFill>
          <a:blip r:embed="rId2"/>
          <a:srcRect l="0" t="4571" r="-322" b="0"/>
          <a:stretch/>
        </p:blipFill>
        <p:spPr>
          <a:xfrm>
            <a:off x="2408400" y="1500120"/>
            <a:ext cx="4378320" cy="3449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Fallon\Desktop\汉字游戏\素材\钥匙开门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Fallon\Desktop\汉字游戏\素材\QQ截图20120331001232.png"/>
          <p:cNvPicPr/>
          <p:nvPr/>
        </p:nvPicPr>
        <p:blipFill>
          <a:blip r:embed="rId3"/>
          <a:stretch/>
        </p:blipFill>
        <p:spPr>
          <a:xfrm>
            <a:off x="4716360" y="6343560"/>
            <a:ext cx="4427640" cy="514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4360" y="170028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汉字是现在世界上通行的最古老的文字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73080" y="1197000"/>
            <a:ext cx="81104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第一展厅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文物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几千年前，老祖先们把那些图画似的古老文字记录在什么上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1692360" y="1341360"/>
            <a:ext cx="5833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00"/>
                </a:solidFill>
                <a:latin typeface="楷体"/>
                <a:ea typeface="楷体"/>
              </a:rPr>
              <a:t>汉字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11280" y="76500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时候，人们把要记的事情用这些像图画似的文字刻在龟甲和兽骨上，铸在青铜器上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C:\Users\Fallon\Desktop\汉字游戏\素材\象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Fallon\Desktop\汉字游戏\素材\QQ截图20120331010622.png"/>
          <p:cNvPicPr/>
          <p:nvPr/>
        </p:nvPicPr>
        <p:blipFill>
          <a:blip r:embed="rId3"/>
          <a:stretch/>
        </p:blipFill>
        <p:spPr>
          <a:xfrm>
            <a:off x="0" y="6492960"/>
            <a:ext cx="9144000" cy="365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三合一甲骨2_副本.jpg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42732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611280" y="558972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龟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564000" y="558972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兽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6372360" y="5589720"/>
            <a:ext cx="24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青铜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Fallon\Desktop\汉字游戏\素材\动画厅.jpg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Fallon\Desktop\汉字游戏\素材\QQ截图20120331010622.png"/>
          <p:cNvPicPr/>
          <p:nvPr/>
        </p:nvPicPr>
        <p:blipFill>
          <a:blip r:embed="rId3"/>
          <a:stretch/>
        </p:blipFill>
        <p:spPr>
          <a:xfrm>
            <a:off x="0" y="6492960"/>
            <a:ext cx="9144000" cy="365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971640" y="981000"/>
            <a:ext cx="7488000" cy="239904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第二展厅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动画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你能找到多少图画似的文字？让我们边看图画边跟它们打招呼吧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耳"/>
          <p:cNvPicPr/>
          <p:nvPr/>
        </p:nvPicPr>
        <p:blipFill>
          <a:blip r:embed="rId2"/>
          <a:srcRect l="26446" t="13759" r="50896" b="3413"/>
          <a:stretch/>
        </p:blipFill>
        <p:spPr>
          <a:xfrm>
            <a:off x="1187280" y="692280"/>
            <a:ext cx="1285920" cy="1944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0" name="Picture 3" descr="自"/>
          <p:cNvPicPr/>
          <p:nvPr/>
        </p:nvPicPr>
        <p:blipFill>
          <a:blip r:embed="rId3"/>
          <a:srcRect l="7164" t="0" r="72806" b="0"/>
          <a:stretch/>
        </p:blipFill>
        <p:spPr>
          <a:xfrm>
            <a:off x="2844720" y="692280"/>
            <a:ext cx="1112760" cy="1928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1" name="Picture 4" descr="齿"/>
          <p:cNvPicPr/>
          <p:nvPr/>
        </p:nvPicPr>
        <p:blipFill>
          <a:blip r:embed="rId4"/>
          <a:srcRect l="8677" t="27041" r="72483" b="32216"/>
          <a:stretch/>
        </p:blipFill>
        <p:spPr>
          <a:xfrm>
            <a:off x="2781360" y="3983040"/>
            <a:ext cx="1366920" cy="934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2" name="Picture 5" descr="雨"/>
          <p:cNvPicPr/>
          <p:nvPr/>
        </p:nvPicPr>
        <p:blipFill>
          <a:blip r:embed="rId5"/>
          <a:srcRect l="51702" t="0" r="23246" b="0"/>
          <a:stretch/>
        </p:blipFill>
        <p:spPr>
          <a:xfrm>
            <a:off x="6245280" y="3789360"/>
            <a:ext cx="1082520" cy="1322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3" name="Picture 6" descr="山"/>
          <p:cNvPicPr/>
          <p:nvPr/>
        </p:nvPicPr>
        <p:blipFill>
          <a:blip r:embed="rId6"/>
          <a:srcRect l="11338" t="25830" r="71119" b="26125"/>
          <a:stretch/>
        </p:blipFill>
        <p:spPr>
          <a:xfrm>
            <a:off x="4621320" y="3990960"/>
            <a:ext cx="1225440" cy="936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4" name="Picture 7" descr="象"/>
          <p:cNvPicPr/>
          <p:nvPr/>
        </p:nvPicPr>
        <p:blipFill>
          <a:blip r:embed="rId7"/>
          <a:srcRect l="9676" t="0" r="66233" b="0"/>
          <a:stretch/>
        </p:blipFill>
        <p:spPr>
          <a:xfrm>
            <a:off x="1252440" y="3838680"/>
            <a:ext cx="1076400" cy="1312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5" name="Picture 8" descr="虎"/>
          <p:cNvPicPr/>
          <p:nvPr/>
        </p:nvPicPr>
        <p:blipFill>
          <a:blip r:embed="rId8"/>
          <a:srcRect l="12624" t="16767" r="71769" b="11562"/>
          <a:stretch/>
        </p:blipFill>
        <p:spPr>
          <a:xfrm>
            <a:off x="6156360" y="692280"/>
            <a:ext cx="1152360" cy="18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96" name="Picture 9" descr="鹿"/>
          <p:cNvPicPr/>
          <p:nvPr/>
        </p:nvPicPr>
        <p:blipFill>
          <a:blip r:embed="rId9"/>
          <a:srcRect l="10793" t="3706" r="69906" b="0"/>
          <a:stretch/>
        </p:blipFill>
        <p:spPr>
          <a:xfrm>
            <a:off x="4408560" y="711360"/>
            <a:ext cx="1152360" cy="1890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97" name="WordArt 10"/>
          <p:cNvSpPr txBox="1"/>
          <p:nvPr/>
        </p:nvSpPr>
        <p:spPr>
          <a:xfrm>
            <a:off x="1476360" y="297972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耳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98" name="WordArt 11"/>
          <p:cNvSpPr txBox="1"/>
          <p:nvPr/>
        </p:nvSpPr>
        <p:spPr>
          <a:xfrm>
            <a:off x="3089160" y="295416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自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99" name="WordArt 12"/>
          <p:cNvSpPr txBox="1"/>
          <p:nvPr/>
        </p:nvSpPr>
        <p:spPr>
          <a:xfrm>
            <a:off x="4700520" y="294012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鹿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0" name="WordArt 13"/>
          <p:cNvSpPr txBox="1"/>
          <p:nvPr/>
        </p:nvSpPr>
        <p:spPr>
          <a:xfrm>
            <a:off x="6384960" y="294012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虎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1" name="WordArt 14"/>
          <p:cNvSpPr txBox="1"/>
          <p:nvPr/>
        </p:nvSpPr>
        <p:spPr>
          <a:xfrm>
            <a:off x="1476360" y="55180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象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2" name="WordArt 15"/>
          <p:cNvSpPr txBox="1"/>
          <p:nvPr/>
        </p:nvSpPr>
        <p:spPr>
          <a:xfrm>
            <a:off x="3089160" y="54928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齿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3" name="WordArt 16"/>
          <p:cNvSpPr txBox="1"/>
          <p:nvPr/>
        </p:nvSpPr>
        <p:spPr>
          <a:xfrm>
            <a:off x="4700520" y="54784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山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4" name="WordArt 17"/>
          <p:cNvSpPr txBox="1"/>
          <p:nvPr/>
        </p:nvSpPr>
        <p:spPr>
          <a:xfrm>
            <a:off x="6384960" y="54784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雨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5" name="WordArt 18"/>
          <p:cNvSpPr txBox="1"/>
          <p:nvPr/>
        </p:nvSpPr>
        <p:spPr>
          <a:xfrm>
            <a:off x="2055960" y="366840"/>
            <a:ext cx="3603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1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06" name="WordArt 19"/>
          <p:cNvSpPr txBox="1"/>
          <p:nvPr/>
        </p:nvSpPr>
        <p:spPr>
          <a:xfrm>
            <a:off x="3564000" y="3477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07" name="WordArt 20"/>
          <p:cNvSpPr txBox="1"/>
          <p:nvPr/>
        </p:nvSpPr>
        <p:spPr>
          <a:xfrm>
            <a:off x="5148360" y="366840"/>
            <a:ext cx="3603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3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08" name="WordArt 21"/>
          <p:cNvSpPr txBox="1"/>
          <p:nvPr/>
        </p:nvSpPr>
        <p:spPr>
          <a:xfrm>
            <a:off x="7176960" y="358920"/>
            <a:ext cx="3603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4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09" name="WordArt 22"/>
          <p:cNvSpPr txBox="1"/>
          <p:nvPr/>
        </p:nvSpPr>
        <p:spPr>
          <a:xfrm>
            <a:off x="2124000" y="47973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5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10" name="WordArt 23"/>
          <p:cNvSpPr txBox="1"/>
          <p:nvPr/>
        </p:nvSpPr>
        <p:spPr>
          <a:xfrm>
            <a:off x="3995640" y="47973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6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11" name="WordArt 24"/>
          <p:cNvSpPr txBox="1"/>
          <p:nvPr/>
        </p:nvSpPr>
        <p:spPr>
          <a:xfrm>
            <a:off x="5651640" y="47973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7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12" name="WordArt 25"/>
          <p:cNvSpPr txBox="1"/>
          <p:nvPr/>
        </p:nvSpPr>
        <p:spPr>
          <a:xfrm>
            <a:off x="7164360" y="4797360"/>
            <a:ext cx="360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8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>
    <p:pull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" descr="米_副本.pn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15872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" descr="马.png"/>
          <p:cNvPicPr/>
          <p:nvPr/>
        </p:nvPicPr>
        <p:blipFill>
          <a:blip r:embed="rId3"/>
          <a:stretch/>
        </p:blipFill>
        <p:spPr>
          <a:xfrm>
            <a:off x="3500280" y="3286080"/>
            <a:ext cx="13687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619280" y="1557360"/>
            <a:ext cx="655308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默读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3—5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自然段，说说你读懂了什么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1692360" y="1341360"/>
            <a:ext cx="5833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00"/>
                </a:solidFill>
                <a:latin typeface="楷体"/>
                <a:ea typeface="楷体"/>
              </a:rPr>
              <a:t>推行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3" descr="QQ截图20120404135845.png"/>
          <p:cNvPicPr/>
          <p:nvPr/>
        </p:nvPicPr>
        <p:blipFill>
          <a:blip r:embed="rId2"/>
          <a:stretch/>
        </p:blipFill>
        <p:spPr>
          <a:xfrm>
            <a:off x="4356000" y="1557360"/>
            <a:ext cx="1509840" cy="26636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4" descr="推.png"/>
          <p:cNvPicPr/>
          <p:nvPr/>
        </p:nvPicPr>
        <p:blipFill>
          <a:blip r:embed="rId3"/>
          <a:stretch/>
        </p:blipFill>
        <p:spPr>
          <a:xfrm>
            <a:off x="2916360" y="1341360"/>
            <a:ext cx="3176640" cy="3000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2" descr="QQ截图20120404142143_副本.png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7093080" y="2997360"/>
            <a:ext cx="9349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QQ截图20140319141116.jpg"/>
          <p:cNvPicPr/>
          <p:nvPr/>
        </p:nvPicPr>
        <p:blipFill>
          <a:blip r:embed="rId2"/>
          <a:stretch/>
        </p:blipFill>
        <p:spPr>
          <a:xfrm>
            <a:off x="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785880" y="571680"/>
            <a:ext cx="748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三展厅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书法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如果汉字的书写很美，又有特点，这就是书法了，书法是汉字书写的专门艺术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340000" y="2997360"/>
            <a:ext cx="648180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注意什么地方容易写错，怎么写才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图片 4" descr="IMG_1035.JPG"/>
          <p:cNvPicPr/>
          <p:nvPr/>
        </p:nvPicPr>
        <p:blipFill>
          <a:blip r:embed="rId2"/>
          <a:stretch/>
        </p:blipFill>
        <p:spPr>
          <a:xfrm>
            <a:off x="755640" y="285264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3203640" y="765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写好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619280" y="465300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篆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图片 6" descr="篆书.png"/>
          <p:cNvPicPr/>
          <p:nvPr/>
        </p:nvPicPr>
        <p:blipFill>
          <a:blip r:embed="rId2"/>
          <a:stretch/>
        </p:blipFill>
        <p:spPr>
          <a:xfrm>
            <a:off x="1042920" y="692280"/>
            <a:ext cx="2952720" cy="33001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7" descr="隶书.png"/>
          <p:cNvPicPr/>
          <p:nvPr/>
        </p:nvPicPr>
        <p:blipFill>
          <a:blip r:embed="rId3"/>
          <a:stretch/>
        </p:blipFill>
        <p:spPr>
          <a:xfrm>
            <a:off x="5003640" y="781200"/>
            <a:ext cx="2953080" cy="32731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8"/>
          <p:cNvSpPr/>
          <p:nvPr/>
        </p:nvSpPr>
        <p:spPr>
          <a:xfrm>
            <a:off x="5508720" y="465300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隶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3780000" y="494172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楷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图片 2" descr="合楷体.png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3289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3780000" y="494172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行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图片 3" descr="合行书.png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3780000" y="494172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f"/>
                </a:solidFill>
                <a:latin typeface="楷体"/>
                <a:ea typeface="楷体"/>
              </a:rPr>
              <a:t>草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图片 4" descr="合草.png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3362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DSCF1_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1" descr="3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4"/>
          <p:cNvSpPr/>
          <p:nvPr/>
        </p:nvSpPr>
        <p:spPr>
          <a:xfrm>
            <a:off x="1547640" y="765000"/>
            <a:ext cx="612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《汉字谣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汉字四四方，优美世无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甲骨铭千载，钟鼎刻辉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竹简记春秋，绢帛录诗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电脑传信息，妙字组华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楷草隶篆行，欧柳颜赵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横平竖又直，龙飞凤也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从小学规范，长大写得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冬冬（明）"/>
          <p:cNvPicPr/>
          <p:nvPr/>
        </p:nvPicPr>
        <p:blipFill>
          <a:blip r:embed="rId2"/>
          <a:stretch/>
        </p:blipFill>
        <p:spPr>
          <a:xfrm>
            <a:off x="0" y="0"/>
            <a:ext cx="2205000" cy="2421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971640" y="333360"/>
            <a:ext cx="784836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丁丁馆长的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小朋友，欢迎你们来到神奇的汉字博物馆，我是馆长丁丁，要想打开博物馆大门，得先过关取得金钥匙哦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826920" y="141300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第一关   自读识字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华文琥珀"/>
                <a:ea typeface="华文琥珀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340000" y="2924280"/>
            <a:ext cx="6408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读通课文，遇到不认识的字可以猜一猜、问一问、查一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:\Users\Fallon\Desktop\汉字游戏\素材\IMG_1033.JPG"/>
          <p:cNvPicPr/>
          <p:nvPr/>
        </p:nvPicPr>
        <p:blipFill>
          <a:blip r:embed="rId2"/>
          <a:stretch/>
        </p:blipFill>
        <p:spPr>
          <a:xfrm>
            <a:off x="684360" y="2781360"/>
            <a:ext cx="151128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考一考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000" y="2420640"/>
            <a:ext cx="9090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 字  距 离  似 的  龟甲  兽 骨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铸 造  需 要  范 围  统 一  小 篆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准  盛开  隶书  容易  楷体  简化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89080" y="1865160"/>
            <a:ext cx="8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 flipV="1" rot="10800000">
            <a:off x="1905120" y="1411920"/>
            <a:ext cx="5333760" cy="75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47640" y="5373720"/>
            <a:ext cx="120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s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è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124000" y="364176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851280" y="3641760"/>
            <a:ext cx="8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00720" y="5373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kǎ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104920" y="186516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885080" y="364176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zh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08000" y="5373720"/>
            <a:ext cx="10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bi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255840" y="537372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516640" y="3641760"/>
            <a:ext cx="100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tǒ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500720" y="537372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g 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24000" y="364176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z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851280" y="1865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s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5580000" y="1844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gu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7237440" y="186516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shòu g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7343640" y="537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J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ǎ</a:t>
            </a:r>
            <a:r>
              <a:rPr b="0" lang="en-US" sz="3200" spc="-1" strike="noStrike">
                <a:solidFill>
                  <a:srgbClr val="ff0000"/>
                </a:solidFill>
                <a:latin typeface="zypyyb"/>
                <a:ea typeface="zypyyb"/>
              </a:rPr>
              <a:t>n h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1" descr="丁丁（明）"/>
          <p:cNvPicPr/>
          <p:nvPr/>
        </p:nvPicPr>
        <p:blipFill>
          <a:blip r:embed="rId2"/>
          <a:stretch/>
        </p:blipFill>
        <p:spPr>
          <a:xfrm>
            <a:off x="7380360" y="333360"/>
            <a:ext cx="1458720" cy="1557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332000" y="280656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468360" y="40464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多音字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56000" y="3038400"/>
            <a:ext cx="1152360" cy="1079640"/>
            <a:chOff x="2556000" y="3038400"/>
            <a:chExt cx="1152360" cy="1079640"/>
          </a:xfrm>
        </p:grpSpPr>
        <p:sp>
          <p:nvSpPr>
            <p:cNvPr id="115" name="Line 5"/>
            <p:cNvSpPr/>
            <p:nvPr/>
          </p:nvSpPr>
          <p:spPr>
            <a:xfrm flipV="1">
              <a:off x="2556000" y="3038400"/>
              <a:ext cx="1079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2556000" y="3543120"/>
              <a:ext cx="115236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7"/>
          <p:cNvSpPr/>
          <p:nvPr/>
        </p:nvSpPr>
        <p:spPr>
          <a:xfrm>
            <a:off x="4932360" y="25401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的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005440" y="38671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乎、相似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780000" y="24670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s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zypyyb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80000" y="3763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zypyyb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332000" y="280656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468360" y="40464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多音字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187960" y="25401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开、盛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219640" y="38671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饭、盛满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780000" y="246708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s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780000" y="37638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zypyyb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700360" y="2852640"/>
            <a:ext cx="431640" cy="144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学一学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 flipV="1">
            <a:off x="1905120" y="148392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3640" y="2114640"/>
            <a:ext cx="1440000" cy="847800"/>
            <a:chOff x="1763640" y="2114640"/>
            <a:chExt cx="1440000" cy="847800"/>
          </a:xfrm>
        </p:grpSpPr>
        <p:pic>
          <p:nvPicPr>
            <p:cNvPr id="131" name="Picture 5" descr="兔"/>
            <p:cNvPicPr/>
            <p:nvPr/>
          </p:nvPicPr>
          <p:blipFill>
            <a:blip r:embed="rId2"/>
            <a:stretch/>
          </p:blipFill>
          <p:spPr>
            <a:xfrm>
              <a:off x="1763640" y="213372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1993680" y="211464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51280" y="2205000"/>
            <a:ext cx="1440000" cy="847800"/>
            <a:chOff x="3851280" y="2205000"/>
            <a:chExt cx="1440000" cy="847800"/>
          </a:xfrm>
        </p:grpSpPr>
        <p:pic>
          <p:nvPicPr>
            <p:cNvPr id="134" name="Picture 8" descr="兔"/>
            <p:cNvPicPr/>
            <p:nvPr/>
          </p:nvPicPr>
          <p:blipFill>
            <a:blip r:embed="rId3"/>
            <a:stretch/>
          </p:blipFill>
          <p:spPr>
            <a:xfrm>
              <a:off x="3851280" y="222408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4081320" y="220500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骨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012000" y="2276640"/>
            <a:ext cx="1439640" cy="847080"/>
            <a:chOff x="6012000" y="2276640"/>
            <a:chExt cx="1439640" cy="847080"/>
          </a:xfrm>
        </p:grpSpPr>
        <p:pic>
          <p:nvPicPr>
            <p:cNvPr id="137" name="Picture 11" descr="兔"/>
            <p:cNvPicPr/>
            <p:nvPr/>
          </p:nvPicPr>
          <p:blipFill>
            <a:blip r:embed="rId4"/>
            <a:stretch/>
          </p:blipFill>
          <p:spPr>
            <a:xfrm>
              <a:off x="6012000" y="2295360"/>
              <a:ext cx="14396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2"/>
            <p:cNvSpPr/>
            <p:nvPr/>
          </p:nvSpPr>
          <p:spPr>
            <a:xfrm>
              <a:off x="6241680" y="227664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标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63640" y="3573360"/>
            <a:ext cx="1440000" cy="847800"/>
            <a:chOff x="1763640" y="3573360"/>
            <a:chExt cx="1440000" cy="847800"/>
          </a:xfrm>
        </p:grpSpPr>
        <p:pic>
          <p:nvPicPr>
            <p:cNvPr id="140" name="Picture 14" descr="兔"/>
            <p:cNvPicPr/>
            <p:nvPr/>
          </p:nvPicPr>
          <p:blipFill>
            <a:blip r:embed="rId5"/>
            <a:stretch/>
          </p:blipFill>
          <p:spPr>
            <a:xfrm>
              <a:off x="1763640" y="359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5"/>
            <p:cNvSpPr/>
            <p:nvPr/>
          </p:nvSpPr>
          <p:spPr>
            <a:xfrm>
              <a:off x="1993680" y="357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851280" y="3573360"/>
            <a:ext cx="1440000" cy="847800"/>
            <a:chOff x="3851280" y="3573360"/>
            <a:chExt cx="1440000" cy="847800"/>
          </a:xfrm>
        </p:grpSpPr>
        <p:pic>
          <p:nvPicPr>
            <p:cNvPr id="143" name="Picture 17" descr="兔"/>
            <p:cNvPicPr/>
            <p:nvPr/>
          </p:nvPicPr>
          <p:blipFill>
            <a:blip r:embed="rId6"/>
            <a:stretch/>
          </p:blipFill>
          <p:spPr>
            <a:xfrm>
              <a:off x="3851280" y="359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8"/>
            <p:cNvSpPr/>
            <p:nvPr/>
          </p:nvSpPr>
          <p:spPr>
            <a:xfrm>
              <a:off x="4081320" y="357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012000" y="3573360"/>
            <a:ext cx="1439640" cy="847800"/>
            <a:chOff x="6012000" y="3573360"/>
            <a:chExt cx="1439640" cy="847800"/>
          </a:xfrm>
        </p:grpSpPr>
        <p:pic>
          <p:nvPicPr>
            <p:cNvPr id="146" name="Picture 20" descr="兔"/>
            <p:cNvPicPr/>
            <p:nvPr/>
          </p:nvPicPr>
          <p:blipFill>
            <a:blip r:embed="rId7"/>
            <a:stretch/>
          </p:blipFill>
          <p:spPr>
            <a:xfrm>
              <a:off x="6012000" y="3592440"/>
              <a:ext cx="14396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21"/>
            <p:cNvSpPr/>
            <p:nvPr/>
          </p:nvSpPr>
          <p:spPr>
            <a:xfrm>
              <a:off x="6241680" y="357336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展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187280" y="5013360"/>
            <a:ext cx="1440000" cy="847800"/>
            <a:chOff x="1187280" y="5013360"/>
            <a:chExt cx="1440000" cy="847800"/>
          </a:xfrm>
        </p:grpSpPr>
        <p:pic>
          <p:nvPicPr>
            <p:cNvPr id="149" name="Picture 23" descr="兔"/>
            <p:cNvPicPr/>
            <p:nvPr/>
          </p:nvPicPr>
          <p:blipFill>
            <a:blip r:embed="rId8"/>
            <a:stretch/>
          </p:blipFill>
          <p:spPr>
            <a:xfrm>
              <a:off x="1187280" y="503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24"/>
            <p:cNvSpPr/>
            <p:nvPr/>
          </p:nvSpPr>
          <p:spPr>
            <a:xfrm>
              <a:off x="1417320" y="501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035160" y="5013360"/>
            <a:ext cx="1440000" cy="847800"/>
            <a:chOff x="3035160" y="5013360"/>
            <a:chExt cx="1440000" cy="847800"/>
          </a:xfrm>
        </p:grpSpPr>
        <p:pic>
          <p:nvPicPr>
            <p:cNvPr id="152" name="Picture 26" descr="兔"/>
            <p:cNvPicPr/>
            <p:nvPr/>
          </p:nvPicPr>
          <p:blipFill>
            <a:blip r:embed="rId9"/>
            <a:stretch/>
          </p:blipFill>
          <p:spPr>
            <a:xfrm>
              <a:off x="3035160" y="503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7"/>
            <p:cNvSpPr/>
            <p:nvPr/>
          </p:nvSpPr>
          <p:spPr>
            <a:xfrm>
              <a:off x="3265200" y="501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化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83040" y="5013360"/>
            <a:ext cx="1440000" cy="847800"/>
            <a:chOff x="4883040" y="5013360"/>
            <a:chExt cx="1440000" cy="847800"/>
          </a:xfrm>
        </p:grpSpPr>
        <p:pic>
          <p:nvPicPr>
            <p:cNvPr id="155" name="Picture 29" descr="兔"/>
            <p:cNvPicPr/>
            <p:nvPr/>
          </p:nvPicPr>
          <p:blipFill>
            <a:blip r:embed="rId10"/>
            <a:stretch/>
          </p:blipFill>
          <p:spPr>
            <a:xfrm>
              <a:off x="4883040" y="5032440"/>
              <a:ext cx="14400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30"/>
            <p:cNvSpPr/>
            <p:nvPr/>
          </p:nvSpPr>
          <p:spPr>
            <a:xfrm>
              <a:off x="5113080" y="5013360"/>
              <a:ext cx="7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容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732720" y="5013360"/>
            <a:ext cx="1439640" cy="847800"/>
            <a:chOff x="6732720" y="5013360"/>
            <a:chExt cx="1439640" cy="847800"/>
          </a:xfrm>
        </p:grpSpPr>
        <p:pic>
          <p:nvPicPr>
            <p:cNvPr id="158" name="Picture 32" descr="兔"/>
            <p:cNvPicPr/>
            <p:nvPr/>
          </p:nvPicPr>
          <p:blipFill>
            <a:blip r:embed="rId11"/>
            <a:stretch/>
          </p:blipFill>
          <p:spPr>
            <a:xfrm>
              <a:off x="6732720" y="5032440"/>
              <a:ext cx="14396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33"/>
            <p:cNvSpPr/>
            <p:nvPr/>
          </p:nvSpPr>
          <p:spPr>
            <a:xfrm>
              <a:off x="6962400" y="501336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易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27:10Z</dcterms:created>
  <dc:creator/>
  <dc:description/>
  <dc:language>en-US</dc:language>
  <cp:lastModifiedBy/>
  <dcterms:modified xsi:type="dcterms:W3CDTF">2014-03-30T00:56:2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