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19.jpeg" ContentType="image/jpeg"/>
  <Override PartName="/ppt/media/image2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22.jpeg" ContentType="image/jpeg"/>
  <Override PartName="/ppt/media/image7.png" ContentType="image/png"/>
  <Override PartName="/ppt/media/image32.png" ContentType="image/png"/>
  <Override PartName="/ppt/media/image20.jpeg" ContentType="image/jpeg"/>
  <Override PartName="/ppt/media/image6.jpeg" ContentType="image/jpeg"/>
  <Override PartName="/ppt/media/image1.jpeg" ContentType="image/jpeg"/>
  <Override PartName="/ppt/media/image10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34.png" ContentType="image/png"/>
  <Override PartName="/ppt/media/image8.gif" ContentType="image/gif"/>
  <Override PartName="/ppt/media/image18.jpeg" ContentType="image/jpeg"/>
  <Override PartName="/ppt/media/image4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5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  <p:custShowLst>
    <p:custShow name="自定义放映 1" id="0">
      <p:sldLst>
        <p:sld r:id="rId35"/>
        <p:sld r:id="rId36"/>
        <p:sld r:id="rId37"/>
        <p:sld r:id="rId38"/>
      </p:sldLst>
    </p:custShow>
    <p:custShow name="自定义放映 2" id="1">
      <p:sldLst>
        <p:sld r:id="rId39"/>
        <p:sld r:id="rId4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4370-CC19-4BF4-874C-BD3CA604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D5F2-FA53-44C1-97F2-221109D5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A7C4-5504-4523-9049-A90B97AB5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E76C-AF29-4895-8A94-45C39B145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3BF6-BE9F-4294-97DE-7B684D9E9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9379-1EDD-49D4-9CF1-53C090EF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48CA-E896-40D2-B188-95CDCFCE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0AAD-32F4-4131-9A1D-10A94CD5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1C0E-E12C-4A84-A411-C27B022C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52C3-4E6E-4B49-97F4-82249085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5A05-064D-484F-ABC5-884B1AD3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A401-4572-4624-A252-1E1136D8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32D7-F989-4F3F-969F-4664F246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2F97-79D8-443C-9232-AE31E481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B8D1-53A6-4ED7-BD2A-21B600E8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13EA-E231-4988-AD56-332246C26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7481-F8E4-40FA-BB24-8BD2E29C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DA0B-474B-40C4-B1CE-6EBC92F4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87BD-E454-4929-8481-0CAFAF3D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7E30-2C8F-4E91-9183-7C898C63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9B45-4A85-4679-AC33-C80848F5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CF8F-DB7B-40C3-8BFC-B300B0CD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B15C-6AE7-46A0-BD7D-695F2067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1185-32FB-4493-8D3D-64EC2C47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72AA-44CB-452C-A02F-10EA93EDE3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36E6-4888-4A53-8095-4EDD62C996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image7"/>
          <p:cNvPicPr/>
          <p:nvPr/>
        </p:nvPicPr>
        <p:blipFill>
          <a:blip r:embed="rId2"/>
          <a:stretch/>
        </p:blipFill>
        <p:spPr>
          <a:xfrm>
            <a:off x="0" y="0"/>
            <a:ext cx="1878120" cy="223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image4"/>
          <p:cNvPicPr/>
          <p:nvPr/>
        </p:nvPicPr>
        <p:blipFill>
          <a:blip r:embed="rId3"/>
          <a:stretch/>
        </p:blipFill>
        <p:spPr>
          <a:xfrm>
            <a:off x="7113600" y="4554360"/>
            <a:ext cx="2030400" cy="230364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828720" y="1989000"/>
            <a:ext cx="8099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华文琥珀"/>
                <a:ea typeface="华文琥珀"/>
              </a:rPr>
              <a:t>丁丁冬冬学识字（二）         汉字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"/>
          <p:cNvSpPr/>
          <p:nvPr/>
        </p:nvSpPr>
        <p:spPr>
          <a:xfrm>
            <a:off x="2340000" y="2997360"/>
            <a:ext cx="6481800" cy="119124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这个字是怎么组成的？谁表音，谁表义？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826920" y="1413000"/>
            <a:ext cx="792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0c0"/>
                </a:solidFill>
                <a:latin typeface="华文琥珀"/>
                <a:ea typeface="华文琥珀"/>
              </a:rPr>
              <a:t>第二关   动脑识字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0c0"/>
                </a:solidFill>
                <a:latin typeface="华文琥珀"/>
                <a:ea typeface="华文琥珀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图片 4" descr="IMG_1034.JPG"/>
          <p:cNvPicPr/>
          <p:nvPr/>
        </p:nvPicPr>
        <p:blipFill>
          <a:blip r:embed="rId2"/>
          <a:stretch/>
        </p:blipFill>
        <p:spPr>
          <a:xfrm>
            <a:off x="755640" y="2852640"/>
            <a:ext cx="1460520" cy="1368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1"/>
          <p:cNvSpPr/>
          <p:nvPr/>
        </p:nvSpPr>
        <p:spPr>
          <a:xfrm>
            <a:off x="3348000" y="1484280"/>
            <a:ext cx="30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楷体"/>
                <a:ea typeface="楷体"/>
              </a:rPr>
              <a:t>距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395280" y="47628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55000"/>
                </a:solidFill>
                <a:latin typeface="Times New Roman"/>
              </a:rPr>
              <a:t>我当小老师  来教你认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2411280" y="422100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距离   相距   车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1"/>
          <p:cNvSpPr/>
          <p:nvPr/>
        </p:nvSpPr>
        <p:spPr>
          <a:xfrm>
            <a:off x="3348000" y="1484280"/>
            <a:ext cx="30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楷体"/>
                <a:ea typeface="楷体"/>
              </a:rPr>
              <a:t>艺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2411280" y="422100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艺术   文艺   才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1"/>
          <p:cNvSpPr/>
          <p:nvPr/>
        </p:nvSpPr>
        <p:spPr>
          <a:xfrm>
            <a:off x="3348000" y="1484280"/>
            <a:ext cx="30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楷体"/>
                <a:ea typeface="楷体"/>
              </a:rPr>
              <a:t>铜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2411280" y="422100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青铜器  铜矿  铜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3348000" y="1484280"/>
            <a:ext cx="30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楷体"/>
                <a:ea typeface="楷体"/>
              </a:rPr>
              <a:t>盛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2411280" y="422100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盛开   盛行   昌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3348000" y="1484280"/>
            <a:ext cx="30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楷体"/>
                <a:ea typeface="楷体"/>
              </a:rPr>
              <a:t>简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2411280" y="422100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简化   简单   竹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C:\Users\Fallon\Desktop\汉字游戏\素材\钥匙.jpg"/>
          <p:cNvPicPr/>
          <p:nvPr/>
        </p:nvPicPr>
        <p:blipFill>
          <a:blip r:embed="rId2"/>
          <a:srcRect l="0" t="4571" r="-322" b="0"/>
          <a:stretch/>
        </p:blipFill>
        <p:spPr>
          <a:xfrm>
            <a:off x="2408400" y="1500120"/>
            <a:ext cx="4378320" cy="34498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:\Users\Fallon\Desktop\汉字游戏\素材\钥匙开门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C:\Users\Fallon\Desktop\汉字游戏\素材\QQ截图20120331001232.png"/>
          <p:cNvPicPr/>
          <p:nvPr/>
        </p:nvPicPr>
        <p:blipFill>
          <a:blip r:embed="rId3"/>
          <a:stretch/>
        </p:blipFill>
        <p:spPr>
          <a:xfrm>
            <a:off x="4716360" y="6343560"/>
            <a:ext cx="4427640" cy="5144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684360" y="1700280"/>
            <a:ext cx="81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汉字是现在世界上通行的最古老的文字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973080" y="1197000"/>
            <a:ext cx="811044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第一展厅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文物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几千年前，老祖先们把那些图画似的古老文字记录在什么上面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6"/>
          <p:cNvSpPr/>
          <p:nvPr/>
        </p:nvSpPr>
        <p:spPr>
          <a:xfrm>
            <a:off x="1692360" y="1341360"/>
            <a:ext cx="5833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000000"/>
                </a:solidFill>
                <a:latin typeface="楷体"/>
                <a:ea typeface="楷体"/>
              </a:rPr>
              <a:t>汉字</a:t>
            </a:r>
            <a:endParaRPr b="0" lang="en-US" sz="20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611280" y="765000"/>
            <a:ext cx="81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时候，人们把要记的事情用这些像图画似的文字刻在龟甲和兽骨上，铸在青铜器上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C:\Users\Fallon\Desktop\汉字游戏\素材\象形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C:\Users\Fallon\Desktop\汉字游戏\素材\QQ截图20120331010622.png"/>
          <p:cNvPicPr/>
          <p:nvPr/>
        </p:nvPicPr>
        <p:blipFill>
          <a:blip r:embed="rId3"/>
          <a:stretch/>
        </p:blipFill>
        <p:spPr>
          <a:xfrm>
            <a:off x="0" y="6492960"/>
            <a:ext cx="9144000" cy="3650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1" descr="三合一甲骨2_副本.jpg"/>
          <p:cNvPicPr/>
          <p:nvPr/>
        </p:nvPicPr>
        <p:blipFill>
          <a:blip r:embed="rId2"/>
          <a:stretch/>
        </p:blipFill>
        <p:spPr>
          <a:xfrm>
            <a:off x="0" y="1292400"/>
            <a:ext cx="9144000" cy="42732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5"/>
          <p:cNvSpPr/>
          <p:nvPr/>
        </p:nvSpPr>
        <p:spPr>
          <a:xfrm>
            <a:off x="611280" y="558972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龟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6"/>
          <p:cNvSpPr/>
          <p:nvPr/>
        </p:nvSpPr>
        <p:spPr>
          <a:xfrm>
            <a:off x="3564000" y="558972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兽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5"/>
          <p:cNvSpPr/>
          <p:nvPr/>
        </p:nvSpPr>
        <p:spPr>
          <a:xfrm>
            <a:off x="6372360" y="5589720"/>
            <a:ext cx="241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青铜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C:\Users\Fallon\Desktop\汉字游戏\素材\动画厅.jpg"/>
          <p:cNvPicPr/>
          <p:nvPr/>
        </p:nvPicPr>
        <p:blipFill>
          <a:blip r:embed="rId2"/>
          <a:stretch/>
        </p:blipFill>
        <p:spPr>
          <a:xfrm>
            <a:off x="0" y="-44280"/>
            <a:ext cx="9144000" cy="6902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C:\Users\Fallon\Desktop\汉字游戏\素材\QQ截图20120331010622.png"/>
          <p:cNvPicPr/>
          <p:nvPr/>
        </p:nvPicPr>
        <p:blipFill>
          <a:blip r:embed="rId3"/>
          <a:stretch/>
        </p:blipFill>
        <p:spPr>
          <a:xfrm>
            <a:off x="0" y="6492960"/>
            <a:ext cx="9144000" cy="3650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4"/>
          <p:cNvSpPr/>
          <p:nvPr/>
        </p:nvSpPr>
        <p:spPr>
          <a:xfrm>
            <a:off x="971640" y="981000"/>
            <a:ext cx="7488000" cy="239904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第二展厅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——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动画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你能找到多少图画似的文字？让我们边看图画边跟它们打招呼吧。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耳"/>
          <p:cNvPicPr/>
          <p:nvPr/>
        </p:nvPicPr>
        <p:blipFill>
          <a:blip r:embed="rId2"/>
          <a:srcRect l="26446" t="13759" r="50896" b="3413"/>
          <a:stretch/>
        </p:blipFill>
        <p:spPr>
          <a:xfrm>
            <a:off x="1187280" y="692280"/>
            <a:ext cx="1285920" cy="19447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90" name="Picture 3" descr="自"/>
          <p:cNvPicPr/>
          <p:nvPr/>
        </p:nvPicPr>
        <p:blipFill>
          <a:blip r:embed="rId3"/>
          <a:srcRect l="7164" t="0" r="72806" b="0"/>
          <a:stretch/>
        </p:blipFill>
        <p:spPr>
          <a:xfrm>
            <a:off x="2844720" y="692280"/>
            <a:ext cx="1112760" cy="19285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91" name="Picture 4" descr="齿"/>
          <p:cNvPicPr/>
          <p:nvPr/>
        </p:nvPicPr>
        <p:blipFill>
          <a:blip r:embed="rId4"/>
          <a:srcRect l="8677" t="27041" r="72483" b="32216"/>
          <a:stretch/>
        </p:blipFill>
        <p:spPr>
          <a:xfrm>
            <a:off x="2781360" y="3983040"/>
            <a:ext cx="1366920" cy="9349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92" name="Picture 5" descr="雨"/>
          <p:cNvPicPr/>
          <p:nvPr/>
        </p:nvPicPr>
        <p:blipFill>
          <a:blip r:embed="rId5"/>
          <a:srcRect l="51702" t="0" r="23246" b="0"/>
          <a:stretch/>
        </p:blipFill>
        <p:spPr>
          <a:xfrm>
            <a:off x="6245280" y="3789360"/>
            <a:ext cx="1082520" cy="13222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93" name="Picture 6" descr="山"/>
          <p:cNvPicPr/>
          <p:nvPr/>
        </p:nvPicPr>
        <p:blipFill>
          <a:blip r:embed="rId6"/>
          <a:srcRect l="11338" t="25830" r="71119" b="26125"/>
          <a:stretch/>
        </p:blipFill>
        <p:spPr>
          <a:xfrm>
            <a:off x="4621320" y="3990960"/>
            <a:ext cx="1225440" cy="9367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94" name="Picture 7" descr="象"/>
          <p:cNvPicPr/>
          <p:nvPr/>
        </p:nvPicPr>
        <p:blipFill>
          <a:blip r:embed="rId7"/>
          <a:srcRect l="9676" t="0" r="66233" b="0"/>
          <a:stretch/>
        </p:blipFill>
        <p:spPr>
          <a:xfrm>
            <a:off x="1252440" y="3838680"/>
            <a:ext cx="1076400" cy="13129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95" name="Picture 8" descr="虎"/>
          <p:cNvPicPr/>
          <p:nvPr/>
        </p:nvPicPr>
        <p:blipFill>
          <a:blip r:embed="rId8"/>
          <a:srcRect l="12624" t="16767" r="71769" b="11562"/>
          <a:stretch/>
        </p:blipFill>
        <p:spPr>
          <a:xfrm>
            <a:off x="6156360" y="692280"/>
            <a:ext cx="1152360" cy="18716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96" name="Picture 9" descr="鹿"/>
          <p:cNvPicPr/>
          <p:nvPr/>
        </p:nvPicPr>
        <p:blipFill>
          <a:blip r:embed="rId9"/>
          <a:srcRect l="10793" t="3706" r="69906" b="0"/>
          <a:stretch/>
        </p:blipFill>
        <p:spPr>
          <a:xfrm>
            <a:off x="4408560" y="711360"/>
            <a:ext cx="1152360" cy="18907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97" name="WordArt 10"/>
          <p:cNvSpPr txBox="1"/>
          <p:nvPr/>
        </p:nvSpPr>
        <p:spPr>
          <a:xfrm>
            <a:off x="1476360" y="297972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耳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98" name="WordArt 11"/>
          <p:cNvSpPr txBox="1"/>
          <p:nvPr/>
        </p:nvSpPr>
        <p:spPr>
          <a:xfrm>
            <a:off x="3089160" y="2954160"/>
            <a:ext cx="647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自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99" name="WordArt 12"/>
          <p:cNvSpPr txBox="1"/>
          <p:nvPr/>
        </p:nvSpPr>
        <p:spPr>
          <a:xfrm>
            <a:off x="4700520" y="294012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鹿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00" name="WordArt 13"/>
          <p:cNvSpPr txBox="1"/>
          <p:nvPr/>
        </p:nvSpPr>
        <p:spPr>
          <a:xfrm>
            <a:off x="6384960" y="294012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虎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01" name="WordArt 14"/>
          <p:cNvSpPr txBox="1"/>
          <p:nvPr/>
        </p:nvSpPr>
        <p:spPr>
          <a:xfrm>
            <a:off x="1476360" y="551808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象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02" name="WordArt 15"/>
          <p:cNvSpPr txBox="1"/>
          <p:nvPr/>
        </p:nvSpPr>
        <p:spPr>
          <a:xfrm>
            <a:off x="3089160" y="549288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齿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03" name="WordArt 16"/>
          <p:cNvSpPr txBox="1"/>
          <p:nvPr/>
        </p:nvSpPr>
        <p:spPr>
          <a:xfrm>
            <a:off x="4700520" y="547848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山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04" name="WordArt 17"/>
          <p:cNvSpPr txBox="1"/>
          <p:nvPr/>
        </p:nvSpPr>
        <p:spPr>
          <a:xfrm>
            <a:off x="6384960" y="547848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雨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05" name="WordArt 18"/>
          <p:cNvSpPr txBox="1"/>
          <p:nvPr/>
        </p:nvSpPr>
        <p:spPr>
          <a:xfrm>
            <a:off x="2055960" y="366840"/>
            <a:ext cx="360360" cy="52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1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206" name="WordArt 19"/>
          <p:cNvSpPr txBox="1"/>
          <p:nvPr/>
        </p:nvSpPr>
        <p:spPr>
          <a:xfrm>
            <a:off x="3564000" y="347760"/>
            <a:ext cx="36036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2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207" name="WordArt 20"/>
          <p:cNvSpPr txBox="1"/>
          <p:nvPr/>
        </p:nvSpPr>
        <p:spPr>
          <a:xfrm>
            <a:off x="5148360" y="366840"/>
            <a:ext cx="360360" cy="52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3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208" name="WordArt 21"/>
          <p:cNvSpPr txBox="1"/>
          <p:nvPr/>
        </p:nvSpPr>
        <p:spPr>
          <a:xfrm>
            <a:off x="7176960" y="358920"/>
            <a:ext cx="360360" cy="52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4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209" name="WordArt 22"/>
          <p:cNvSpPr txBox="1"/>
          <p:nvPr/>
        </p:nvSpPr>
        <p:spPr>
          <a:xfrm>
            <a:off x="2124000" y="4797360"/>
            <a:ext cx="36036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5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210" name="WordArt 23"/>
          <p:cNvSpPr txBox="1"/>
          <p:nvPr/>
        </p:nvSpPr>
        <p:spPr>
          <a:xfrm>
            <a:off x="3995640" y="4797360"/>
            <a:ext cx="36036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6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211" name="WordArt 24"/>
          <p:cNvSpPr txBox="1"/>
          <p:nvPr/>
        </p:nvSpPr>
        <p:spPr>
          <a:xfrm>
            <a:off x="5651640" y="4797360"/>
            <a:ext cx="36036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7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212" name="WordArt 25"/>
          <p:cNvSpPr txBox="1"/>
          <p:nvPr/>
        </p:nvSpPr>
        <p:spPr>
          <a:xfrm>
            <a:off x="7164360" y="4797360"/>
            <a:ext cx="36036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8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p:transition>
    <p:pull dir="d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图片 1" descr="米_副本.png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158724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2" descr="马.png"/>
          <p:cNvPicPr/>
          <p:nvPr/>
        </p:nvPicPr>
        <p:blipFill>
          <a:blip r:embed="rId3"/>
          <a:stretch/>
        </p:blipFill>
        <p:spPr>
          <a:xfrm>
            <a:off x="3500280" y="3286080"/>
            <a:ext cx="1368720" cy="2200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1619280" y="1557360"/>
            <a:ext cx="655308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默读</a:t>
            </a: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3—5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自然段，说说你读懂了什么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6"/>
          <p:cNvSpPr/>
          <p:nvPr/>
        </p:nvSpPr>
        <p:spPr>
          <a:xfrm>
            <a:off x="1692360" y="1341360"/>
            <a:ext cx="5833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000000"/>
                </a:solidFill>
                <a:latin typeface="楷体"/>
                <a:ea typeface="楷体"/>
              </a:rPr>
              <a:t>推行</a:t>
            </a:r>
            <a:endParaRPr b="0" lang="en-US" sz="20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3" descr="QQ截图20120404135845.png"/>
          <p:cNvPicPr/>
          <p:nvPr/>
        </p:nvPicPr>
        <p:blipFill>
          <a:blip r:embed="rId2"/>
          <a:stretch/>
        </p:blipFill>
        <p:spPr>
          <a:xfrm>
            <a:off x="4356000" y="1557360"/>
            <a:ext cx="1509840" cy="266364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4" descr="推.png"/>
          <p:cNvPicPr/>
          <p:nvPr/>
        </p:nvPicPr>
        <p:blipFill>
          <a:blip r:embed="rId3"/>
          <a:stretch/>
        </p:blipFill>
        <p:spPr>
          <a:xfrm>
            <a:off x="2916360" y="1341360"/>
            <a:ext cx="3176640" cy="30006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图片 2" descr="QQ截图20120404142143_副本.png"/>
          <p:cNvPicPr/>
          <p:nvPr/>
        </p:nvPicPr>
        <p:blipFill>
          <a:blip r:embed="rId2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Box 2"/>
          <p:cNvSpPr/>
          <p:nvPr/>
        </p:nvSpPr>
        <p:spPr>
          <a:xfrm>
            <a:off x="7093080" y="2997360"/>
            <a:ext cx="93492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QQ截图20140319141116.jpg"/>
          <p:cNvPicPr/>
          <p:nvPr/>
        </p:nvPicPr>
        <p:blipFill>
          <a:blip r:embed="rId2"/>
          <a:stretch/>
        </p:blipFill>
        <p:spPr>
          <a:xfrm>
            <a:off x="0" y="0"/>
            <a:ext cx="961056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785880" y="571680"/>
            <a:ext cx="7488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第三展厅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——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书法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如果汉字的书写很美，又有特点，这就是书法了，书法是汉字书写的专门艺术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2340000" y="2997360"/>
            <a:ext cx="6481800" cy="6426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注意什么地方容易写错，怎么写才好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图片 4" descr="IMG_1035.JPG"/>
          <p:cNvPicPr/>
          <p:nvPr/>
        </p:nvPicPr>
        <p:blipFill>
          <a:blip r:embed="rId2"/>
          <a:stretch/>
        </p:blipFill>
        <p:spPr>
          <a:xfrm>
            <a:off x="755640" y="2852640"/>
            <a:ext cx="1440000" cy="1368360"/>
          </a:xfrm>
          <a:prstGeom prst="rect">
            <a:avLst/>
          </a:prstGeom>
          <a:ln w="0">
            <a:noFill/>
          </a:ln>
        </p:spPr>
      </p:pic>
      <p:sp>
        <p:nvSpPr>
          <p:cNvPr id="224" name="TextBox 5"/>
          <p:cNvSpPr/>
          <p:nvPr/>
        </p:nvSpPr>
        <p:spPr>
          <a:xfrm>
            <a:off x="3203640" y="765000"/>
            <a:ext cx="28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0c0"/>
                </a:solidFill>
                <a:latin typeface="华文琥珀"/>
                <a:ea typeface="华文琥珀"/>
              </a:rPr>
              <a:t>写好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1619280" y="4653000"/>
            <a:ext cx="19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bf"/>
                </a:solidFill>
                <a:latin typeface="楷体"/>
                <a:ea typeface="楷体"/>
              </a:rPr>
              <a:t>篆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图片 6" descr="篆书.png"/>
          <p:cNvPicPr/>
          <p:nvPr/>
        </p:nvPicPr>
        <p:blipFill>
          <a:blip r:embed="rId2"/>
          <a:stretch/>
        </p:blipFill>
        <p:spPr>
          <a:xfrm>
            <a:off x="1042920" y="692280"/>
            <a:ext cx="2952720" cy="330012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7" descr="隶书.png"/>
          <p:cNvPicPr/>
          <p:nvPr/>
        </p:nvPicPr>
        <p:blipFill>
          <a:blip r:embed="rId3"/>
          <a:stretch/>
        </p:blipFill>
        <p:spPr>
          <a:xfrm>
            <a:off x="5003640" y="781200"/>
            <a:ext cx="2953080" cy="3273120"/>
          </a:xfrm>
          <a:prstGeom prst="rect">
            <a:avLst/>
          </a:prstGeom>
          <a:ln w="0">
            <a:noFill/>
          </a:ln>
        </p:spPr>
      </p:pic>
      <p:sp>
        <p:nvSpPr>
          <p:cNvPr id="228" name="TextBox 8"/>
          <p:cNvSpPr/>
          <p:nvPr/>
        </p:nvSpPr>
        <p:spPr>
          <a:xfrm>
            <a:off x="5508720" y="4653000"/>
            <a:ext cx="190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bf"/>
                </a:solidFill>
                <a:latin typeface="楷体"/>
                <a:ea typeface="楷体"/>
              </a:rPr>
              <a:t>隶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3780000" y="4941720"/>
            <a:ext cx="19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bf"/>
                </a:solidFill>
                <a:latin typeface="楷体"/>
                <a:ea typeface="楷体"/>
              </a:rPr>
              <a:t>楷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图片 2" descr="合楷体.png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3289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1"/>
          <p:cNvSpPr/>
          <p:nvPr/>
        </p:nvSpPr>
        <p:spPr>
          <a:xfrm>
            <a:off x="3780000" y="4941720"/>
            <a:ext cx="19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bf"/>
                </a:solidFill>
                <a:latin typeface="楷体"/>
                <a:ea typeface="楷体"/>
              </a:rPr>
              <a:t>行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图片 3" descr="合行书.png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32907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1"/>
          <p:cNvSpPr/>
          <p:nvPr/>
        </p:nvSpPr>
        <p:spPr>
          <a:xfrm>
            <a:off x="3780000" y="4941720"/>
            <a:ext cx="19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bf"/>
                </a:solidFill>
                <a:latin typeface="楷体"/>
                <a:ea typeface="楷体"/>
              </a:rPr>
              <a:t>草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图片 4" descr="合草.png"/>
          <p:cNvPicPr/>
          <p:nvPr/>
        </p:nvPicPr>
        <p:blipFill>
          <a:blip r:embed="rId2"/>
          <a:stretch/>
        </p:blipFill>
        <p:spPr>
          <a:xfrm>
            <a:off x="0" y="765000"/>
            <a:ext cx="9144000" cy="3362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图片 1" descr="DSCF1_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图片 1" descr="32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4"/>
          <p:cNvSpPr/>
          <p:nvPr/>
        </p:nvSpPr>
        <p:spPr>
          <a:xfrm>
            <a:off x="1547640" y="765000"/>
            <a:ext cx="6120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隶书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《汉字谣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汉字四四方，优美世无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甲骨铭千载，钟鼎刻辉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竹简记春秋，绢帛录诗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电脑传信息，妙字组华章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楷草隶篆行，欧柳颜赵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横平竖又直，龙飞凤也翔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从小学规范，长大写得棒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冬冬（明）"/>
          <p:cNvPicPr/>
          <p:nvPr/>
        </p:nvPicPr>
        <p:blipFill>
          <a:blip r:embed="rId2"/>
          <a:stretch/>
        </p:blipFill>
        <p:spPr>
          <a:xfrm>
            <a:off x="0" y="0"/>
            <a:ext cx="2205000" cy="2421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971640" y="333360"/>
            <a:ext cx="7848360" cy="51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 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丁丁馆长的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小朋友，欢迎你们来到神奇的汉字博物馆，我是馆长丁丁，要想打开博物馆大门，得先过关取得金钥匙哦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826920" y="1413000"/>
            <a:ext cx="792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0c0"/>
                </a:solidFill>
                <a:latin typeface="华文琥珀"/>
                <a:ea typeface="华文琥珀"/>
              </a:rPr>
              <a:t>第一关   自读识字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0c0"/>
                </a:solidFill>
                <a:latin typeface="华文琥珀"/>
                <a:ea typeface="华文琥珀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2340000" y="2924280"/>
            <a:ext cx="6408720" cy="6426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读通课文，遇到不认识的字可以猜一猜、问一问、查一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C:\Users\Fallon\Desktop\汉字游戏\素材\IMG_1033.JPG"/>
          <p:cNvPicPr/>
          <p:nvPr/>
        </p:nvPicPr>
        <p:blipFill>
          <a:blip r:embed="rId2"/>
          <a:stretch/>
        </p:blipFill>
        <p:spPr>
          <a:xfrm>
            <a:off x="684360" y="2781360"/>
            <a:ext cx="151128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考一考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000" y="2420640"/>
            <a:ext cx="90900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汉 字  距 离  似 的  龟甲  兽 骨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铸 造  需 要  范 围  统 一  小 篆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标准  盛开  隶书  容易  楷体  简化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89080" y="1865160"/>
            <a:ext cx="89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zypyyb"/>
                <a:ea typeface="zypyyb"/>
              </a:rPr>
              <a:t>h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zypyyb"/>
              </a:rPr>
              <a:t>à</a:t>
            </a:r>
            <a:r>
              <a:rPr b="0" lang="en-US" sz="3200" spc="-1" strike="noStrike">
                <a:solidFill>
                  <a:srgbClr val="ff0000"/>
                </a:solidFill>
                <a:latin typeface="zypyyb"/>
                <a:ea typeface="zypyyb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5"/>
          <p:cNvSpPr/>
          <p:nvPr/>
        </p:nvSpPr>
        <p:spPr>
          <a:xfrm flipV="1" rot="10800000">
            <a:off x="1905120" y="1411920"/>
            <a:ext cx="5333760" cy="75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547640" y="5373720"/>
            <a:ext cx="120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zypyyb"/>
                <a:ea typeface="zypyyb"/>
              </a:rPr>
              <a:t>sh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zypyyb"/>
              </a:rPr>
              <a:t>è</a:t>
            </a:r>
            <a:r>
              <a:rPr b="0" lang="en-US" sz="3200" spc="-1" strike="noStrike">
                <a:solidFill>
                  <a:srgbClr val="ff0000"/>
                </a:solidFill>
                <a:latin typeface="zypyyb"/>
                <a:ea typeface="zypyyb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2124000" y="3641760"/>
            <a:ext cx="7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zypyyb"/>
                <a:ea typeface="zypyyb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851280" y="3641760"/>
            <a:ext cx="80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zypyyb"/>
                <a:ea typeface="zypyyb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zypyyb"/>
              </a:rPr>
              <a:t>à</a:t>
            </a:r>
            <a:r>
              <a:rPr b="0" lang="en-US" sz="3200" spc="-1" strike="noStrike">
                <a:solidFill>
                  <a:srgbClr val="ff0000"/>
                </a:solidFill>
                <a:latin typeface="zypyyb"/>
                <a:ea typeface="zypyyb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300720" y="537372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zypyyb"/>
                <a:ea typeface="zypyyb"/>
              </a:rPr>
              <a:t>kǎ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2104920" y="1865160"/>
            <a:ext cx="59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zypyyb"/>
                <a:ea typeface="zypyyb"/>
              </a:rPr>
              <a:t>j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zypyyb"/>
              </a:rPr>
              <a:t>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7885080" y="3641760"/>
            <a:ext cx="122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zypyyb"/>
                <a:ea typeface="zypyyb"/>
              </a:rPr>
              <a:t>zhu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zypyyb"/>
              </a:rPr>
              <a:t>à</a:t>
            </a:r>
            <a:r>
              <a:rPr b="0" lang="en-US" sz="3200" spc="-1" strike="noStrike">
                <a:solidFill>
                  <a:srgbClr val="ff0000"/>
                </a:solidFill>
                <a:latin typeface="zypyyb"/>
                <a:ea typeface="zypyyb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08000" y="5373720"/>
            <a:ext cx="105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zypyyb"/>
                <a:ea typeface="zypyyb"/>
              </a:rPr>
              <a:t>biā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255840" y="5373720"/>
            <a:ext cx="6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zypyyb"/>
                <a:ea typeface="zypyyb"/>
              </a:rPr>
              <a:t>l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zypyyb"/>
              </a:rPr>
              <a:t>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5516640" y="3641760"/>
            <a:ext cx="100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zypyyb"/>
                <a:ea typeface="zypyyb"/>
              </a:rPr>
              <a:t>tǒ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4500720" y="5373720"/>
            <a:ext cx="158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zypyyb"/>
                <a:ea typeface="zypyyb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ó</a:t>
            </a:r>
            <a:r>
              <a:rPr b="0" lang="en-US" sz="3200" spc="-1" strike="noStrike">
                <a:solidFill>
                  <a:srgbClr val="ff0000"/>
                </a:solidFill>
                <a:latin typeface="zypyyb"/>
                <a:ea typeface="zypyyb"/>
              </a:rPr>
              <a:t>ng 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324000" y="3641760"/>
            <a:ext cx="8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zypyyb"/>
                <a:ea typeface="zypyyb"/>
              </a:rPr>
              <a:t>zh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zypyyb"/>
              </a:rPr>
              <a:t>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851280" y="1865160"/>
            <a:ext cx="8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zypyyb"/>
                <a:ea typeface="zypyyb"/>
              </a:rPr>
              <a:t>sh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zypyyb"/>
              </a:rPr>
              <a:t>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5580000" y="184464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zypyyb"/>
                <a:ea typeface="zypyyb"/>
              </a:rPr>
              <a:t>gu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7237440" y="1865160"/>
            <a:ext cx="165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zypyyb"/>
                <a:ea typeface="zypyyb"/>
              </a:rPr>
              <a:t>shòu g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7343640" y="53737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zypyyb"/>
                <a:ea typeface="zypyyb"/>
              </a:rPr>
              <a:t>J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ǎ</a:t>
            </a:r>
            <a:r>
              <a:rPr b="0" lang="en-US" sz="3200" spc="-1" strike="noStrike">
                <a:solidFill>
                  <a:srgbClr val="ff0000"/>
                </a:solidFill>
                <a:latin typeface="zypyyb"/>
                <a:ea typeface="zypyyb"/>
              </a:rPr>
              <a:t>n hu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zypyyb"/>
              </a:rPr>
              <a:t>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1" descr="丁丁（明）"/>
          <p:cNvPicPr/>
          <p:nvPr/>
        </p:nvPicPr>
        <p:blipFill>
          <a:blip r:embed="rId2"/>
          <a:stretch/>
        </p:blipFill>
        <p:spPr>
          <a:xfrm>
            <a:off x="7380360" y="333360"/>
            <a:ext cx="1458720" cy="1557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332000" y="2806560"/>
            <a:ext cx="12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似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WordArt 3"/>
          <p:cNvSpPr txBox="1"/>
          <p:nvPr/>
        </p:nvSpPr>
        <p:spPr>
          <a:xfrm>
            <a:off x="468360" y="404640"/>
            <a:ext cx="180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latin typeface="隶书"/>
              </a:rPr>
              <a:t>多音字</a:t>
            </a:r>
            <a:endParaRPr b="1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latin typeface="隶书"/>
              <a:ea typeface="隶书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556000" y="3038400"/>
            <a:ext cx="1152360" cy="1079640"/>
            <a:chOff x="2556000" y="3038400"/>
            <a:chExt cx="1152360" cy="1079640"/>
          </a:xfrm>
        </p:grpSpPr>
        <p:sp>
          <p:nvSpPr>
            <p:cNvPr id="115" name="Line 5"/>
            <p:cNvSpPr/>
            <p:nvPr/>
          </p:nvSpPr>
          <p:spPr>
            <a:xfrm flipV="1">
              <a:off x="2556000" y="3038400"/>
              <a:ext cx="1079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6"/>
            <p:cNvSpPr/>
            <p:nvPr/>
          </p:nvSpPr>
          <p:spPr>
            <a:xfrm>
              <a:off x="2556000" y="3543120"/>
              <a:ext cx="115236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Text Box 7"/>
          <p:cNvSpPr/>
          <p:nvPr/>
        </p:nvSpPr>
        <p:spPr>
          <a:xfrm>
            <a:off x="4932360" y="25401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似的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5005440" y="386712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似乎、相似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3780000" y="246708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zypyyb"/>
                <a:ea typeface="zypyyb"/>
              </a:rPr>
              <a:t>s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zypyyb"/>
              </a:rPr>
              <a:t>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780000" y="37638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zypyyb"/>
                <a:ea typeface="zypyyb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zypyyb"/>
              </a:rPr>
              <a:t>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332000" y="2806560"/>
            <a:ext cx="12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盛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WordArt 3"/>
          <p:cNvSpPr txBox="1"/>
          <p:nvPr/>
        </p:nvSpPr>
        <p:spPr>
          <a:xfrm>
            <a:off x="468360" y="404640"/>
            <a:ext cx="180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latin typeface="隶书"/>
              </a:rPr>
              <a:t>多音字</a:t>
            </a:r>
            <a:endParaRPr b="1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latin typeface="隶书"/>
              <a:ea typeface="隶书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187960" y="25401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盛开、盛产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5219640" y="386712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盛饭、盛满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780000" y="2467080"/>
            <a:ext cx="143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zypyyb"/>
                <a:ea typeface="zypyyb"/>
              </a:rPr>
              <a:t>s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zypyyb"/>
              </a:rPr>
              <a:t>è</a:t>
            </a:r>
            <a:r>
              <a:rPr b="0" lang="en-US" sz="3600" spc="-1" strike="noStrike">
                <a:solidFill>
                  <a:srgbClr val="000000"/>
                </a:solidFill>
                <a:latin typeface="zypyyb"/>
                <a:ea typeface="zypyyb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3780000" y="37638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zypyyb"/>
                <a:ea typeface="zypyyb"/>
              </a:rPr>
              <a:t>c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zypyyb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zypyyb"/>
                <a:ea typeface="zypyyb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2700360" y="2852640"/>
            <a:ext cx="431640" cy="1440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学一学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 flipV="1">
            <a:off x="1905120" y="1483920"/>
            <a:ext cx="5333760" cy="76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763640" y="2114640"/>
            <a:ext cx="1440000" cy="847800"/>
            <a:chOff x="1763640" y="2114640"/>
            <a:chExt cx="1440000" cy="847800"/>
          </a:xfrm>
        </p:grpSpPr>
        <p:pic>
          <p:nvPicPr>
            <p:cNvPr id="131" name="Picture 5" descr="兔"/>
            <p:cNvPicPr/>
            <p:nvPr/>
          </p:nvPicPr>
          <p:blipFill>
            <a:blip r:embed="rId2"/>
            <a:stretch/>
          </p:blipFill>
          <p:spPr>
            <a:xfrm>
              <a:off x="1763640" y="2133720"/>
              <a:ext cx="144000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6"/>
            <p:cNvSpPr/>
            <p:nvPr/>
          </p:nvSpPr>
          <p:spPr>
            <a:xfrm>
              <a:off x="1993680" y="2114640"/>
              <a:ext cx="792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汉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51280" y="2205000"/>
            <a:ext cx="1440000" cy="847800"/>
            <a:chOff x="3851280" y="2205000"/>
            <a:chExt cx="1440000" cy="847800"/>
          </a:xfrm>
        </p:grpSpPr>
        <p:pic>
          <p:nvPicPr>
            <p:cNvPr id="134" name="Picture 8" descr="兔"/>
            <p:cNvPicPr/>
            <p:nvPr/>
          </p:nvPicPr>
          <p:blipFill>
            <a:blip r:embed="rId3"/>
            <a:stretch/>
          </p:blipFill>
          <p:spPr>
            <a:xfrm>
              <a:off x="3851280" y="2224080"/>
              <a:ext cx="144000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9"/>
            <p:cNvSpPr/>
            <p:nvPr/>
          </p:nvSpPr>
          <p:spPr>
            <a:xfrm>
              <a:off x="4081320" y="2205000"/>
              <a:ext cx="792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骨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012000" y="2276640"/>
            <a:ext cx="1439640" cy="847080"/>
            <a:chOff x="6012000" y="2276640"/>
            <a:chExt cx="1439640" cy="847080"/>
          </a:xfrm>
        </p:grpSpPr>
        <p:pic>
          <p:nvPicPr>
            <p:cNvPr id="137" name="Picture 11" descr="兔"/>
            <p:cNvPicPr/>
            <p:nvPr/>
          </p:nvPicPr>
          <p:blipFill>
            <a:blip r:embed="rId4"/>
            <a:stretch/>
          </p:blipFill>
          <p:spPr>
            <a:xfrm>
              <a:off x="6012000" y="2295360"/>
              <a:ext cx="1439640" cy="82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12"/>
            <p:cNvSpPr/>
            <p:nvPr/>
          </p:nvSpPr>
          <p:spPr>
            <a:xfrm>
              <a:off x="6241680" y="2276640"/>
              <a:ext cx="79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标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763640" y="3573360"/>
            <a:ext cx="1440000" cy="847800"/>
            <a:chOff x="1763640" y="3573360"/>
            <a:chExt cx="1440000" cy="847800"/>
          </a:xfrm>
        </p:grpSpPr>
        <p:pic>
          <p:nvPicPr>
            <p:cNvPr id="140" name="Picture 14" descr="兔"/>
            <p:cNvPicPr/>
            <p:nvPr/>
          </p:nvPicPr>
          <p:blipFill>
            <a:blip r:embed="rId5"/>
            <a:stretch/>
          </p:blipFill>
          <p:spPr>
            <a:xfrm>
              <a:off x="1763640" y="3592440"/>
              <a:ext cx="144000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15"/>
            <p:cNvSpPr/>
            <p:nvPr/>
          </p:nvSpPr>
          <p:spPr>
            <a:xfrm>
              <a:off x="1993680" y="3573360"/>
              <a:ext cx="792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形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851280" y="3573360"/>
            <a:ext cx="1440000" cy="847800"/>
            <a:chOff x="3851280" y="3573360"/>
            <a:chExt cx="1440000" cy="847800"/>
          </a:xfrm>
        </p:grpSpPr>
        <p:pic>
          <p:nvPicPr>
            <p:cNvPr id="143" name="Picture 17" descr="兔"/>
            <p:cNvPicPr/>
            <p:nvPr/>
          </p:nvPicPr>
          <p:blipFill>
            <a:blip r:embed="rId6"/>
            <a:stretch/>
          </p:blipFill>
          <p:spPr>
            <a:xfrm>
              <a:off x="3851280" y="3592440"/>
              <a:ext cx="144000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18"/>
            <p:cNvSpPr/>
            <p:nvPr/>
          </p:nvSpPr>
          <p:spPr>
            <a:xfrm>
              <a:off x="4081320" y="3573360"/>
              <a:ext cx="792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需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012000" y="3573360"/>
            <a:ext cx="1439640" cy="847800"/>
            <a:chOff x="6012000" y="3573360"/>
            <a:chExt cx="1439640" cy="847800"/>
          </a:xfrm>
        </p:grpSpPr>
        <p:pic>
          <p:nvPicPr>
            <p:cNvPr id="146" name="Picture 20" descr="兔"/>
            <p:cNvPicPr/>
            <p:nvPr/>
          </p:nvPicPr>
          <p:blipFill>
            <a:blip r:embed="rId7"/>
            <a:stretch/>
          </p:blipFill>
          <p:spPr>
            <a:xfrm>
              <a:off x="6012000" y="3592440"/>
              <a:ext cx="14396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21"/>
            <p:cNvSpPr/>
            <p:nvPr/>
          </p:nvSpPr>
          <p:spPr>
            <a:xfrm>
              <a:off x="6241680" y="3573360"/>
              <a:ext cx="79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展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187280" y="5013360"/>
            <a:ext cx="1440000" cy="847800"/>
            <a:chOff x="1187280" y="5013360"/>
            <a:chExt cx="1440000" cy="847800"/>
          </a:xfrm>
        </p:grpSpPr>
        <p:pic>
          <p:nvPicPr>
            <p:cNvPr id="149" name="Picture 23" descr="兔"/>
            <p:cNvPicPr/>
            <p:nvPr/>
          </p:nvPicPr>
          <p:blipFill>
            <a:blip r:embed="rId8"/>
            <a:stretch/>
          </p:blipFill>
          <p:spPr>
            <a:xfrm>
              <a:off x="1187280" y="5032440"/>
              <a:ext cx="144000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24"/>
            <p:cNvSpPr/>
            <p:nvPr/>
          </p:nvSpPr>
          <p:spPr>
            <a:xfrm>
              <a:off x="1417320" y="5013360"/>
              <a:ext cx="792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简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035160" y="5013360"/>
            <a:ext cx="1440000" cy="847800"/>
            <a:chOff x="3035160" y="5013360"/>
            <a:chExt cx="1440000" cy="847800"/>
          </a:xfrm>
        </p:grpSpPr>
        <p:pic>
          <p:nvPicPr>
            <p:cNvPr id="152" name="Picture 26" descr="兔"/>
            <p:cNvPicPr/>
            <p:nvPr/>
          </p:nvPicPr>
          <p:blipFill>
            <a:blip r:embed="rId9"/>
            <a:stretch/>
          </p:blipFill>
          <p:spPr>
            <a:xfrm>
              <a:off x="3035160" y="5032440"/>
              <a:ext cx="144000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27"/>
            <p:cNvSpPr/>
            <p:nvPr/>
          </p:nvSpPr>
          <p:spPr>
            <a:xfrm>
              <a:off x="3265200" y="5013360"/>
              <a:ext cx="792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化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883040" y="5013360"/>
            <a:ext cx="1440000" cy="847800"/>
            <a:chOff x="4883040" y="5013360"/>
            <a:chExt cx="1440000" cy="847800"/>
          </a:xfrm>
        </p:grpSpPr>
        <p:pic>
          <p:nvPicPr>
            <p:cNvPr id="155" name="Picture 29" descr="兔"/>
            <p:cNvPicPr/>
            <p:nvPr/>
          </p:nvPicPr>
          <p:blipFill>
            <a:blip r:embed="rId10"/>
            <a:stretch/>
          </p:blipFill>
          <p:spPr>
            <a:xfrm>
              <a:off x="4883040" y="5032440"/>
              <a:ext cx="144000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30"/>
            <p:cNvSpPr/>
            <p:nvPr/>
          </p:nvSpPr>
          <p:spPr>
            <a:xfrm>
              <a:off x="5113080" y="5013360"/>
              <a:ext cx="792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容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732720" y="5013360"/>
            <a:ext cx="1439640" cy="847800"/>
            <a:chOff x="6732720" y="5013360"/>
            <a:chExt cx="1439640" cy="847800"/>
          </a:xfrm>
        </p:grpSpPr>
        <p:pic>
          <p:nvPicPr>
            <p:cNvPr id="158" name="Picture 32" descr="兔"/>
            <p:cNvPicPr/>
            <p:nvPr/>
          </p:nvPicPr>
          <p:blipFill>
            <a:blip r:embed="rId11"/>
            <a:stretch/>
          </p:blipFill>
          <p:spPr>
            <a:xfrm>
              <a:off x="6732720" y="5032440"/>
              <a:ext cx="14396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33"/>
            <p:cNvSpPr/>
            <p:nvPr/>
          </p:nvSpPr>
          <p:spPr>
            <a:xfrm>
              <a:off x="6962400" y="5013360"/>
              <a:ext cx="79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易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9T06:27:10Z</dcterms:created>
  <dc:creator/>
  <dc:description/>
  <dc:language>en-US</dc:language>
  <cp:lastModifiedBy/>
  <dcterms:modified xsi:type="dcterms:W3CDTF">2014-03-30T00:56:24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