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gif" ContentType="image/gif"/>
  <Override PartName="/ppt/media/image16.png" ContentType="image/png"/>
  <Override PartName="/ppt/media/image7.gif" ContentType="image/gif"/>
  <Override PartName="/ppt/media/image1.jpeg" ContentType="image/jpeg"/>
  <Override PartName="/ppt/media/image5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1.gif" ContentType="image/gif"/>
  <Override PartName="/ppt/media/image14.png" ContentType="image/png"/>
  <Override PartName="/ppt/media/image6.gif" ContentType="image/gif"/>
  <Override PartName="/ppt/media/image9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2DF-4ACC-41DB-AE0E-FEF2FF4B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34C-D023-43B2-B0D5-706AEC45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5E4-5D1A-4EAF-A8C1-C5C020AD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2BA-AB4F-4101-81D5-F39EA125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199F-1493-4859-8D0E-9A8C4FAA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AF83-1B60-4AC7-8740-D9100543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8540-6FB0-4BB4-A2A8-764B7731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40C2-8E46-4D30-B7A7-F2C19610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9C46-F22D-417E-99A1-C1695C6E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37B6-3BD5-47D0-B707-1C271AF2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F4D4-75CA-4FDE-8514-EC050292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9C8-6C58-4F7A-ABE2-FD6AE868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DE12-B3EB-4A8F-9BF3-2E0CECC9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CF02-7FF9-4281-B3FF-6AF87050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7F5B-0753-4ACC-85F7-6280341F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7C6C-237E-4BE0-BF21-01AE4E40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D96E-A179-4130-9965-8708A3EA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0406B-1A7E-461C-A382-57EFA3E3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CA2D-5456-4027-BDE7-76B7050C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FE25C-A537-418B-A401-0BB83EE9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CD48-5ABC-42F9-8C4A-F649BE7B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5398-A602-41C2-A441-BD0D1038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82A-F678-4B20-B635-F471F913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0BB4-98CA-4C96-904A-7280C009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33645-A7C0-4B05-B11B-794C3DB1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330C9-93B6-4A65-B9C2-EAB6246A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A47A-FCF3-4F8D-B43E-B31E357C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486D4-592A-49E1-9640-44F607F4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399B8-3A56-4811-BF81-DADF4616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C7191-77E3-4BD7-A419-AC710204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43913-3DA6-440F-9A44-C5BBBC49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9FBA-D2D8-4507-9C74-3B69574C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26170-3E0F-4DAA-931D-D8A5D499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F62-CEBF-4D90-8B4D-499B9355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0D371-E8D5-45C5-BF7F-15D98B6E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36AD3-234C-443E-A897-14D4A5BC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8ADFF-9F77-47C4-98A6-A542B8C3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BF070-2535-4EEE-B222-251D9432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D7EC-DA30-4C43-910F-967AC09C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97BAB-9E82-4A6C-9438-8A2383D0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620B1-2895-4168-BB5C-DD907DAB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9ED73-EA3D-4409-8F91-5B72160B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8EA87-3712-4E51-A2D4-2896B4F5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2CB5A-2761-492C-B652-15184BB9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069-AFB0-468D-8D11-6D490B33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5F939-D3F1-46F7-ACAC-4F0D0389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F3C82-74BA-4042-9F63-BD0335E3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7B328-CEE4-4F63-81FD-266AF559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610C7-4572-4F0D-8376-3015B883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60714-0ED9-4708-A3E3-AEC004B4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D9F28-BA08-46D3-8B0E-C8A7737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304A8-F455-4CDD-9A9E-D24FCD84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0EFE9-C3D5-47E8-84FE-BA61341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94731-DACB-43A8-A531-00451431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FCBB2-65BC-47EB-BC3F-C2477BBE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ACA-5912-421D-9C84-DC621C25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30485-992F-4512-BBBB-B75007A5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822A3-5248-45B6-9CDF-7A6BF4A9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04042-52CF-495D-A7F2-ABE58707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67EAB-CFCC-44C2-8A75-58033C92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20E04-650A-4654-A6F6-41506975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7A2BA-E07B-4C6F-A68F-7349E087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13E53-58A6-40C0-88BF-F168323B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D658B-903F-457A-B70C-37D8B26A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3685E-97EE-4DE6-AE73-1EACD0C9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7B4DD-D220-481A-98EA-31F18E26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908-8664-4847-9341-5CE0AB7B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578B7-17E9-41ED-8F00-181EB065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EE74C-1E2D-4482-A845-B16A8A2C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2508C-741C-4459-B417-2F973C6F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DA0-0762-4CF3-AD96-B4349C9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9D8-3110-4881-9416-237CB30F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DF49-E01F-44D6-A564-98C3F7672E8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6A19-6764-42EB-9861-678C5A3B84E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圆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360" cy="64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239F-8091-4333-A887-365BF6AE4ED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8464-4489-4B45-ADE7-AF4290155D5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69A4-6B83-4FEA-90CA-CC53C3FD4DE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130E-7DF7-48A9-B4EC-19E820F008A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2852280"/>
            <a:ext cx="46195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Picture 9" descr="狮子   兔子"/>
          <p:cNvPicPr/>
          <p:nvPr/>
        </p:nvPicPr>
        <p:blipFill>
          <a:blip r:embed="rId1"/>
          <a:srcRect l="0" t="0" r="944" b="5576"/>
          <a:stretch/>
        </p:blipFill>
        <p:spPr>
          <a:xfrm>
            <a:off x="1285920" y="3429000"/>
            <a:ext cx="4000320" cy="2714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兔子"/>
          <p:cNvPicPr/>
          <p:nvPr/>
        </p:nvPicPr>
        <p:blipFill>
          <a:blip r:embed="rId2"/>
          <a:srcRect l="0" t="3998" r="-2606" b="0"/>
          <a:stretch/>
        </p:blipFill>
        <p:spPr>
          <a:xfrm>
            <a:off x="6000840" y="3000240"/>
            <a:ext cx="1928880" cy="3430800"/>
          </a:xfrm>
          <a:prstGeom prst="rect">
            <a:avLst/>
          </a:prstGeom>
          <a:ln w="0">
            <a:noFill/>
          </a:ln>
        </p:spPr>
      </p:pic>
      <p:sp>
        <p:nvSpPr>
          <p:cNvPr id="274" name="WordArt 10"/>
          <p:cNvSpPr txBox="1"/>
          <p:nvPr/>
        </p:nvSpPr>
        <p:spPr>
          <a:xfrm>
            <a:off x="1571760" y="928800"/>
            <a:ext cx="592920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狮子和兔子</a:t>
            </a:r>
            <a:endParaRPr b="0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8000" y="620280"/>
            <a:ext cx="8675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狮子为了什么事而发脾气？</a:t>
            </a:r>
            <a:r>
              <a:rPr b="1" lang="en-US" sz="2600" spc="-1" strike="noStrike">
                <a:solidFill>
                  <a:srgbClr val="666699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539640" y="1773360"/>
            <a:ext cx="78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群红蚂蚁到他的身上，咬得他又疼又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39640" y="3645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疼又痒”是怎样的感受？ 你有过这样的感受吗？谁来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5480" y="1573200"/>
            <a:ext cx="84294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狮子感觉太难受了。它作为百兽之王，竟然被一群可恶的红蚂蚁咬了，他的心情怎么样呢？</a:t>
            </a:r>
            <a:r>
              <a:rPr b="1" lang="zh-CN" sz="3600" spc="-1" strike="noStrike">
                <a:solidFill>
                  <a:srgbClr val="696464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258920" y="407844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生气     恼怒    暴跳如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50920" y="558972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跳起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－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吼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－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蹦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－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翻滚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14240" y="571680"/>
            <a:ext cx="6934320" cy="4735440"/>
            <a:chOff x="714240" y="571680"/>
            <a:chExt cx="6934320" cy="4735440"/>
          </a:xfrm>
        </p:grpSpPr>
        <p:pic>
          <p:nvPicPr>
            <p:cNvPr id="345" name="Picture 4" descr="狮2反"/>
            <p:cNvPicPr/>
            <p:nvPr/>
          </p:nvPicPr>
          <p:blipFill>
            <a:blip r:embed="rId1"/>
            <a:stretch/>
          </p:blipFill>
          <p:spPr>
            <a:xfrm>
              <a:off x="714240" y="571680"/>
              <a:ext cx="6934320" cy="47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5" descr="2007116125112854"/>
            <p:cNvPicPr/>
            <p:nvPr/>
          </p:nvPicPr>
          <p:blipFill>
            <a:blip r:embed="rId2"/>
            <a:stretch/>
          </p:blipFill>
          <p:spPr>
            <a:xfrm>
              <a:off x="3882960" y="424368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6" descr="2007116125115217"/>
            <p:cNvPicPr/>
            <p:nvPr/>
          </p:nvPicPr>
          <p:blipFill>
            <a:blip r:embed="rId3"/>
            <a:stretch/>
          </p:blipFill>
          <p:spPr>
            <a:xfrm>
              <a:off x="1795320" y="716040"/>
              <a:ext cx="11509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7" descr="2007116125115217"/>
            <p:cNvPicPr/>
            <p:nvPr/>
          </p:nvPicPr>
          <p:blipFill>
            <a:blip r:embed="rId4"/>
            <a:stretch/>
          </p:blipFill>
          <p:spPr>
            <a:xfrm>
              <a:off x="3090600" y="1363680"/>
              <a:ext cx="115092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8" descr="2007116125115217"/>
            <p:cNvPicPr/>
            <p:nvPr/>
          </p:nvPicPr>
          <p:blipFill>
            <a:blip r:embed="rId5"/>
            <a:stretch/>
          </p:blipFill>
          <p:spPr>
            <a:xfrm>
              <a:off x="4459320" y="2372040"/>
              <a:ext cx="11509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9" descr="2007116125112854"/>
            <p:cNvPicPr/>
            <p:nvPr/>
          </p:nvPicPr>
          <p:blipFill>
            <a:blip r:embed="rId6"/>
            <a:stretch/>
          </p:blipFill>
          <p:spPr>
            <a:xfrm>
              <a:off x="2658960" y="323568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10" descr="2007116125112854"/>
            <p:cNvPicPr/>
            <p:nvPr/>
          </p:nvPicPr>
          <p:blipFill>
            <a:blip r:embed="rId7"/>
            <a:stretch/>
          </p:blipFill>
          <p:spPr>
            <a:xfrm>
              <a:off x="2226960" y="4172040"/>
              <a:ext cx="865440" cy="865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autoRev="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-33480" y="285840"/>
            <a:ext cx="603432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狮子在被红蚂蚁咬了以后，是怎么做的？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狮子跳起来，吼着、蹦着、翻滚着，想把红蚂蚁赶走，可是累得筋疲力尽，还是赶不走身上的蚂蚁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谁能表演一下狮子是怎么做的？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3" name="Picture 7" descr="狮子"/>
          <p:cNvPicPr/>
          <p:nvPr/>
        </p:nvPicPr>
        <p:blipFill>
          <a:blip r:embed="rId1"/>
          <a:stretch/>
        </p:blipFill>
        <p:spPr>
          <a:xfrm>
            <a:off x="5981760" y="2000160"/>
            <a:ext cx="31622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你觉得此时的狮子的心情怎么样？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兔子在一旁为什么笑？</a:t>
            </a:r>
            <a:br>
              <a:rPr sz="2600"/>
            </a:b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619280" y="5300640"/>
            <a:ext cx="316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508720" y="1341360"/>
            <a:ext cx="273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4"/>
          <p:cNvSpPr/>
          <p:nvPr/>
        </p:nvSpPr>
        <p:spPr>
          <a:xfrm>
            <a:off x="4788000" y="404640"/>
            <a:ext cx="4032000" cy="2592720"/>
          </a:xfrm>
          <a:prstGeom prst="ellipse">
            <a:avLst/>
          </a:prstGeom>
          <a:solidFill>
            <a:srgbClr val="a9f5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笑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讨厌的东西没叮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是不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684360" y="1773360"/>
            <a:ext cx="25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6"/>
          <p:cNvSpPr/>
          <p:nvPr/>
        </p:nvSpPr>
        <p:spPr>
          <a:xfrm>
            <a:off x="395280" y="333360"/>
            <a:ext cx="3745080" cy="220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如果红蚂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叮在我身上，我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跳到水里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7020000" y="4005360"/>
            <a:ext cx="28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7020000" y="4076640"/>
            <a:ext cx="21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6804000" y="4581360"/>
            <a:ext cx="21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076720" y="2997360"/>
            <a:ext cx="3581280" cy="2444760"/>
            <a:chOff x="5076720" y="2997360"/>
            <a:chExt cx="3581280" cy="2444760"/>
          </a:xfrm>
        </p:grpSpPr>
        <p:pic>
          <p:nvPicPr>
            <p:cNvPr id="364" name="Picture 11" descr="狮2反"/>
            <p:cNvPicPr/>
            <p:nvPr/>
          </p:nvPicPr>
          <p:blipFill>
            <a:blip r:embed="rId1"/>
            <a:stretch/>
          </p:blipFill>
          <p:spPr>
            <a:xfrm>
              <a:off x="5076720" y="2997360"/>
              <a:ext cx="35812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2" descr="2007116125115217"/>
            <p:cNvPicPr/>
            <p:nvPr/>
          </p:nvPicPr>
          <p:blipFill>
            <a:blip r:embed="rId2"/>
            <a:stretch/>
          </p:blipFill>
          <p:spPr>
            <a:xfrm>
              <a:off x="6443640" y="3861000"/>
              <a:ext cx="50472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3" descr="2007116125115217"/>
            <p:cNvPicPr/>
            <p:nvPr/>
          </p:nvPicPr>
          <p:blipFill>
            <a:blip r:embed="rId3"/>
            <a:stretch/>
          </p:blipFill>
          <p:spPr>
            <a:xfrm>
              <a:off x="6156360" y="3284640"/>
              <a:ext cx="50292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4" descr="2007116125115217"/>
            <p:cNvPicPr/>
            <p:nvPr/>
          </p:nvPicPr>
          <p:blipFill>
            <a:blip r:embed="rId4"/>
            <a:stretch/>
          </p:blipFill>
          <p:spPr>
            <a:xfrm>
              <a:off x="7308720" y="4365720"/>
              <a:ext cx="57636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15" descr="2007116125115217"/>
            <p:cNvPicPr/>
            <p:nvPr/>
          </p:nvPicPr>
          <p:blipFill>
            <a:blip r:embed="rId5"/>
            <a:stretch/>
          </p:blipFill>
          <p:spPr>
            <a:xfrm>
              <a:off x="6084720" y="4365720"/>
              <a:ext cx="50328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9" name="Picture 17" descr="rabbit016s"/>
          <p:cNvPicPr/>
          <p:nvPr/>
        </p:nvPicPr>
        <p:blipFill>
          <a:blip r:embed="rId6"/>
          <a:stretch/>
        </p:blipFill>
        <p:spPr>
          <a:xfrm>
            <a:off x="900000" y="2708280"/>
            <a:ext cx="1733760" cy="302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42960" y="1231920"/>
            <a:ext cx="8105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狮子见兔子在笑，有什么反应？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狮子的麻烦得到解决了吗？是怎样解决的？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684360" y="907920"/>
            <a:ext cx="788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兔子在岸上说：“这回你明白了吧，光凭力气和发脾气是解决不了问题的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2881440" y="3933720"/>
            <a:ext cx="610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1763640" y="4292640"/>
            <a:ext cx="28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276720" y="4365720"/>
            <a:ext cx="35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rabbit016s"/>
          <p:cNvPicPr/>
          <p:nvPr/>
        </p:nvPicPr>
        <p:blipFill>
          <a:blip r:embed="rId1"/>
          <a:stretch/>
        </p:blipFill>
        <p:spPr>
          <a:xfrm>
            <a:off x="2340000" y="3141720"/>
            <a:ext cx="1733400" cy="3024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501120" y="642600"/>
            <a:ext cx="803124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兔子的话告诉我们一个什么样的道理？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兔子让狮子明白了：光凭力气和发脾气是解决不了问题的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要想解决问题，就必须要动脑筋。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7" name="Picture 7" descr="tutu"/>
          <p:cNvPicPr/>
          <p:nvPr/>
        </p:nvPicPr>
        <p:blipFill>
          <a:blip r:embed="rId1"/>
          <a:stretch/>
        </p:blipFill>
        <p:spPr>
          <a:xfrm>
            <a:off x="2714760" y="3929040"/>
            <a:ext cx="4321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4B257556305"/>
          <p:cNvPicPr/>
          <p:nvPr/>
        </p:nvPicPr>
        <p:blipFill>
          <a:blip r:embed="rId1">
            <a:lum contrast="-18000"/>
          </a:blip>
          <a:srcRect l="0" t="0" r="0" b="34657"/>
          <a:stretch/>
        </p:blipFill>
        <p:spPr>
          <a:xfrm>
            <a:off x="0" y="457200"/>
            <a:ext cx="681120" cy="3529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4B257556305"/>
          <p:cNvPicPr/>
          <p:nvPr/>
        </p:nvPicPr>
        <p:blipFill>
          <a:blip r:embed="rId2">
            <a:lum contrast="-18000"/>
          </a:blip>
          <a:srcRect l="0" t="0" r="0" b="34657"/>
          <a:stretch/>
        </p:blipFill>
        <p:spPr>
          <a:xfrm>
            <a:off x="0" y="2514600"/>
            <a:ext cx="681120" cy="3529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4B257556305"/>
          <p:cNvPicPr/>
          <p:nvPr/>
        </p:nvPicPr>
        <p:blipFill>
          <a:blip r:embed="rId3">
            <a:lum contrast="-18000"/>
          </a:blip>
          <a:srcRect l="0" t="0" r="0" b="34657"/>
          <a:stretch/>
        </p:blipFill>
        <p:spPr>
          <a:xfrm>
            <a:off x="8462880" y="838080"/>
            <a:ext cx="681120" cy="41911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9"/>
          <p:cNvSpPr/>
          <p:nvPr/>
        </p:nvSpPr>
        <p:spPr>
          <a:xfrm>
            <a:off x="1071720" y="712800"/>
            <a:ext cx="7169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拓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明家的羊和小兰家的羊顶起仗来了，小明和小兰一边骂一边使劲拉各自的羊，可是拉了半天也没拉开，该怎么办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71400" y="-360"/>
            <a:ext cx="38862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认一认 读一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6" name="Picture 3" descr="图片7"/>
          <p:cNvPicPr/>
          <p:nvPr/>
        </p:nvPicPr>
        <p:blipFill>
          <a:blip r:embed="rId1"/>
          <a:stretch/>
        </p:blipFill>
        <p:spPr>
          <a:xfrm>
            <a:off x="214200" y="3143160"/>
            <a:ext cx="8653680" cy="2383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386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0" y="2205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ff3399"/>
                </a:solidFill>
                <a:latin typeface="Comic Sans MS"/>
              </a:rPr>
              <a:t>痒   尽   蹲    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17720" y="1413000"/>
            <a:ext cx="38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y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ǎ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ng  j</a:t>
            </a: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ì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n  dūn xi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4645080" y="2205000"/>
            <a:ext cx="40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Comic Sans MS"/>
              </a:rPr>
              <a:t>叮    嘻   凭   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427640" y="1413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dīng   xī   p</a:t>
            </a: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ng   p</a:t>
            </a: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200521610950167"/>
          <p:cNvPicPr/>
          <p:nvPr/>
        </p:nvPicPr>
        <p:blipFill>
          <a:blip r:embed="rId2"/>
          <a:stretch/>
        </p:blipFill>
        <p:spPr>
          <a:xfrm>
            <a:off x="0" y="0"/>
            <a:ext cx="1590840" cy="10000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0"/>
          <p:cNvSpPr/>
          <p:nvPr/>
        </p:nvSpPr>
        <p:spPr>
          <a:xfrm>
            <a:off x="-41400" y="3786120"/>
            <a:ext cx="9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1038240" y="3786120"/>
            <a:ext cx="9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2241720" y="3786120"/>
            <a:ext cx="58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3052440" y="3786120"/>
            <a:ext cx="71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5127480" y="3786120"/>
            <a:ext cx="17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讨  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3953880" y="3786120"/>
            <a:ext cx="112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6984360" y="3786120"/>
            <a:ext cx="15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iě  j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解 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324000" y="436572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0" y="0"/>
            <a:ext cx="9144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快乐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填一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（）又（）　　   筋（） （） （） 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）羞（）（）         笑（） （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和小伙伴说说自己在生活中动脑筋解决问题的小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539640" y="0"/>
            <a:ext cx="1657440" cy="1657440"/>
            <a:chOff x="539640" y="0"/>
            <a:chExt cx="1657440" cy="1657440"/>
          </a:xfrm>
        </p:grpSpPr>
        <p:pic>
          <p:nvPicPr>
            <p:cNvPr id="292" name="Picture 3" descr="图片2"/>
            <p:cNvPicPr/>
            <p:nvPr/>
          </p:nvPicPr>
          <p:blipFill>
            <a:blip r:embed="rId1"/>
            <a:stretch/>
          </p:blipFill>
          <p:spPr>
            <a:xfrm>
              <a:off x="539640" y="0"/>
              <a:ext cx="16574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4"/>
            <p:cNvSpPr/>
            <p:nvPr/>
          </p:nvSpPr>
          <p:spPr>
            <a:xfrm>
              <a:off x="1044360" y="576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蹲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763640" y="907920"/>
            <a:ext cx="2376360" cy="2304720"/>
            <a:chOff x="1763640" y="907920"/>
            <a:chExt cx="2376360" cy="2304720"/>
          </a:xfrm>
        </p:grpSpPr>
        <p:pic>
          <p:nvPicPr>
            <p:cNvPr id="295" name="Picture 6" descr="图片2"/>
            <p:cNvPicPr/>
            <p:nvPr/>
          </p:nvPicPr>
          <p:blipFill>
            <a:blip r:embed="rId2"/>
            <a:stretch/>
          </p:blipFill>
          <p:spPr>
            <a:xfrm>
              <a:off x="1763640" y="907920"/>
              <a:ext cx="1917000" cy="23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7"/>
            <p:cNvSpPr/>
            <p:nvPr/>
          </p:nvSpPr>
          <p:spPr>
            <a:xfrm>
              <a:off x="2377080" y="1645560"/>
              <a:ext cx="1762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筋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力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124000" y="-241200"/>
            <a:ext cx="1712880" cy="1638360"/>
            <a:chOff x="2124000" y="-241200"/>
            <a:chExt cx="1712880" cy="1638360"/>
          </a:xfrm>
        </p:grpSpPr>
        <p:pic>
          <p:nvPicPr>
            <p:cNvPr id="298" name="Picture 9" descr="图片2"/>
            <p:cNvPicPr/>
            <p:nvPr/>
          </p:nvPicPr>
          <p:blipFill>
            <a:blip r:embed="rId3"/>
            <a:stretch/>
          </p:blipFill>
          <p:spPr>
            <a:xfrm>
              <a:off x="2124000" y="-241200"/>
              <a:ext cx="163980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10"/>
            <p:cNvSpPr/>
            <p:nvPr/>
          </p:nvSpPr>
          <p:spPr>
            <a:xfrm>
              <a:off x="2611440" y="245520"/>
              <a:ext cx="12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脾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692280"/>
            <a:ext cx="2016000" cy="1657080"/>
            <a:chOff x="2771640" y="692280"/>
            <a:chExt cx="2016000" cy="1657080"/>
          </a:xfrm>
        </p:grpSpPr>
        <p:pic>
          <p:nvPicPr>
            <p:cNvPr id="301" name="Picture 12" descr="图片2"/>
            <p:cNvPicPr/>
            <p:nvPr/>
          </p:nvPicPr>
          <p:blipFill>
            <a:blip r:embed="rId4"/>
            <a:stretch/>
          </p:blipFill>
          <p:spPr>
            <a:xfrm>
              <a:off x="2771640" y="692280"/>
              <a:ext cx="165744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3"/>
            <p:cNvSpPr/>
            <p:nvPr/>
          </p:nvSpPr>
          <p:spPr>
            <a:xfrm>
              <a:off x="3276360" y="119520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发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851280" y="-385920"/>
            <a:ext cx="2158920" cy="1582920"/>
            <a:chOff x="3851280" y="-385920"/>
            <a:chExt cx="2158920" cy="1582920"/>
          </a:xfrm>
        </p:grpSpPr>
        <p:pic>
          <p:nvPicPr>
            <p:cNvPr id="304" name="Picture 15" descr="图片2"/>
            <p:cNvPicPr/>
            <p:nvPr/>
          </p:nvPicPr>
          <p:blipFill>
            <a:blip r:embed="rId5"/>
            <a:stretch/>
          </p:blipFill>
          <p:spPr>
            <a:xfrm>
              <a:off x="3851280" y="-385920"/>
              <a:ext cx="1584360" cy="15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16"/>
            <p:cNvSpPr/>
            <p:nvPr/>
          </p:nvSpPr>
          <p:spPr>
            <a:xfrm>
              <a:off x="4282920" y="11808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提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284720" y="907920"/>
            <a:ext cx="1871640" cy="1584360"/>
            <a:chOff x="4284720" y="907920"/>
            <a:chExt cx="1871640" cy="1584360"/>
          </a:xfrm>
        </p:grpSpPr>
        <p:pic>
          <p:nvPicPr>
            <p:cNvPr id="307" name="Picture 18" descr="图片2"/>
            <p:cNvPicPr/>
            <p:nvPr/>
          </p:nvPicPr>
          <p:blipFill>
            <a:blip r:embed="rId6"/>
            <a:stretch/>
          </p:blipFill>
          <p:spPr>
            <a:xfrm>
              <a:off x="4284720" y="90792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19"/>
            <p:cNvSpPr/>
            <p:nvPr/>
          </p:nvSpPr>
          <p:spPr>
            <a:xfrm>
              <a:off x="4714920" y="1387440"/>
              <a:ext cx="14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解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788000" y="0"/>
            <a:ext cx="1871640" cy="1655640"/>
            <a:chOff x="4788000" y="0"/>
            <a:chExt cx="1871640" cy="1655640"/>
          </a:xfrm>
        </p:grpSpPr>
        <p:pic>
          <p:nvPicPr>
            <p:cNvPr id="310" name="Picture 21" descr="图片2"/>
            <p:cNvPicPr/>
            <p:nvPr/>
          </p:nvPicPr>
          <p:blipFill>
            <a:blip r:embed="rId7"/>
            <a:stretch/>
          </p:blipFill>
          <p:spPr>
            <a:xfrm>
              <a:off x="4788000" y="0"/>
              <a:ext cx="1655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22"/>
            <p:cNvSpPr/>
            <p:nvPr/>
          </p:nvSpPr>
          <p:spPr>
            <a:xfrm>
              <a:off x="5291280" y="5047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讨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012000" y="-169920"/>
            <a:ext cx="1726560" cy="1581120"/>
            <a:chOff x="6012000" y="-169920"/>
            <a:chExt cx="1726560" cy="1581120"/>
          </a:xfrm>
        </p:grpSpPr>
        <p:pic>
          <p:nvPicPr>
            <p:cNvPr id="313" name="Picture 24" descr="图片2"/>
            <p:cNvPicPr/>
            <p:nvPr/>
          </p:nvPicPr>
          <p:blipFill>
            <a:blip r:embed="rId8"/>
            <a:stretch/>
          </p:blipFill>
          <p:spPr>
            <a:xfrm>
              <a:off x="6012000" y="-169920"/>
              <a:ext cx="158220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25"/>
            <p:cNvSpPr/>
            <p:nvPr/>
          </p:nvSpPr>
          <p:spPr>
            <a:xfrm>
              <a:off x="6443280" y="3070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叮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270920" y="0"/>
            <a:ext cx="1873080" cy="1692360"/>
            <a:chOff x="7270920" y="0"/>
            <a:chExt cx="1873080" cy="1692360"/>
          </a:xfrm>
        </p:grpSpPr>
        <p:pic>
          <p:nvPicPr>
            <p:cNvPr id="316" name="Picture 27" descr="图片2"/>
            <p:cNvPicPr/>
            <p:nvPr/>
          </p:nvPicPr>
          <p:blipFill>
            <a:blip r:embed="rId9"/>
            <a:stretch/>
          </p:blipFill>
          <p:spPr>
            <a:xfrm>
              <a:off x="7270920" y="0"/>
              <a:ext cx="169236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28"/>
            <p:cNvSpPr/>
            <p:nvPr/>
          </p:nvSpPr>
          <p:spPr>
            <a:xfrm>
              <a:off x="7812360" y="503280"/>
              <a:ext cx="13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一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-0.00399 0.78866 E">
                                      <p:cBhvr>
                                        <p:cTn id="73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0533 L -0.02743 0.67223 E">
                                      <p:cBhvr>
                                        <p:cTn id="77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222E-006 L 0.00087 0.77291 E">
                                      <p:cBhvr>
                                        <p:cTn id="81" dur="1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0.00532 L -0.00799 0.64051 E">
                                      <p:cBhvr>
                                        <p:cTn id="85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2.22222E-006 L -0.00781 0.80856 E">
                                      <p:cBhvr>
                                        <p:cTn id="89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799 0.59861 E">
                                      <p:cBhvr>
                                        <p:cTn id="93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L 0.02379 0.72986 E">
                                      <p:cBhvr>
                                        <p:cTn id="9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40741E-007 L 0.0158 0.75602 E">
                                      <p:cBhvr>
                                        <p:cTn id="101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7 L -0.00382 0.71273 E">
                                      <p:cBhvr>
                                        <p:cTn id="105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214200" y="2786040"/>
            <a:ext cx="860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天，狮子躺在草丛中晒太阳，没想到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一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蚂蚁爬到他身上，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得他又疼又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狮子跳起来，吼着、蹦着、翻滚着，想把红蚂蚁赶走，可是累得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筋疲力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还是赶不走身上的蚂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兔子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一边，“哧哧”地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14200" y="9288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　　从前，有一只狮子，他力气很大，脾气也很大。他自认为是百兽之王，根本不把别的动物放在眼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57120" y="92880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狮子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恼羞成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“笑什么？这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讨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东西没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是不是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兔子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笑嘻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地说：“如果红蚂蚁叮在我身上，我就跳到水里去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500040" y="342900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一句话</a:t>
            </a:r>
            <a:r>
              <a:rPr b="1" lang="zh-CN" sz="3200" spc="-1" strike="noStrike">
                <a:solidFill>
                  <a:srgbClr val="0070c0"/>
                </a:solidFill>
                <a:latin typeface="Comic Sans MS"/>
              </a:rPr>
              <a:t>提醒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了狮子，他纵身跳进河里，河水立即把红蚂蚁冲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642960" y="478620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兔子在岸上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回你明白了吧，光</a:t>
            </a:r>
            <a:r>
              <a:rPr b="1" lang="zh-CN" sz="3200" spc="-1" strike="noStrike">
                <a:solidFill>
                  <a:srgbClr val="0070c0"/>
                </a:solidFill>
                <a:latin typeface="Comic Sans MS"/>
              </a:rPr>
              <a:t>凭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力气和发</a:t>
            </a:r>
            <a:r>
              <a:rPr b="1" lang="zh-CN" sz="3200" spc="-1" strike="noStrike">
                <a:solidFill>
                  <a:srgbClr val="0070c0"/>
                </a:solidFill>
                <a:latin typeface="Comic Sans MS"/>
              </a:rPr>
              <a:t>脾气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是解决不了问题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Franklin Gothic Book"/>
              </a:rPr>
              <a:t>想一想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400" y="1089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Perpetua"/>
              </a:rPr>
              <a:t>这篇课文 ，为我们讲述一个什么样的故事</a:t>
            </a:r>
            <a:r>
              <a:rPr b="0" lang="zh-CN" sz="4000" spc="-1" strike="noStrike">
                <a:solidFill>
                  <a:srgbClr val="000000"/>
                </a:solidFill>
                <a:latin typeface="Perpetua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狮3"/>
          <p:cNvPicPr/>
          <p:nvPr/>
        </p:nvPicPr>
        <p:blipFill>
          <a:blip r:embed="rId1"/>
          <a:stretch/>
        </p:blipFill>
        <p:spPr>
          <a:xfrm>
            <a:off x="5500800" y="1071720"/>
            <a:ext cx="3316320" cy="50464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466560" y="1784520"/>
            <a:ext cx="53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Times New Roman"/>
              </a:rPr>
              <a:t>从前有一只狮子，他力气很大，脾气也很大。他自认为是百兽之王，根本不把别的动物放在眼里</a:t>
            </a:r>
            <a:r>
              <a:rPr b="0" lang="zh-CN" sz="4000" spc="-1" strike="noStrike">
                <a:solidFill>
                  <a:srgbClr val="0070c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50560" y="907920"/>
            <a:ext cx="82501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Perpetua"/>
              </a:rPr>
              <a:t>你怎么知道这是一只骄傲、自以为是的狮子？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2103480" y="3433680"/>
            <a:ext cx="48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611280" y="3070080"/>
            <a:ext cx="78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他自认为是百兽之王，根本不把别的动物放在眼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狮1"/>
          <p:cNvPicPr/>
          <p:nvPr/>
        </p:nvPicPr>
        <p:blipFill>
          <a:blip r:embed="rId1"/>
          <a:stretch/>
        </p:blipFill>
        <p:spPr>
          <a:xfrm>
            <a:off x="1258920" y="692280"/>
            <a:ext cx="2455920" cy="3052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2007116125112854"/>
          <p:cNvPicPr/>
          <p:nvPr/>
        </p:nvPicPr>
        <p:blipFill>
          <a:blip r:embed="rId2"/>
          <a:stretch/>
        </p:blipFill>
        <p:spPr>
          <a:xfrm>
            <a:off x="2143080" y="285768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2007116125115217"/>
          <p:cNvPicPr/>
          <p:nvPr/>
        </p:nvPicPr>
        <p:blipFill>
          <a:blip r:embed="rId3"/>
          <a:stretch/>
        </p:blipFill>
        <p:spPr>
          <a:xfrm>
            <a:off x="3143160" y="17146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2007116125112854"/>
          <p:cNvPicPr/>
          <p:nvPr/>
        </p:nvPicPr>
        <p:blipFill>
          <a:blip r:embed="rId4"/>
          <a:stretch/>
        </p:blipFill>
        <p:spPr>
          <a:xfrm>
            <a:off x="1143000" y="2428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2007116125112854"/>
          <p:cNvPicPr/>
          <p:nvPr/>
        </p:nvPicPr>
        <p:blipFill>
          <a:blip r:embed="rId5"/>
          <a:stretch/>
        </p:blipFill>
        <p:spPr>
          <a:xfrm>
            <a:off x="3071880" y="26431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2007116125115217"/>
          <p:cNvPicPr/>
          <p:nvPr/>
        </p:nvPicPr>
        <p:blipFill>
          <a:blip r:embed="rId6"/>
          <a:stretch/>
        </p:blipFill>
        <p:spPr>
          <a:xfrm>
            <a:off x="2857680" y="714240"/>
            <a:ext cx="649080" cy="649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2007116125115217"/>
          <p:cNvPicPr/>
          <p:nvPr/>
        </p:nvPicPr>
        <p:blipFill>
          <a:blip r:embed="rId7"/>
          <a:stretch/>
        </p:blipFill>
        <p:spPr>
          <a:xfrm>
            <a:off x="1500120" y="714240"/>
            <a:ext cx="701640" cy="7016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9"/>
          <p:cNvSpPr/>
          <p:nvPr/>
        </p:nvSpPr>
        <p:spPr>
          <a:xfrm>
            <a:off x="574560" y="4143240"/>
            <a:ext cx="82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天，狮子躺在草丛中晒太阳，没想到一群红蚂蚁爬到他身上，咬得他又疼又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1:20:12Z</dcterms:created>
  <dc:creator/>
  <dc:description/>
  <dc:language>en-US</dc:language>
  <cp:lastModifiedBy/>
  <dcterms:modified xsi:type="dcterms:W3CDTF">2014-03-30T02:44:3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