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  <p:custShowLst>
    <p:custShow name="自定义放映1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EF7-4D71-495E-B2FA-D0291993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660-E947-4052-BF5C-50492A18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29D-C9F8-42E1-89A9-2E30BBA0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A1D-8B90-4BD6-B9CA-8AEC7CCC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F4B7-6EF5-4C2D-97D8-F8E3BB86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EE4C-7475-4FAF-83B4-9944E567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20E4-2163-4345-88F1-DEA88D2F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0A92-1F94-47DB-80B4-2C021D7D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9DB1-2B53-4216-8EC9-204A6161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BE5E-F08A-4BBD-95E7-D50C4F0B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18F3-56F7-4DDD-8CE6-D728DB7B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879-7F93-4F3F-8852-F7CEA9B5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2D52-298D-4F79-925F-A60DD8D0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B752-E22F-4695-8B67-B7897C0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1E17-66E5-4AA5-9A4C-D26FF7A7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87E7-0C78-4110-AC62-20CFA6E9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AAFA-80AD-4124-9E63-C67AD8A6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7E5D-CF04-49CB-B4D8-03224FBB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B0EB-B39F-4738-9364-EFBC3EDC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E523-5FD6-48E8-BC0E-6CB35A1C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2BF6-A481-4D26-B7D6-1F4BEB1C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6494-18CE-4DFF-A8EC-1D5EDB8B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B7A-0738-40A6-8F06-A27132E2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F974-9FFB-4CF9-ABA1-3DB463E3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0E3C-BCF7-4669-9771-D8F456BE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88F9-0798-4F7D-B8C4-C30D035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C200B-E1CD-49D3-9538-8285C269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FA0CC-A5C6-4323-8CA9-91F1A722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C717-C368-44AA-94AB-22A3EA46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DADD-D676-4AA5-B891-1DD923EC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1E95D-3806-4953-886D-DCE18226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0558-746B-443D-ADF4-3E46E179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0D38-9659-4DB7-A530-C927F198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3B7-102A-4FA9-A785-A7FDA1AC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320A-B66C-490B-834D-E31CAA25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56B05-1238-44F2-8D95-D246188D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72F1-D1AD-48A6-BEFC-7D90A3D6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4A69-5F2F-4E91-BAEB-00DC1B24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99D7A-F8BA-42EA-9187-285789C0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BD459-DAFB-483D-AB83-178F914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0768-967F-4980-84F6-CDDBBF29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86402-45E2-4248-8646-9331DB54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6F8F5-20E8-40E5-A935-4400BDBA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65DEB-5A41-4916-90FA-BEE7914B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6C1-7E33-491B-A306-F43DA7DD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5B1F0-9FFF-4FD8-8126-AA4DC106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DBD67-EFAC-4474-86BA-7516303F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5611B-4CBF-4149-B9D1-D7A8A268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7F1FE-8C99-4E98-BD82-8A8CB952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3FEF7-1E8D-484A-B95F-A7EB413B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B2EE-240E-497C-BAF1-C0BA73E1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64276-554B-4064-8594-BCCA18D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7AF02-7B0E-47FA-9168-CF9C9AEB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9E60-C2C8-4554-A9AF-6D775217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77D74-FDC4-43B5-AE63-20B3F29A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634-4A99-48C9-AD6E-972E5744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AD25A-5219-4090-95BE-9E9AC1D5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5AD7-4926-4992-ACA6-796143E9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D13EC-7257-44AE-9615-69563596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8DF31-9D91-4B0E-8E37-5288E2D8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927BD-970E-48F5-AEF0-E0F080F7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7BB41-5B36-44B9-A64B-936FF5CC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CD2BA-DC59-49DF-A26E-D3228F3A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E6938-7E20-4B2C-A1AC-E6CC2851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A33A6-3154-4CC2-9CE6-3102F8F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FA2FD-66CE-4830-9433-4FB39E8C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972-76F6-49E9-9C9B-CE2E2F17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0B72E-565E-47DC-9C2B-F89A6B7E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4FE22-AF63-4944-BD51-75C351A8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025ED-E2FD-406B-A64F-6B7F640D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1BB62-66C1-408D-9314-3AEB6A85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110CB-DE7B-4C9D-92B6-19804D9B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7A10C-1048-41AF-B9D5-FC90AAE9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AB2D6-84CD-4E41-B7A4-7A63AA63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B17A3-A640-45A1-9C4E-3EFD4D44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E8D0B-03A1-4316-BFE8-B30CC698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D0691-64F5-460C-8D48-15E39AD9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CC5-4785-44FB-A5B9-EF65F96F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5BEDD-BADB-46F2-A65A-65E25B91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999B9-3CB9-46C0-9783-D35960FE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B180B-459E-4156-938F-1356D87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411F6-4688-4821-A9BB-7FFF6251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3B5B0-D48F-4597-9B8B-C8AB4EAA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BDF-F795-40F6-9E3C-5D8218E2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4320" y="-814320"/>
            <a:ext cx="1636560" cy="1636560"/>
          </a:xfrm>
          <a:custGeom>
            <a:avLst/>
            <a:gdLst>
              <a:gd name="textAreaLeft" fmla="*/ 239400 w 1636560"/>
              <a:gd name="textAreaRight" fmla="*/ 1397160 w 1636560"/>
              <a:gd name="textAreaTop" fmla="*/ 239400 h 1636560"/>
              <a:gd name="textAreaBottom" fmla="*/ 1397160 h 16365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6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5F0F-FA99-4763-8229-C35AE443400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6"/>
          <p:cNvSpPr/>
          <p:nvPr/>
        </p:nvSpPr>
        <p:spPr>
          <a:xfrm>
            <a:off x="-814320" y="-814320"/>
            <a:ext cx="1636560" cy="1636560"/>
          </a:xfrm>
          <a:custGeom>
            <a:avLst/>
            <a:gdLst>
              <a:gd name="textAreaLeft" fmla="*/ 239400 w 1636560"/>
              <a:gd name="textAreaRight" fmla="*/ 1397160 w 1636560"/>
              <a:gd name="textAreaTop" fmla="*/ 239400 h 1636560"/>
              <a:gd name="textAreaBottom" fmla="*/ 1397160 h 16365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914400" y="1407960"/>
            <a:ext cx="231840" cy="225360"/>
            <a:chOff x="914400" y="1407960"/>
            <a:chExt cx="231840" cy="225360"/>
          </a:xfrm>
        </p:grpSpPr>
        <p:pic>
          <p:nvPicPr>
            <p:cNvPr id="56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1"/>
            <p:cNvSpPr/>
            <p:nvPr/>
          </p:nvSpPr>
          <p:spPr>
            <a:xfrm>
              <a:off x="952560" y="1444320"/>
              <a:ext cx="149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5300-63BB-475E-9797-DC0A6F5F0A4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6"/>
            <p:cNvSpPr/>
            <p:nvPr/>
          </p:nvSpPr>
          <p:spPr>
            <a:xfrm>
              <a:off x="220320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FB9F-C632-43FF-916F-CD5D26BDE32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F31F-93DD-457D-9C7D-827393AFF1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C7AD-E916-498A-AD8D-555091C2079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DF8A-1B76-46D2-BC40-37CB4F6F7A4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646200" y="969840"/>
            <a:ext cx="4803840" cy="4802040"/>
            <a:chOff x="646200" y="969840"/>
            <a:chExt cx="4803840" cy="480204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4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B7BF-1921-4A26-8E38-C37B01D0C6A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2"/>
          <p:cNvSpPr txBox="1"/>
          <p:nvPr/>
        </p:nvSpPr>
        <p:spPr>
          <a:xfrm>
            <a:off x="1571760" y="928800"/>
            <a:ext cx="6248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吃水不忘挖井人</a:t>
            </a:r>
            <a:endParaRPr b="1" i="1" lang="en-US" sz="4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319" name="图片 5" descr="吃水不忘挖井人2.jpg"/>
          <p:cNvPicPr/>
          <p:nvPr/>
        </p:nvPicPr>
        <p:blipFill>
          <a:blip r:embed="rId1"/>
          <a:stretch/>
        </p:blipFill>
        <p:spPr>
          <a:xfrm>
            <a:off x="2071800" y="2643120"/>
            <a:ext cx="5486400" cy="3681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b051894"/>
          <p:cNvPicPr/>
          <p:nvPr/>
        </p:nvPicPr>
        <p:blipFill>
          <a:blip r:embed="rId1"/>
          <a:stretch/>
        </p:blipFill>
        <p:spPr>
          <a:xfrm>
            <a:off x="1285920" y="785880"/>
            <a:ext cx="72151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7"/>
          <p:cNvSpPr/>
          <p:nvPr/>
        </p:nvSpPr>
        <p:spPr>
          <a:xfrm>
            <a:off x="642960" y="1571760"/>
            <a:ext cx="820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吃水不忘挖井人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时刻想念毛主席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7"/>
          <p:cNvSpPr/>
          <p:nvPr/>
        </p:nvSpPr>
        <p:spPr>
          <a:xfrm>
            <a:off x="642960" y="1571760"/>
            <a:ext cx="820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吃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不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挖井人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时刻想念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毛主席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瑞金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城外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4f271c"/>
                </a:solidFill>
                <a:latin typeface="Arial Black"/>
                <a:ea typeface="宋体"/>
              </a:rPr>
              <a:t>沙洲坝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4f271c"/>
                </a:solidFill>
                <a:latin typeface="Arial Black"/>
                <a:ea typeface="宋体"/>
              </a:rPr>
              <a:t>毛主席</a:t>
            </a:r>
            <a:r>
              <a:rPr b="0" lang="zh-CN" sz="18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江西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领导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革命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200552492550734"/>
          <p:cNvPicPr/>
          <p:nvPr/>
        </p:nvPicPr>
        <p:blipFill>
          <a:blip r:embed="rId1"/>
          <a:stretch/>
        </p:blipFill>
        <p:spPr>
          <a:xfrm>
            <a:off x="5072040" y="4145040"/>
            <a:ext cx="3214800" cy="2138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l5"/>
          <p:cNvPicPr/>
          <p:nvPr/>
        </p:nvPicPr>
        <p:blipFill>
          <a:blip r:embed="rId2"/>
          <a:stretch/>
        </p:blipFill>
        <p:spPr>
          <a:xfrm>
            <a:off x="1500120" y="642960"/>
            <a:ext cx="3571920" cy="23241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5357880" y="12142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瑞金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643120" y="49291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沙洲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挖井</a:t>
            </a:r>
            <a:r>
              <a:rPr b="0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带领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战士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4f271c"/>
                </a:solidFill>
                <a:latin typeface="Arial Black"/>
                <a:ea typeface="宋体"/>
              </a:rPr>
              <a:t>乡亲们</a:t>
            </a:r>
            <a:r>
              <a:rPr b="0" lang="zh-CN" sz="18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解放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以后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石碑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时刻</a:t>
            </a:r>
            <a:r>
              <a:rPr b="0" lang="zh-CN" sz="4000" spc="-1" strike="noStrike">
                <a:solidFill>
                  <a:srgbClr val="4f271c"/>
                </a:solidFill>
                <a:latin typeface="Arial Black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4f271c"/>
                </a:solidFill>
                <a:latin typeface="Arial Black"/>
                <a:ea typeface="宋体"/>
              </a:rPr>
              <a:t>想念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4"/>
          <p:cNvGrpSpPr/>
          <p:nvPr/>
        </p:nvGrpSpPr>
        <p:grpSpPr>
          <a:xfrm>
            <a:off x="533520" y="2209320"/>
            <a:ext cx="3199680" cy="3075840"/>
            <a:chOff x="533520" y="2209320"/>
            <a:chExt cx="3199680" cy="3075840"/>
          </a:xfrm>
        </p:grpSpPr>
        <p:sp>
          <p:nvSpPr>
            <p:cNvPr id="358" name="Rectangle 5"/>
            <p:cNvSpPr/>
            <p:nvPr/>
          </p:nvSpPr>
          <p:spPr>
            <a:xfrm>
              <a:off x="533520" y="2212560"/>
              <a:ext cx="3199680" cy="307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533520" y="37490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7"/>
            <p:cNvSpPr/>
            <p:nvPr/>
          </p:nvSpPr>
          <p:spPr>
            <a:xfrm flipV="1">
              <a:off x="2130120" y="2209320"/>
              <a:ext cx="3240" cy="30726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Rectangle 8"/>
          <p:cNvSpPr/>
          <p:nvPr/>
        </p:nvSpPr>
        <p:spPr>
          <a:xfrm>
            <a:off x="1194120" y="19810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井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Group 9"/>
          <p:cNvGrpSpPr/>
          <p:nvPr/>
        </p:nvGrpSpPr>
        <p:grpSpPr>
          <a:xfrm>
            <a:off x="4267080" y="2209320"/>
            <a:ext cx="3199680" cy="3075840"/>
            <a:chOff x="4267080" y="2209320"/>
            <a:chExt cx="3199680" cy="3075840"/>
          </a:xfrm>
        </p:grpSpPr>
        <p:sp>
          <p:nvSpPr>
            <p:cNvPr id="363" name="Rectangle 10"/>
            <p:cNvSpPr/>
            <p:nvPr/>
          </p:nvSpPr>
          <p:spPr>
            <a:xfrm>
              <a:off x="4267080" y="2212560"/>
              <a:ext cx="3199680" cy="307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1"/>
            <p:cNvSpPr/>
            <p:nvPr/>
          </p:nvSpPr>
          <p:spPr>
            <a:xfrm>
              <a:off x="4267080" y="37490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2"/>
            <p:cNvSpPr/>
            <p:nvPr/>
          </p:nvSpPr>
          <p:spPr>
            <a:xfrm flipV="1">
              <a:off x="5863680" y="2209320"/>
              <a:ext cx="3240" cy="30726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Text Box 13"/>
          <p:cNvSpPr/>
          <p:nvPr/>
        </p:nvSpPr>
        <p:spPr>
          <a:xfrm>
            <a:off x="4500720" y="1965240"/>
            <a:ext cx="2819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乡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642960" y="121428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在江西省瑞金城外，有个叫沙洲坝的小村子。毛主席当年领导革命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时候，曾住在那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457200" y="2209320"/>
            <a:ext cx="3199680" cy="3075840"/>
            <a:chOff x="457200" y="2209320"/>
            <a:chExt cx="3199680" cy="3075840"/>
          </a:xfrm>
        </p:grpSpPr>
        <p:sp>
          <p:nvSpPr>
            <p:cNvPr id="370" name="Rectangle 5"/>
            <p:cNvSpPr/>
            <p:nvPr/>
          </p:nvSpPr>
          <p:spPr>
            <a:xfrm>
              <a:off x="457200" y="2212560"/>
              <a:ext cx="3199680" cy="307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"/>
            <p:cNvSpPr/>
            <p:nvPr/>
          </p:nvSpPr>
          <p:spPr>
            <a:xfrm>
              <a:off x="457200" y="37490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7"/>
            <p:cNvSpPr/>
            <p:nvPr/>
          </p:nvSpPr>
          <p:spPr>
            <a:xfrm flipV="1">
              <a:off x="2053800" y="2209320"/>
              <a:ext cx="3240" cy="30726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1366920" y="19652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4191120" y="2209320"/>
            <a:ext cx="3199680" cy="3075840"/>
            <a:chOff x="4191120" y="2209320"/>
            <a:chExt cx="3199680" cy="3075840"/>
          </a:xfrm>
        </p:grpSpPr>
        <p:sp>
          <p:nvSpPr>
            <p:cNvPr id="375" name="Rectangle 10"/>
            <p:cNvSpPr/>
            <p:nvPr/>
          </p:nvSpPr>
          <p:spPr>
            <a:xfrm>
              <a:off x="4191120" y="2212560"/>
              <a:ext cx="3199680" cy="307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1"/>
            <p:cNvSpPr/>
            <p:nvPr/>
          </p:nvSpPr>
          <p:spPr>
            <a:xfrm>
              <a:off x="4191120" y="37490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2"/>
            <p:cNvSpPr/>
            <p:nvPr/>
          </p:nvSpPr>
          <p:spPr>
            <a:xfrm flipV="1">
              <a:off x="5787720" y="2209320"/>
              <a:ext cx="3240" cy="30726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Text Box 13"/>
          <p:cNvSpPr/>
          <p:nvPr/>
        </p:nvSpPr>
        <p:spPr>
          <a:xfrm>
            <a:off x="4495680" y="2017800"/>
            <a:ext cx="2819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主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380880" y="2209320"/>
            <a:ext cx="3199680" cy="3075840"/>
            <a:chOff x="380880" y="2209320"/>
            <a:chExt cx="3199680" cy="3075840"/>
          </a:xfrm>
        </p:grpSpPr>
        <p:sp>
          <p:nvSpPr>
            <p:cNvPr id="382" name="Rectangle 5"/>
            <p:cNvSpPr/>
            <p:nvPr/>
          </p:nvSpPr>
          <p:spPr>
            <a:xfrm>
              <a:off x="380880" y="2212560"/>
              <a:ext cx="3199680" cy="307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6"/>
            <p:cNvSpPr/>
            <p:nvPr/>
          </p:nvSpPr>
          <p:spPr>
            <a:xfrm>
              <a:off x="380880" y="37490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7"/>
            <p:cNvSpPr/>
            <p:nvPr/>
          </p:nvSpPr>
          <p:spPr>
            <a:xfrm flipV="1">
              <a:off x="1977480" y="2209320"/>
              <a:ext cx="3240" cy="30726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8"/>
          <p:cNvSpPr/>
          <p:nvPr/>
        </p:nvSpPr>
        <p:spPr>
          <a:xfrm>
            <a:off x="1214640" y="20890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忘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9"/>
          <p:cNvGrpSpPr/>
          <p:nvPr/>
        </p:nvGrpSpPr>
        <p:grpSpPr>
          <a:xfrm>
            <a:off x="4114800" y="2209320"/>
            <a:ext cx="3199680" cy="3075840"/>
            <a:chOff x="4114800" y="2209320"/>
            <a:chExt cx="3199680" cy="3075840"/>
          </a:xfrm>
        </p:grpSpPr>
        <p:sp>
          <p:nvSpPr>
            <p:cNvPr id="387" name="Rectangle 10"/>
            <p:cNvSpPr/>
            <p:nvPr/>
          </p:nvSpPr>
          <p:spPr>
            <a:xfrm>
              <a:off x="4114800" y="2212560"/>
              <a:ext cx="3199680" cy="307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1"/>
            <p:cNvSpPr/>
            <p:nvPr/>
          </p:nvSpPr>
          <p:spPr>
            <a:xfrm>
              <a:off x="4114800" y="37490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2"/>
            <p:cNvSpPr/>
            <p:nvPr/>
          </p:nvSpPr>
          <p:spPr>
            <a:xfrm flipV="1">
              <a:off x="5711400" y="2209320"/>
              <a:ext cx="3240" cy="30726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Text Box 13"/>
          <p:cNvSpPr/>
          <p:nvPr/>
        </p:nvSpPr>
        <p:spPr>
          <a:xfrm>
            <a:off x="4427640" y="2057400"/>
            <a:ext cx="2819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642960" y="121428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在江西省瑞金城外，有个叫沙洲坝的小村子。毛主席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当年领导革命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时候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，曾住在那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673600" y="5229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时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642960" y="1214280"/>
            <a:ext cx="82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在江西省瑞金城外，有个叫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沙洲坝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的小村子。毛主席当年领导革命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时候，曾住在那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5673600" y="5229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地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4"/>
          <p:cNvSpPr/>
          <p:nvPr/>
        </p:nvSpPr>
        <p:spPr>
          <a:xfrm>
            <a:off x="642960" y="1214280"/>
            <a:ext cx="82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在江西省瑞金城外，有个叫沙洲坝的小村子。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毛主席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当年领导革命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时候，曾住在那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673600" y="5229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人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357200" y="7858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毛泽东生平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143000" y="1785960"/>
            <a:ext cx="374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毛泽东，湖南湘潭人。生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9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去世。他一生为中国人民的解放，为祖国的繁荣富强而奋斗，他是中国人民深深热爱的伟大领袖，中国人民将永远怀念他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4" descr="14-01"/>
          <p:cNvPicPr/>
          <p:nvPr/>
        </p:nvPicPr>
        <p:blipFill>
          <a:blip r:embed="rId1"/>
          <a:stretch/>
        </p:blipFill>
        <p:spPr>
          <a:xfrm>
            <a:off x="5286240" y="1357200"/>
            <a:ext cx="3349800" cy="457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1714680" y="1071720"/>
            <a:ext cx="76323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谁是挖井人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谁不忘挖井人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为什么要挖井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4"/>
          <p:cNvSpPr/>
          <p:nvPr/>
        </p:nvSpPr>
        <p:spPr>
          <a:xfrm>
            <a:off x="1143000" y="1928880"/>
            <a:ext cx="76327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那时村子里没有井，人们只能吃池塘里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浑浊的积水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8:18:00Z</dcterms:created>
  <dc:creator/>
  <dc:description/>
  <cp:keywords/>
  <dc:language>en-US</dc:language>
  <cp:lastModifiedBy>Administrator</cp:lastModifiedBy>
  <dcterms:modified xsi:type="dcterms:W3CDTF">2017-04-19T01:54:3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