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5ED-69BD-42FA-A20F-6826B2B8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2A7-C06E-4948-9986-3CFAA88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03C-9F97-4192-9553-FF903640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106-1872-4361-8FC6-8A2678D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BDB-744F-4358-9B5A-85DA411E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F3D-4F6F-4495-B39E-627418D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8ED-6313-41EA-A7EC-02D70FA9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5A7-56FF-458E-961C-28A1FF1E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77D-1586-4173-B16B-99C55A2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7E5-20C8-4F91-A0C6-5631D16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4C0-A840-4F78-B4D7-946E7B4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33A-105B-4046-B6FB-8521CAD8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D806-FA3C-4F86-A165-7D541249E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瀑布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瀑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7172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：叶圣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42960" y="142884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站在瀑布脚下仰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好伟大呀，一座珍珠的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时时来一阵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把它吹得如烟、如雾、如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69960" y="2565360"/>
            <a:ext cx="78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节写作者在瀑布脚下仰望瀑布时的所见所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85840" y="1000080"/>
            <a:ext cx="85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为什么把瀑布比做珍珠的屏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4200" y="2428920"/>
            <a:ext cx="84297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因为瀑布从上面冲下来，飞溅起无数小水珠，所以看上去像珍珠做的屏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28760" y="500040"/>
            <a:ext cx="82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把风吹过的瀑布的景象比做什么？为什么这样比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6720" y="2452680"/>
            <a:ext cx="8425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把风吹过后的瀑布的景象比做“烟、雾、尘。”因为一阵风吹来，水珠便被吹碎了，成了更小的水珠，迷迷蒙蒙的一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2214360"/>
            <a:ext cx="814392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纵观全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看瀑布的位置：由远到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根据课文内容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听见瀑布的声音，既像（                             ），又像（                            ）。远望瀑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丈青山衬着（              ）；站在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脚下仰望，它就像（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00080" y="20718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叠叠的浪涌上岸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071720" y="27147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阵阵的风吹过松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57192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一道白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643280" y="41432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一座珍珠的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280" y="2498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再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500120"/>
            <a:ext cx="8229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66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借助汉语拼音，读准生字词，读通每句话，并标出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266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读全文，思考：三节中，作者看瀑布的位置有什么变化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16430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还没看见瀑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先听见瀑布的声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好像叠叠的浪涌上岸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又像阵阵的风吹过松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28760" y="2286000"/>
            <a:ext cx="72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节写瀑布的声音大而连接不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42960" y="1000080"/>
            <a:ext cx="692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诗中用“叠叠”形容浪，用“阵阵”形容风，这两个词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071720" y="3286080"/>
            <a:ext cx="7429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叠叠”是一层加一层的意思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阵阵”是一阵又一阵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28760" y="2214720"/>
            <a:ext cx="796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运用形象的比喻，把瀑布声音的特点逼真地再现于读者的耳畔，使人未见其形，先闻其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山路忽然一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!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望见了瀑布的全身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这般景象没法比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千丈青山衬着一道白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00040" y="264312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节写作者在远处看到的瀑布全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2560" y="311040"/>
            <a:ext cx="80661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千丈青山衬着一道白银”赏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4200" y="1285920"/>
            <a:ext cx="871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形象的比喻勾勒出了瀑布形态的壮美，如同一幅画卷展现在读者眼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328608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诗中之所以把瀑布比喻成一道白银，是因为瀑布在千丈青山的衬托下，在阳光的照射下，闪着银白耀眼的光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51:29Z</dcterms:created>
  <dc:creator/>
  <dc:description/>
  <dc:language>en-US</dc:language>
  <cp:lastModifiedBy/>
  <dcterms:modified xsi:type="dcterms:W3CDTF">2014-03-30T03:12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