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B5D-5362-4BED-A559-633010D5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BAA-9367-4D19-ABEF-69C49C6D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F5A-0E0B-41A1-84EE-60B72D3B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697C-734F-41D8-A6D0-F06C22A3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D32-D365-47D4-8AAD-0C963F02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E34-1A94-412E-8520-BECE5236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0F3-54AA-4218-83F2-D72968B0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07F8-2A35-48B7-85C9-7A6C25A2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97A-3E28-4FF7-A79C-C3AF0436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6E3C-8E06-41CB-9A6B-F061B790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F8C-7DC0-4F94-BA7E-BC8E8E77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4DAB-A880-4AA2-924E-8A71F1ED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78CA-A41D-41F0-85FB-1B216A47DF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44280" y="920880"/>
            <a:ext cx="7378200" cy="5862600"/>
            <a:chOff x="-44280" y="920880"/>
            <a:chExt cx="7378200" cy="5862600"/>
          </a:xfrm>
        </p:grpSpPr>
        <p:pic>
          <p:nvPicPr>
            <p:cNvPr id="42" name="Picture 3" descr="BJ2032"/>
            <p:cNvPicPr/>
            <p:nvPr/>
          </p:nvPicPr>
          <p:blipFill>
            <a:blip r:embed="rId1"/>
            <a:stretch/>
          </p:blipFill>
          <p:spPr>
            <a:xfrm>
              <a:off x="-44280" y="1898640"/>
              <a:ext cx="7323120" cy="48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WordArt 4"/>
            <p:cNvSpPr txBox="1"/>
            <p:nvPr/>
          </p:nvSpPr>
          <p:spPr>
            <a:xfrm>
              <a:off x="1757880" y="920880"/>
              <a:ext cx="557604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79000"/>
                      </a:srgbClr>
                    </a:outerShdw>
                  </a:effectLst>
                  <a:latin typeface="宋体"/>
                </a:rPr>
                <a:t>歌唱二小放牛郎</a:t>
              </a:r>
              <a:endParaRPr b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484280" y="262908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抓住了二小叫他带路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假装顺从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自有主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2602080" y="243828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王二小带路走在前面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把敌人领进我们的埋伏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297520" y="243828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王二小带路走在前面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敌人领进我们的</a:t>
            </a: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埋伏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2323440" y="1600200"/>
            <a:ext cx="520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下里“乒乒乓乓”响起了枪声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才知道受了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图片5"/>
          <p:cNvPicPr/>
          <p:nvPr/>
        </p:nvPicPr>
        <p:blipFill>
          <a:blip r:embed="rId1"/>
          <a:stretch/>
        </p:blipFill>
        <p:spPr>
          <a:xfrm>
            <a:off x="0" y="-237960"/>
            <a:ext cx="9774360" cy="73180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1285920" y="1500120"/>
            <a:ext cx="49086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敌人把二小</a:t>
            </a:r>
            <a:r>
              <a:rPr b="1" lang="zh-CN" sz="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挑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枪尖，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摔死</a:t>
            </a: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大石头的旁边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285920" y="3571920"/>
            <a:ext cx="6680160" cy="22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十三岁的王二小，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勇地牺牲在山间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图片5"/>
          <p:cNvPicPr/>
          <p:nvPr/>
        </p:nvPicPr>
        <p:blipFill>
          <a:blip r:embed="rId1"/>
          <a:stretch/>
        </p:blipFill>
        <p:spPr>
          <a:xfrm>
            <a:off x="0" y="-237960"/>
            <a:ext cx="9774360" cy="73180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1285920" y="1500120"/>
            <a:ext cx="49086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部和老乡得到安全，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却睡在冰冷的山里边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285920" y="3571920"/>
            <a:ext cx="6680160" cy="22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的脸上含着微笑，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的鲜血染红蓝天。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666880" y="6858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秋风吹遍了每个村庄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动人的故事到处传扬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124080" y="152388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一个老乡都眼含热泪，歌唱着二小放牛郎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BJ2040"/>
          <p:cNvPicPr/>
          <p:nvPr/>
        </p:nvPicPr>
        <p:blipFill>
          <a:blip r:embed="rId1"/>
          <a:stretch/>
        </p:blipFill>
        <p:spPr>
          <a:xfrm>
            <a:off x="287280" y="3068640"/>
            <a:ext cx="7164360" cy="37274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900000" y="674640"/>
            <a:ext cx="7958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诚希望历史的悲剧不再重演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和平之光永远照耀地球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J2040"/>
          <p:cNvPicPr/>
          <p:nvPr/>
        </p:nvPicPr>
        <p:blipFill>
          <a:blip r:embed="rId1"/>
          <a:stretch/>
        </p:blipFill>
        <p:spPr>
          <a:xfrm>
            <a:off x="287280" y="3068640"/>
            <a:ext cx="7164360" cy="3727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986200" y="1517760"/>
            <a:ext cx="2760480" cy="19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再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57120" y="1357200"/>
            <a:ext cx="58579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王二小原名阎福华，在家排行老二，村里人都叫他阎二小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4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二小在一个大山坡上放牛，日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余人向南滚龙沟袭来，当日军凶狠地用刀逼着二小为他们带路抓八路时，二小非常清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晋察冀日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报社的工作人员和战士就在四面的山上隐藏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1000080" y="500040"/>
            <a:ext cx="58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Times New Roman"/>
              </a:rPr>
              <a:t>背景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214200" y="1082520"/>
            <a:ext cx="5786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他牵着牛机智地领着鬼子在三道壕慢慢地转，从上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点多转到了下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点多。在二道泉山顶，他猛地抱住一个鬼子厮打，想与鬼子跳崖同归于尽，不料被另一个鬼子用刺刀从背后刺穿了胸膛。这时埋伏在轿顶山的报社武装梯队发起了攻击，一举歼灭了这股敌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285840" y="1643040"/>
            <a:ext cx="60721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记者方冰对此事进行了采访，并结合他平时采访的其他故事，与作曲家劫夫合作了歌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歌唱二小放牛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后来，王二小的故事被编进了小学课本，二小成了千千万万儿童心目中的英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85840" y="64296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歌唱二小放牛郎</a:t>
            </a: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2907000" y="685800"/>
            <a:ext cx="353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牛儿还在山坡上吃草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牛的却不知道哪儿去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432080" y="1752480"/>
            <a:ext cx="353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是他贪玩耍丢了牛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牛的孩子王二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-284040"/>
            <a:ext cx="9144000" cy="73562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2411640" y="1828800"/>
            <a:ext cx="319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月十六那天早上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去一条山沟扫荡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394360" y="1857240"/>
            <a:ext cx="319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九月十六那天早上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敌人去一条山沟扫荡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aphicFrame>
          <p:nvGraphicFramePr>
            <p:cNvPr id="60" name="Object 2"/>
            <p:cNvGraphicFramePr/>
            <p:nvPr/>
          </p:nvGraphicFramePr>
          <p:xfrm>
            <a:off x="0" y="1025640"/>
            <a:ext cx="9144000" cy="583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025640"/>
                      <a:ext cx="9144000" cy="583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2" name="Object 3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2839680" y="228600"/>
            <a:ext cx="3899160" cy="1434600"/>
            <a:chOff x="2839680" y="228600"/>
            <a:chExt cx="3899160" cy="1434600"/>
          </a:xfrm>
        </p:grpSpPr>
        <p:sp>
          <p:nvSpPr>
            <p:cNvPr id="64" name="Text Box 6"/>
            <p:cNvSpPr/>
            <p:nvPr/>
          </p:nvSpPr>
          <p:spPr>
            <a:xfrm>
              <a:off x="2839680" y="228600"/>
              <a:ext cx="38689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山沟里潜伏着后方机关，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还隐藏着几千个老乡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5"/>
            <p:cNvSpPr/>
            <p:nvPr/>
          </p:nvSpPr>
          <p:spPr>
            <a:xfrm>
              <a:off x="2869920" y="228600"/>
              <a:ext cx="38689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山沟里</a:t>
              </a:r>
              <a:r>
                <a:rPr b="1" lang="zh-CN" sz="4400" spc="-1" strike="noStrike">
                  <a:solidFill>
                    <a:srgbClr val="c00000"/>
                  </a:solidFill>
                  <a:latin typeface="Times New Roman"/>
                  <a:ea typeface="楷体_GB2312"/>
                </a:rPr>
                <a:t>潜伏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着后方机关，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还</a:t>
              </a:r>
              <a:r>
                <a:rPr b="1" lang="zh-CN" sz="4400" spc="-1" strike="noStrike">
                  <a:solidFill>
                    <a:srgbClr val="c00000"/>
                  </a:solidFill>
                  <a:latin typeface="Times New Roman"/>
                  <a:ea typeface="楷体_GB2312"/>
                </a:rPr>
                <a:t>隐藏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着几千个老乡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819520" y="1219320"/>
            <a:ext cx="6043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快要走到山口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昏头昏脑地迷失了方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819520" y="1219320"/>
            <a:ext cx="6043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快要走到山口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昏头昏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</a:t>
            </a: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迷失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方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01:44:13Z</dcterms:created>
  <dc:creator/>
  <dc:description/>
  <dc:language>en-US</dc:language>
  <cp:lastModifiedBy/>
  <dcterms:modified xsi:type="dcterms:W3CDTF">2014-03-30T07:08:1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