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gif" ContentType="image/gif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F33-6D70-41D2-8126-DCAFA332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A3F-7EFD-435D-8012-FF3A7FA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17A-0ED3-4C23-8F4D-17E88E02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264-BC45-45F7-A5BF-3BBE80B2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D28-7CCC-457C-A29D-B032F169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520-B142-4FDA-B7F7-62E505B1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279-8753-43D4-BEC7-CCCE4922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4DB-37CA-4FA6-997C-BE6539F1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767-9A40-46E6-BF72-2768D8A5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DBF-A8C9-4442-AC4F-8F4AD845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DCB-A35D-42A0-BA11-9101741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585-D5C4-4C6A-81E7-3323B72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FEEB-E349-4269-B440-2713A3232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"/>
          <p:cNvSpPr/>
          <p:nvPr/>
        </p:nvSpPr>
        <p:spPr>
          <a:xfrm>
            <a:off x="250920" y="836640"/>
            <a:ext cx="8713800" cy="568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hm1"/>
          <p:cNvPicPr/>
          <p:nvPr/>
        </p:nvPicPr>
        <p:blipFill>
          <a:blip r:embed="rId3"/>
          <a:srcRect l="52763" t="0" r="0" b="7721"/>
          <a:stretch/>
        </p:blipFill>
        <p:spPr>
          <a:xfrm>
            <a:off x="4586400" y="785880"/>
            <a:ext cx="4557600" cy="568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14"/>
          <p:cNvSpPr txBox="1"/>
          <p:nvPr/>
        </p:nvSpPr>
        <p:spPr>
          <a:xfrm>
            <a:off x="1500120" y="1928880"/>
            <a:ext cx="3745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歌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042920" y="2349360"/>
            <a:ext cx="3024360" cy="1295280"/>
            <a:chOff x="1042920" y="2349360"/>
            <a:chExt cx="3024360" cy="1295280"/>
          </a:xfrm>
        </p:grpSpPr>
        <p:pic>
          <p:nvPicPr>
            <p:cNvPr id="114" name="Picture 3" descr="zhuangshihuabian1_0454"/>
            <p:cNvPicPr/>
            <p:nvPr/>
          </p:nvPicPr>
          <p:blipFill>
            <a:blip r:embed="rId2"/>
            <a:stretch/>
          </p:blipFill>
          <p:spPr>
            <a:xfrm>
              <a:off x="1042920" y="2349360"/>
              <a:ext cx="3024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4"/>
            <p:cNvSpPr/>
            <p:nvPr/>
          </p:nvSpPr>
          <p:spPr>
            <a:xfrm>
              <a:off x="1474560" y="2636640"/>
              <a:ext cx="2160720" cy="64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5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8"/>
          <p:cNvSpPr txBox="1"/>
          <p:nvPr/>
        </p:nvSpPr>
        <p:spPr>
          <a:xfrm>
            <a:off x="2916360" y="907920"/>
            <a:ext cx="264312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交流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24000" y="206064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假如是你在漆黑的夜晚落在冰冷的水中，孤立无援，又冷又饿，你会有什么感受？你会怎么做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1835280" y="3860640"/>
            <a:ext cx="2735280" cy="1224000"/>
          </a:xfrm>
          <a:prstGeom prst="wedgeEllipseCallout">
            <a:avLst>
              <a:gd name="adj1" fmla="val -65263"/>
              <a:gd name="adj2" fmla="val 35083"/>
            </a:avLst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想办法逃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xxyw2bp68"/>
          <p:cNvPicPr/>
          <p:nvPr/>
        </p:nvPicPr>
        <p:blipFill>
          <a:blip r:embed="rId3"/>
          <a:srcRect l="7008" t="38296" r="72031" b="45537"/>
          <a:stretch/>
        </p:blipFill>
        <p:spPr>
          <a:xfrm rot="20443200">
            <a:off x="0" y="4696920"/>
            <a:ext cx="208908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xxyw2bp68"/>
          <p:cNvPicPr/>
          <p:nvPr/>
        </p:nvPicPr>
        <p:blipFill>
          <a:blip r:embed="rId4"/>
          <a:srcRect l="68181" t="50716" r="0" b="36842"/>
          <a:stretch/>
        </p:blipFill>
        <p:spPr>
          <a:xfrm>
            <a:off x="7020000" y="4076640"/>
            <a:ext cx="2592360" cy="23767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0"/>
          <p:cNvSpPr/>
          <p:nvPr/>
        </p:nvSpPr>
        <p:spPr>
          <a:xfrm>
            <a:off x="4786200" y="3786120"/>
            <a:ext cx="3214800" cy="1443240"/>
          </a:xfrm>
          <a:prstGeom prst="wedgeEllipseCallout">
            <a:avLst>
              <a:gd name="adj1" fmla="val 47268"/>
              <a:gd name="adj2" fmla="val 52884"/>
            </a:avLst>
          </a:prstGeom>
          <a:gradFill rotWithShape="0">
            <a:gsLst>
              <a:gs pos="0">
                <a:srgbClr val="ff66cc"/>
              </a:gs>
              <a:gs pos="50000">
                <a:srgbClr val="ffffff"/>
              </a:gs>
              <a:gs pos="100000">
                <a:srgbClr val="ff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害怕，等人来救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042920" y="2349360"/>
            <a:ext cx="3024360" cy="1295280"/>
            <a:chOff x="1042920" y="2349360"/>
            <a:chExt cx="3024360" cy="1295280"/>
          </a:xfrm>
        </p:grpSpPr>
        <p:pic>
          <p:nvPicPr>
            <p:cNvPr id="124" name="Picture 3" descr="zhuangshihuabian1_0454"/>
            <p:cNvPicPr/>
            <p:nvPr/>
          </p:nvPicPr>
          <p:blipFill>
            <a:blip r:embed="rId2"/>
            <a:stretch/>
          </p:blipFill>
          <p:spPr>
            <a:xfrm>
              <a:off x="1042920" y="2349360"/>
              <a:ext cx="3024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4"/>
            <p:cNvSpPr/>
            <p:nvPr/>
          </p:nvSpPr>
          <p:spPr>
            <a:xfrm>
              <a:off x="1474560" y="2636640"/>
              <a:ext cx="2160720" cy="64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5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shuishanggongju2_0367"/>
          <p:cNvPicPr/>
          <p:nvPr/>
        </p:nvPicPr>
        <p:blipFill>
          <a:blip r:embed="rId3"/>
          <a:stretch/>
        </p:blipFill>
        <p:spPr>
          <a:xfrm>
            <a:off x="6659640" y="4732200"/>
            <a:ext cx="2160360" cy="17924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8"/>
          <p:cNvSpPr txBox="1"/>
          <p:nvPr/>
        </p:nvSpPr>
        <p:spPr>
          <a:xfrm>
            <a:off x="2916360" y="907920"/>
            <a:ext cx="264312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黑体"/>
              </a:rPr>
              <a:t>考考你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971640" y="198900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人们为什么感谢这位小姑娘？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987640" y="2637000"/>
            <a:ext cx="5513400" cy="2592360"/>
          </a:xfrm>
          <a:prstGeom prst="cloudCallout">
            <a:avLst>
              <a:gd name="adj1" fmla="val -62393"/>
              <a:gd name="adj2" fmla="val 55574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因为小姑娘的歌声，帮他们传来了救生艇，他们得救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xxyw2bp59"/>
          <p:cNvPicPr/>
          <p:nvPr/>
        </p:nvPicPr>
        <p:blipFill>
          <a:blip r:embed="rId6"/>
          <a:srcRect l="5905" t="39982" r="72950" b="47784"/>
          <a:stretch/>
        </p:blipFill>
        <p:spPr>
          <a:xfrm>
            <a:off x="-712800" y="4311720"/>
            <a:ext cx="313056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042920" y="2349360"/>
            <a:ext cx="3024360" cy="1295280"/>
            <a:chOff x="1042920" y="2349360"/>
            <a:chExt cx="3024360" cy="1295280"/>
          </a:xfrm>
        </p:grpSpPr>
        <p:pic>
          <p:nvPicPr>
            <p:cNvPr id="133" name="Picture 3" descr="zhuangshihuabian1_0454"/>
            <p:cNvPicPr/>
            <p:nvPr/>
          </p:nvPicPr>
          <p:blipFill>
            <a:blip r:embed="rId2"/>
            <a:stretch/>
          </p:blipFill>
          <p:spPr>
            <a:xfrm>
              <a:off x="1042920" y="2349360"/>
              <a:ext cx="3024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4"/>
            <p:cNvSpPr/>
            <p:nvPr/>
          </p:nvSpPr>
          <p:spPr>
            <a:xfrm>
              <a:off x="1474560" y="2636640"/>
              <a:ext cx="2160720" cy="64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5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2627280" y="1103400"/>
            <a:ext cx="32036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动动脑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95280" y="21747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组合作学习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--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并思考：小姑娘的歌声除了为大家引来了救生艇，还有什么作用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6877080" y="3068640"/>
            <a:ext cx="1873080" cy="1440000"/>
          </a:xfrm>
          <a:prstGeom prst="wedgeRoundRectCallout">
            <a:avLst>
              <a:gd name="adj1" fmla="val -89490"/>
              <a:gd name="adj2" fmla="val 43055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135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给人们求生的勇气和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图片1"/>
          <p:cNvPicPr/>
          <p:nvPr/>
        </p:nvPicPr>
        <p:blipFill>
          <a:blip r:embed="rId3"/>
          <a:srcRect l="30158" t="28571" r="14311" b="22102"/>
          <a:stretch/>
        </p:blipFill>
        <p:spPr>
          <a:xfrm>
            <a:off x="1763640" y="3429000"/>
            <a:ext cx="4537080" cy="3095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2"/>
          <p:cNvSpPr/>
          <p:nvPr/>
        </p:nvSpPr>
        <p:spPr>
          <a:xfrm>
            <a:off x="250920" y="4076640"/>
            <a:ext cx="2089080" cy="1368360"/>
          </a:xfrm>
          <a:prstGeom prst="wedgeRoundRectCallout">
            <a:avLst>
              <a:gd name="adj1" fmla="val 72949"/>
              <a:gd name="adj2" fmla="val -1531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f7a7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使人们充满着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6372360" y="5516640"/>
            <a:ext cx="2303280" cy="934920"/>
          </a:xfrm>
          <a:prstGeom prst="wedgeRoundRectCallout">
            <a:avLst>
              <a:gd name="adj1" fmla="val -85907"/>
              <a:gd name="adj2" fmla="val -36078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使人们聚拢到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042920" y="2349360"/>
            <a:ext cx="3024360" cy="1295280"/>
            <a:chOff x="1042920" y="2349360"/>
            <a:chExt cx="3024360" cy="1295280"/>
          </a:xfrm>
        </p:grpSpPr>
        <p:pic>
          <p:nvPicPr>
            <p:cNvPr id="143" name="Picture 3" descr="zhuangshihuabian1_0454"/>
            <p:cNvPicPr/>
            <p:nvPr/>
          </p:nvPicPr>
          <p:blipFill>
            <a:blip r:embed="rId2"/>
            <a:stretch/>
          </p:blipFill>
          <p:spPr>
            <a:xfrm>
              <a:off x="1042920" y="2349360"/>
              <a:ext cx="3024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4"/>
            <p:cNvSpPr/>
            <p:nvPr/>
          </p:nvSpPr>
          <p:spPr>
            <a:xfrm>
              <a:off x="1474560" y="2636640"/>
              <a:ext cx="2160720" cy="64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5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shuishanggongju2_0367"/>
          <p:cNvPicPr/>
          <p:nvPr/>
        </p:nvPicPr>
        <p:blipFill>
          <a:blip r:embed="rId3"/>
          <a:stretch/>
        </p:blipFill>
        <p:spPr>
          <a:xfrm>
            <a:off x="6372360" y="4437000"/>
            <a:ext cx="2447640" cy="20304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8"/>
          <p:cNvSpPr txBox="1"/>
          <p:nvPr/>
        </p:nvSpPr>
        <p:spPr>
          <a:xfrm>
            <a:off x="1979640" y="907920"/>
            <a:ext cx="30970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说一说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042920" y="198900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楷体_GB2312"/>
              </a:rPr>
              <a:t>你想对小姑娘说些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39640" y="2924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、你真坚强，面对困难不退缩，我要向你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39640" y="443700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、你真是个英雄，是你的歌声救了大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250920" y="1989000"/>
            <a:ext cx="8642160" cy="4535640"/>
          </a:xfrm>
          <a:prstGeom prst="rect">
            <a:avLst/>
          </a:prstGeom>
          <a:solidFill>
            <a:srgbClr val="e3eb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面对死亡的威胁，小姑娘不但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绝望，反而用自己的歌声鼓励大家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去，终于等到了救生艇。她给遇难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们的，不仅是生命，而且是勇气，是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困境英勇的坚强、乐观的态度值得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042920" y="2349360"/>
            <a:ext cx="3024360" cy="1295280"/>
            <a:chOff x="1042920" y="2349360"/>
            <a:chExt cx="3024360" cy="1295280"/>
          </a:xfrm>
        </p:grpSpPr>
        <p:pic>
          <p:nvPicPr>
            <p:cNvPr id="153" name="Picture 3" descr="zhuangshihuabian1_0454"/>
            <p:cNvPicPr/>
            <p:nvPr/>
          </p:nvPicPr>
          <p:blipFill>
            <a:blip r:embed="rId2"/>
            <a:stretch/>
          </p:blipFill>
          <p:spPr>
            <a:xfrm>
              <a:off x="1042920" y="2349360"/>
              <a:ext cx="3024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4"/>
            <p:cNvSpPr/>
            <p:nvPr/>
          </p:nvSpPr>
          <p:spPr>
            <a:xfrm>
              <a:off x="1474560" y="2636640"/>
              <a:ext cx="2160720" cy="64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5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shuishanggongju2_0367"/>
          <p:cNvPicPr/>
          <p:nvPr/>
        </p:nvPicPr>
        <p:blipFill>
          <a:blip r:embed="rId3"/>
          <a:stretch/>
        </p:blipFill>
        <p:spPr>
          <a:xfrm>
            <a:off x="6372360" y="4437000"/>
            <a:ext cx="2447640" cy="20304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8"/>
          <p:cNvSpPr txBox="1"/>
          <p:nvPr/>
        </p:nvSpPr>
        <p:spPr>
          <a:xfrm>
            <a:off x="2771640" y="907920"/>
            <a:ext cx="287208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小结</a:t>
            </a:r>
            <a:endParaRPr b="1" lang="en-US" sz="4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042920" y="2205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姑娘的行为给我们留下了深刻的印象，她真是一位名副其实的小英雄，让我们带着对她的钦佩之情齐声有感情朗地读一下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 rot="5400000">
            <a:off x="2886480" y="2569320"/>
            <a:ext cx="3122640" cy="1917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042920" y="2349360"/>
            <a:ext cx="3024360" cy="1295280"/>
            <a:chOff x="1042920" y="2349360"/>
            <a:chExt cx="3024360" cy="1295280"/>
          </a:xfrm>
        </p:grpSpPr>
        <p:pic>
          <p:nvPicPr>
            <p:cNvPr id="45" name="Picture 3" descr="zhuangshihuabian1_0454"/>
            <p:cNvPicPr/>
            <p:nvPr/>
          </p:nvPicPr>
          <p:blipFill>
            <a:blip r:embed="rId2"/>
            <a:stretch/>
          </p:blipFill>
          <p:spPr>
            <a:xfrm>
              <a:off x="1042920" y="2349360"/>
              <a:ext cx="3024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4"/>
            <p:cNvSpPr/>
            <p:nvPr/>
          </p:nvSpPr>
          <p:spPr>
            <a:xfrm>
              <a:off x="1474560" y="2636640"/>
              <a:ext cx="2160720" cy="64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5"/>
          <p:cNvSpPr/>
          <p:nvPr/>
        </p:nvSpPr>
        <p:spPr>
          <a:xfrm>
            <a:off x="179280" y="571680"/>
            <a:ext cx="8785440" cy="595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shuishanggongju2_0367"/>
          <p:cNvPicPr/>
          <p:nvPr/>
        </p:nvPicPr>
        <p:blipFill>
          <a:blip r:embed="rId3"/>
          <a:stretch/>
        </p:blipFill>
        <p:spPr>
          <a:xfrm>
            <a:off x="214200" y="5143680"/>
            <a:ext cx="1619280" cy="1342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2786040" y="785880"/>
            <a:ext cx="309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想一想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258920" y="234936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给课文标上段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258920" y="34290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由读课文并思考，文中讲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2000160" y="5072040"/>
            <a:ext cx="4032360" cy="1295280"/>
          </a:xfrm>
          <a:prstGeom prst="wedgeRoundRectCallout">
            <a:avLst>
              <a:gd name="adj1" fmla="val 70865"/>
              <a:gd name="adj2" fmla="val -13847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讲小姑娘用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声救了大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xxyw2bp59"/>
          <p:cNvPicPr/>
          <p:nvPr/>
        </p:nvPicPr>
        <p:blipFill>
          <a:blip r:embed="rId4"/>
          <a:srcRect l="78391" t="39982" r="5343" b="45299"/>
          <a:stretch/>
        </p:blipFill>
        <p:spPr>
          <a:xfrm>
            <a:off x="7164360" y="4724280"/>
            <a:ext cx="259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2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2997360"/>
          <a:ext cx="8642160" cy="1311120"/>
        </p:xfrm>
        <a:graphic>
          <a:graphicData uri="http://schemas.openxmlformats.org/drawingml/2006/table">
            <a:tbl>
              <a:tblPr/>
              <a:tblGrid>
                <a:gridCol w="1307880"/>
                <a:gridCol w="1158840"/>
                <a:gridCol w="1162080"/>
                <a:gridCol w="1252440"/>
                <a:gridCol w="1254240"/>
                <a:gridCol w="1252440"/>
                <a:gridCol w="125424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突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断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根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终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追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寻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0"/>
          <p:cNvSpPr/>
          <p:nvPr/>
        </p:nvSpPr>
        <p:spPr>
          <a:xfrm>
            <a:off x="250920" y="2352600"/>
            <a:ext cx="129672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3851280" y="2349360"/>
            <a:ext cx="129708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ō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2700360" y="2349360"/>
            <a:ext cx="115092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1547640" y="2352600"/>
            <a:ext cx="115272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u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34920" y="44337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（突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5148360" y="2352600"/>
            <a:ext cx="12240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u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0"/>
          <p:cNvSpPr txBox="1"/>
          <p:nvPr/>
        </p:nvSpPr>
        <p:spPr>
          <a:xfrm>
            <a:off x="3132000" y="981000"/>
            <a:ext cx="288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黑体"/>
              </a:rPr>
              <a:t>认一认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3" name="Picture 31" descr="teache4"/>
          <p:cNvPicPr/>
          <p:nvPr/>
        </p:nvPicPr>
        <p:blipFill>
          <a:blip r:embed="rId2"/>
          <a:stretch/>
        </p:blipFill>
        <p:spPr>
          <a:xfrm>
            <a:off x="468360" y="836640"/>
            <a:ext cx="1295280" cy="1011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4"/>
          <p:cNvSpPr/>
          <p:nvPr/>
        </p:nvSpPr>
        <p:spPr>
          <a:xfrm>
            <a:off x="6372360" y="2349360"/>
            <a:ext cx="129528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ú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1258920" y="44337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（不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7"/>
          <p:cNvSpPr/>
          <p:nvPr/>
        </p:nvSpPr>
        <p:spPr>
          <a:xfrm>
            <a:off x="2484360" y="4437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（树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8"/>
          <p:cNvSpPr/>
          <p:nvPr/>
        </p:nvSpPr>
        <p:spPr>
          <a:xfrm>
            <a:off x="3708360" y="4437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（终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9"/>
          <p:cNvSpPr/>
          <p:nvPr/>
        </p:nvSpPr>
        <p:spPr>
          <a:xfrm>
            <a:off x="4932360" y="4437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（追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6119640" y="4437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（寻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179280" y="714240"/>
            <a:ext cx="8785440" cy="581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42960" y="1071720"/>
            <a:ext cx="80312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幸  挣扎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望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继续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隐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约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笼罩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妇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女  清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脆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感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激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聚拢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然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根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终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于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追寻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断断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续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1042920" y="2349360"/>
            <a:ext cx="3024360" cy="1295280"/>
            <a:chOff x="1042920" y="2349360"/>
            <a:chExt cx="3024360" cy="1295280"/>
          </a:xfrm>
        </p:grpSpPr>
        <p:pic>
          <p:nvPicPr>
            <p:cNvPr id="73" name="Picture 3" descr="zhuangshihuabian1_0454"/>
            <p:cNvPicPr/>
            <p:nvPr/>
          </p:nvPicPr>
          <p:blipFill>
            <a:blip r:embed="rId2"/>
            <a:stretch/>
          </p:blipFill>
          <p:spPr>
            <a:xfrm>
              <a:off x="1042920" y="2349360"/>
              <a:ext cx="3024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4"/>
            <p:cNvSpPr/>
            <p:nvPr/>
          </p:nvSpPr>
          <p:spPr>
            <a:xfrm>
              <a:off x="1474560" y="2636640"/>
              <a:ext cx="2160720" cy="64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5"/>
          <p:cNvSpPr/>
          <p:nvPr/>
        </p:nvSpPr>
        <p:spPr>
          <a:xfrm>
            <a:off x="179280" y="714240"/>
            <a:ext cx="8785440" cy="5810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shuishanggongju2_0367"/>
          <p:cNvPicPr/>
          <p:nvPr/>
        </p:nvPicPr>
        <p:blipFill>
          <a:blip r:embed="rId3"/>
          <a:stretch/>
        </p:blipFill>
        <p:spPr>
          <a:xfrm>
            <a:off x="6877080" y="4856040"/>
            <a:ext cx="1942920" cy="1611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539640" y="1916280"/>
            <a:ext cx="799308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同学们默读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段并思考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遇难的人们是什么感受？怎么做的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11280" y="350028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们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拼命挣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已经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筋疲力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39640" y="429264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们已经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绝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再也没有力气继续游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xxyw2bp59"/>
          <p:cNvPicPr/>
          <p:nvPr/>
        </p:nvPicPr>
        <p:blipFill>
          <a:blip r:embed="rId4"/>
          <a:srcRect l="2066" t="9464" r="81246" b="86657"/>
          <a:stretch/>
        </p:blipFill>
        <p:spPr>
          <a:xfrm>
            <a:off x="-971640" y="907920"/>
            <a:ext cx="280692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042920" y="2349360"/>
            <a:ext cx="3024360" cy="1295280"/>
            <a:chOff x="1042920" y="2349360"/>
            <a:chExt cx="3024360" cy="1295280"/>
          </a:xfrm>
        </p:grpSpPr>
        <p:pic>
          <p:nvPicPr>
            <p:cNvPr id="82" name="Picture 3" descr="zhuangshihuabian1_0454"/>
            <p:cNvPicPr/>
            <p:nvPr/>
          </p:nvPicPr>
          <p:blipFill>
            <a:blip r:embed="rId2"/>
            <a:stretch/>
          </p:blipFill>
          <p:spPr>
            <a:xfrm>
              <a:off x="1042920" y="2349360"/>
              <a:ext cx="3024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1474560" y="2636640"/>
              <a:ext cx="2160720" cy="64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5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shuishanggongju2_0367"/>
          <p:cNvPicPr/>
          <p:nvPr/>
        </p:nvPicPr>
        <p:blipFill>
          <a:blip r:embed="rId3"/>
          <a:stretch/>
        </p:blipFill>
        <p:spPr>
          <a:xfrm>
            <a:off x="6948360" y="4915080"/>
            <a:ext cx="1871640" cy="1552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2824200" y="128484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不满十岁的小姑娘是怎么做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986480" y="2571840"/>
            <a:ext cx="5334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不满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岁的小姑娘在她们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间，正在高声歌唱 。她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次又一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浪花中冒出来，用手抹一抹脸上的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水，又唱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1"/>
          <p:cNvSpPr/>
          <p:nvPr/>
        </p:nvSpPr>
        <p:spPr>
          <a:xfrm>
            <a:off x="2857680" y="5357880"/>
            <a:ext cx="4103640" cy="934920"/>
          </a:xfrm>
          <a:prstGeom prst="irregularSeal2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指导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2" descr="xxyw2bp59"/>
          <p:cNvPicPr/>
          <p:nvPr/>
        </p:nvPicPr>
        <p:blipFill>
          <a:blip r:embed="rId5"/>
          <a:srcRect l="2066" t="9464" r="81246" b="86657"/>
          <a:stretch/>
        </p:blipFill>
        <p:spPr>
          <a:xfrm>
            <a:off x="-826920" y="907920"/>
            <a:ext cx="23032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285920" y="43578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突然，远处海面上传来歌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28760" y="2643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突然，远处海面上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隐约约传来断断续续的歌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786200" y="3214800"/>
            <a:ext cx="3889440" cy="144360"/>
            <a:chOff x="4786200" y="3214800"/>
            <a:chExt cx="3889440" cy="144360"/>
          </a:xfrm>
        </p:grpSpPr>
        <p:sp>
          <p:nvSpPr>
            <p:cNvPr id="94" name="AutoShape 10"/>
            <p:cNvSpPr/>
            <p:nvPr/>
          </p:nvSpPr>
          <p:spPr>
            <a:xfrm>
              <a:off x="4786200" y="3214800"/>
              <a:ext cx="144360" cy="1443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1"/>
            <p:cNvSpPr/>
            <p:nvPr/>
          </p:nvSpPr>
          <p:spPr>
            <a:xfrm>
              <a:off x="8531280" y="3214800"/>
              <a:ext cx="144360" cy="1443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2"/>
            <p:cNvSpPr/>
            <p:nvPr/>
          </p:nvSpPr>
          <p:spPr>
            <a:xfrm>
              <a:off x="8099280" y="3214800"/>
              <a:ext cx="144360" cy="1443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3"/>
            <p:cNvSpPr/>
            <p:nvPr/>
          </p:nvSpPr>
          <p:spPr>
            <a:xfrm>
              <a:off x="7665840" y="3214800"/>
              <a:ext cx="144720" cy="1443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4"/>
            <p:cNvSpPr/>
            <p:nvPr/>
          </p:nvSpPr>
          <p:spPr>
            <a:xfrm>
              <a:off x="7307280" y="3214800"/>
              <a:ext cx="144360" cy="1443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5"/>
            <p:cNvSpPr/>
            <p:nvPr/>
          </p:nvSpPr>
          <p:spPr>
            <a:xfrm>
              <a:off x="6010200" y="3214800"/>
              <a:ext cx="144360" cy="1443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6"/>
            <p:cNvSpPr/>
            <p:nvPr/>
          </p:nvSpPr>
          <p:spPr>
            <a:xfrm>
              <a:off x="5578200" y="3214800"/>
              <a:ext cx="144720" cy="1443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7"/>
            <p:cNvSpPr/>
            <p:nvPr/>
          </p:nvSpPr>
          <p:spPr>
            <a:xfrm>
              <a:off x="5146560" y="3214800"/>
              <a:ext cx="144360" cy="1443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9"/>
          <p:cNvSpPr/>
          <p:nvPr/>
        </p:nvSpPr>
        <p:spPr>
          <a:xfrm>
            <a:off x="1214280" y="928800"/>
            <a:ext cx="40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比一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763640" y="2852640"/>
            <a:ext cx="5867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  ）的歌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  ）的歌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   ）的歌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143000" y="1214280"/>
            <a:ext cx="428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填一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042920" y="2349360"/>
            <a:ext cx="3024360" cy="1295280"/>
            <a:chOff x="1042920" y="2349360"/>
            <a:chExt cx="3024360" cy="1295280"/>
          </a:xfrm>
        </p:grpSpPr>
        <p:pic>
          <p:nvPicPr>
            <p:cNvPr id="107" name="Picture 3" descr="zhuangshihuabian1_0454"/>
            <p:cNvPicPr/>
            <p:nvPr/>
          </p:nvPicPr>
          <p:blipFill>
            <a:blip r:embed="rId2"/>
            <a:stretch/>
          </p:blipFill>
          <p:spPr>
            <a:xfrm>
              <a:off x="1042920" y="2349360"/>
              <a:ext cx="30243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4"/>
            <p:cNvSpPr/>
            <p:nvPr/>
          </p:nvSpPr>
          <p:spPr>
            <a:xfrm>
              <a:off x="1474560" y="2636640"/>
              <a:ext cx="2160720" cy="64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5"/>
          <p:cNvSpPr/>
          <p:nvPr/>
        </p:nvSpPr>
        <p:spPr>
          <a:xfrm>
            <a:off x="179280" y="836640"/>
            <a:ext cx="8785440" cy="568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e5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shuishanggongju2_0367"/>
          <p:cNvPicPr/>
          <p:nvPr/>
        </p:nvPicPr>
        <p:blipFill>
          <a:blip r:embed="rId3"/>
          <a:stretch/>
        </p:blipFill>
        <p:spPr>
          <a:xfrm>
            <a:off x="6372360" y="4437000"/>
            <a:ext cx="2447640" cy="2030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9"/>
          <p:cNvSpPr/>
          <p:nvPr/>
        </p:nvSpPr>
        <p:spPr>
          <a:xfrm>
            <a:off x="357120" y="147780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认为小姑娘是一位小英雄吗？联系课文画出有关的句子，在小组交流讨论，再指名说一说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50920" y="3686040"/>
            <a:ext cx="8713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个不满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岁的小姑娘在她们中间，正在高声歌唱 。她一次又一次从浪花中冒出来，用手抹一抹脸上的海水，又唱起来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句子当中可以体会到她是一位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06:38:14Z</dcterms:created>
  <dc:creator/>
  <dc:description/>
  <dc:language>en-US</dc:language>
  <cp:lastModifiedBy/>
  <dcterms:modified xsi:type="dcterms:W3CDTF">2014-03-30T07:35:0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