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265-F1BF-4859-8340-41F5F2AE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DBE-F82D-43CC-90D6-B3E260EA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F96-424E-4310-9D3F-D617C2F3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D22-DDFA-4CB4-84EE-98F6114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160-2239-4B37-944B-B599BA52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CB05-9A35-49A8-B6EF-069BE5E9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F88A-D617-4131-AF45-13CE9314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C490-A2F8-4DCD-A503-A742B3A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B19C-5A34-434D-A09B-3CC7225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B609-38A1-46EC-A188-74206F5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5C24-0E0F-42F2-898A-6F881671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133-A9B3-4455-986C-7982F4E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7857-520F-4958-89F9-2974944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00F6-1A2C-4645-BC2D-53135DB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4933-5005-47E7-9E39-F59D41D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440-8589-4129-9258-9CBDDC1E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DEA3-FAFA-43DF-A72E-B07A1788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13B4-DC5C-433C-A9DD-52BC967E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A6B2-A03C-4E9C-973B-9B6213F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C75C-A422-4533-8B37-28F5884B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CE0E-1ADC-4FEC-84AF-028748F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2FB1-1656-4090-85B5-0900ECA7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F20-77F1-4252-9C36-26D4F52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2C99-0553-4AA6-944F-F3047690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98AE-7082-4F0A-A399-C6BD78D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BD55-B3CF-48E4-AC65-EC94A9E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14AE-1DC7-41C7-9874-67177DA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81F1-DA3D-479E-8B91-9EC11DB4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78C2-421C-424E-809D-A19B9695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79B1-C740-4FDA-9673-5BE0E15B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8CBF-39A2-4924-9012-7DFCE5B2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6233-00FC-43A2-8756-74AAB11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9514-A78D-46E6-B836-CD2F96B9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5B2-79AF-45F5-AABC-139490F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8433-C687-4C14-BA2E-7553EA3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B32E-E0C9-404E-93B2-A140775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465C-9018-4172-8C60-9AAFBEF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A85E-3A63-4BFA-9D31-93A09947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F4C7-ECE7-4F47-9AE2-C95DD21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E8C2-8B0D-4B6D-BEEA-987D3709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E2DD-AA4C-4ED9-93D7-E8225EFA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5B19-C8F2-4EA9-9842-E5257771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9C4F-D592-4FE4-806C-62589D18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EB4D-299E-44BC-98AF-95685B2D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371-BEB2-47DF-A790-CC182F6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77F7-F81D-4664-8B33-453467D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8BD9-52E0-4374-A320-40D4C40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30AA-9962-40C0-9295-E23F732A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2373-905A-4E05-B2D2-46B78B07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3497-F4F7-4C63-945B-6D502E4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E32A-D934-4872-BC20-F0A47D5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F649-EDF8-4B3A-B6F1-F084CB9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8A376-4F75-408C-88B8-8A751E7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937E-5616-4E6F-9608-AC2C928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D5663-14C1-4764-AE17-A8AAEB9C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5A3-F534-459F-BFD9-E89065E8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0FE9B-53D9-453E-B9F6-88634352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EE61-A721-4845-872F-8372AA4D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94BF-69C7-417E-959C-6469F164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6C88-8BF7-41D0-9864-4F8F6AF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2246-3809-4AFB-9726-B336116D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7DA9-38D9-42E9-A32C-BB6607C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351A-BAD0-4927-AB30-3425A06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3765D-47D9-41B9-AC1B-49E4012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9106-593A-493B-8484-161ABF1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A156-C0BB-4A41-A993-26984C4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5C7-12E5-47A3-B732-ABC99F5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0C86-FBF5-40A5-86D9-6CD11B5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BB83-CC6B-4AFE-BA4F-5F608A7A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1032-81B6-476C-8729-6BE76302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7225-4566-4175-ADE7-5D1BDC34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FA81-0197-4A8A-B7AE-30720A3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1496-3EBF-4675-9BF3-715FCA9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858F-33B6-4011-9DF0-08FDF254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9DA4-BB50-458C-8138-29DE363E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7D43-2D83-4290-A486-123059B5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6D6D4-4C52-473A-923A-480BFD7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8FA-80C3-427A-95DD-E16CAC9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717C-192D-4CBB-9792-434C138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743C-43DF-4C9E-AF05-A2AD488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09385-9AEB-4867-BF8B-0A971135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98EB-BD98-4D5B-82A5-1D56607D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E383-5A50-4775-AB10-A00813C0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7C2-777E-4B20-99F4-BDCDC4D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4320" y="-814320"/>
            <a:ext cx="1636560" cy="16365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A8EE-3D6A-4FEA-B873-E999F146EA5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7" descr="logo"/>
          <p:cNvPicPr/>
          <p:nvPr/>
        </p:nvPicPr>
        <p:blipFill>
          <a:blip r:embed="rId4"/>
          <a:stretch/>
        </p:blipFill>
        <p:spPr>
          <a:xfrm>
            <a:off x="0" y="6076800"/>
            <a:ext cx="16192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饼形 6"/>
          <p:cNvSpPr/>
          <p:nvPr/>
        </p:nvSpPr>
        <p:spPr>
          <a:xfrm>
            <a:off x="-814320" y="-814320"/>
            <a:ext cx="1636560" cy="16365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logo"/>
          <p:cNvPicPr/>
          <p:nvPr/>
        </p:nvPicPr>
        <p:blipFill>
          <a:blip r:embed="rId4"/>
          <a:stretch/>
        </p:blipFill>
        <p:spPr>
          <a:xfrm>
            <a:off x="0" y="6076800"/>
            <a:ext cx="1619280" cy="7812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58" name="椭圆 13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椭圆 15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D185-8D62-4B1F-A85E-398262F6010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5" name="椭圆 16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20320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椭圆 17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7187-2565-427F-8EA7-8A75252C124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BF7-7C4A-4061-95F1-25FB5CE8719A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8C27-2089-4BF9-B12D-8D5DAD82042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8C4F-2E1C-4E17-B968-0B8AF5F607F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646200" y="969840"/>
            <a:ext cx="4803840" cy="4802040"/>
            <a:chOff x="646200" y="969840"/>
            <a:chExt cx="4803840" cy="4802040"/>
          </a:xfrm>
        </p:grpSpPr>
        <p:pic>
          <p:nvPicPr>
            <p:cNvPr id="275" name="矩形 13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流程图: 过程 15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过程 16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1EA-1246-4533-930E-8394A7DD09C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未命名"/>
          <p:cNvPicPr/>
          <p:nvPr/>
        </p:nvPicPr>
        <p:blipFill>
          <a:blip r:embed="rId2"/>
          <a:srcRect l="11069" t="12147" r="14373" b="48333"/>
          <a:stretch/>
        </p:blipFill>
        <p:spPr>
          <a:xfrm>
            <a:off x="928800" y="3143160"/>
            <a:ext cx="7557840" cy="3144960"/>
          </a:xfrm>
          <a:prstGeom prst="rect">
            <a:avLst/>
          </a:prstGeom>
          <a:ln w="0">
            <a:noFill/>
          </a:ln>
        </p:spPr>
      </p:pic>
      <p:sp>
        <p:nvSpPr>
          <p:cNvPr id="321" name="WordArt 5"/>
          <p:cNvSpPr txBox="1"/>
          <p:nvPr/>
        </p:nvSpPr>
        <p:spPr>
          <a:xfrm>
            <a:off x="2286000" y="1143000"/>
            <a:ext cx="446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江凡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68280" y="12240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714680" y="1643040"/>
            <a:ext cx="646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努力使自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镇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来，急忙拿来一件衣服，让奶奶包住口鼻，扶着奶奶弯腰往外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028000" y="5877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24000" y="32130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539640" y="1341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8028000" y="5877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714680" y="16430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江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思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一下，就趴在地上，沿着墙角一点一点的摸索，终于摸到了木板。好，这就是楼门！他一把推开了大门，一股清新的空气扑了进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1500120" y="2071800"/>
            <a:ext cx="68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爸爸一直教我遇事要冷静，学校里也多次演习火灾自救，别的同学遇到这种情况，也会这样做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692360" y="836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332000" y="1917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江凡为什么能够把奶奶和邻居从火中救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419640" y="981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议一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1143000" y="3643200"/>
            <a:ext cx="7488360" cy="2808360"/>
          </a:xfrm>
          <a:prstGeom prst="cloudCallout">
            <a:avLst>
              <a:gd name="adj1" fmla="val -24444"/>
              <a:gd name="adj2" fmla="val 30083"/>
            </a:avLst>
          </a:prstGeom>
          <a:solidFill>
            <a:srgbClr val="ff99cc"/>
          </a:solidFill>
          <a:ln w="0">
            <a:noFill/>
          </a:ln>
          <a:effectLst>
            <a:outerShdw dist="107932" dir="27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785960" y="40719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因为他镇静、勇敢、聪明，还有爸爸平时的教育和学校也多次演练过火灾自救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729800" y="1125360"/>
            <a:ext cx="578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挤来挤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碰倒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的杂物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撞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停放的自行车，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找不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去的大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660040" y="508464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你用“惊慌”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5034600" y="3689280"/>
            <a:ext cx="6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震了，人们非常（惊慌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与妈妈走失了，我（惊慌）极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982960" y="2163600"/>
            <a:ext cx="39542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再 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1857240" y="207000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迅速    火焰     镇定    烟雾腾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呛得    惊慌     终于    拥挤    撞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况    逃生     蔓延    咳嗽    混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摸索    谦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540320" y="928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6"/>
          <p:cNvSpPr/>
          <p:nvPr/>
        </p:nvSpPr>
        <p:spPr>
          <a:xfrm>
            <a:off x="826920" y="620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火焰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迅速蔓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很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烧到了楼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684360" y="2494080"/>
            <a:ext cx="76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楼道里烟雾腾腾，呛得人无法呼吸，熏得人睁不开眼睛，什么也看不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826920" y="620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火焰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迅速蔓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很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烧到了楼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684360" y="2494080"/>
            <a:ext cx="76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楼道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烟雾腾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呛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人无法呼吸，熏得人睁不开眼睛，什么也看不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900000" y="836640"/>
            <a:ext cx="41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8720" y="1990800"/>
            <a:ext cx="540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84360" y="620640"/>
            <a:ext cx="73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357200" y="57168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呛得人无法呼吸”是因为（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熏得人睁不开眼睛”是因为（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也看不清”是因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2143080" y="1214280"/>
            <a:ext cx="23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烟雾腾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2764440" y="36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烟雾腾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693160" y="242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烟雾腾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10"/>
          <p:cNvSpPr txBox="1"/>
          <p:nvPr/>
        </p:nvSpPr>
        <p:spPr>
          <a:xfrm>
            <a:off x="3214800" y="3571920"/>
            <a:ext cx="4176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1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多浓的烟啊！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2"/>
          <a:srcRect l="0" t="0" r="1580" b="6161"/>
          <a:stretch/>
        </p:blipFill>
        <p:spPr>
          <a:xfrm>
            <a:off x="0" y="335916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rcRect l="0" t="0" r="0" b="6161"/>
          <a:stretch/>
        </p:blipFill>
        <p:spPr>
          <a:xfrm>
            <a:off x="4716360" y="33591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4"/>
          <a:srcRect l="0" t="0" r="567" b="6528"/>
          <a:stretch/>
        </p:blipFill>
        <p:spPr>
          <a:xfrm>
            <a:off x="4716360" y="0"/>
            <a:ext cx="4427640" cy="3071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5"/>
          <a:srcRect l="0" t="0" r="34" b="6482"/>
          <a:stretch/>
        </p:blipFill>
        <p:spPr>
          <a:xfrm>
            <a:off x="0" y="-19080"/>
            <a:ext cx="46432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539640" y="12700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888200" y="2214720"/>
            <a:ext cx="549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人们挤来挤去，碰倒了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放的杂物，撞上了停放的自行车，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找不到出去的大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4143240" y="2857680"/>
            <a:ext cx="20163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6715080" y="2857680"/>
            <a:ext cx="1006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3143160" y="3500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500040" y="414324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684360" y="3860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从睡梦中惊醒，一时间，喊声、哭声、咳嗽声和火苗的呼呼声混成一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854720" y="1270080"/>
            <a:ext cx="549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人们挤来挤去，碰倒了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放的杂物，撞上了停放的自行车，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找不到出去的大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4068720" y="1917720"/>
            <a:ext cx="1944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6516720" y="1917720"/>
            <a:ext cx="1006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539640" y="328608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684360" y="3860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从睡梦中惊醒，一时间，喊声、哭声、咳嗽声和火苗的呼呼声混成一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854720" y="1270080"/>
            <a:ext cx="549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人们挤来挤去，碰倒了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放的杂物，撞上了停放的自行车，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找不到出去的大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4068720" y="1917720"/>
            <a:ext cx="1944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6516720" y="1917720"/>
            <a:ext cx="1006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39640" y="328608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9:37:54Z</dcterms:created>
  <dc:creator>Administrator</dc:creator>
  <dc:description/>
  <dc:language>en-US</dc:language>
  <cp:lastModifiedBy>qunchen</cp:lastModifiedBy>
  <cp:lastPrinted>1899-12-30T00:00:00Z</cp:lastPrinted>
  <dcterms:modified xsi:type="dcterms:W3CDTF">2014-03-30T07:58:1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