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A4-CDAD-4D95-9571-54E1A1B7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62D-F9D0-4E78-B8A3-C8E60944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731-D32C-48EE-A977-15382C07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00B-C791-4545-A63F-44C564FE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4574-27F6-4BF7-8EB6-CF6C12EC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CF6-DD91-4E6B-BCC7-A78381F6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71B-CBCB-4D83-A72A-F045CE9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CCB-DF4B-48D9-BC43-1B15F56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440-49D3-4450-BB5A-29731B97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CBF-86FD-4DFC-AB75-EE8AA22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062-EF99-4D7E-BBB0-823780E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899-A825-4F43-A287-4FD0E2B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7BE-C34A-4178-870A-A54A6BECB6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28840" y="1857240"/>
            <a:ext cx="62863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一件好事</a:t>
            </a:r>
            <a:endParaRPr b="1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099200" cy="34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娃娃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青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蛙     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未命名"/>
          <p:cNvPicPr/>
          <p:nvPr/>
        </p:nvPicPr>
        <p:blipFill>
          <a:blip r:embed="rId2"/>
          <a:stretch/>
        </p:blipFill>
        <p:spPr>
          <a:xfrm>
            <a:off x="4500720" y="2133720"/>
            <a:ext cx="1873080" cy="151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190120" y="249228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我的裤子和克拉拉的上衣放了进去。然后我们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还有贫穷的父母呢。于是我们又去找来爸爸的一件毛衣和妈妈的一件绿外套。克拉拉还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衣服的穷人一定还需要鞋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是塑料袋里又多了四双鞋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的裤子和克拉拉的上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了进去。然后我们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还有贫穷的父母呢。于是我们又去找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爸爸的一件毛衣和妈妈的一件绿外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克拉拉还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衣服的穷人一定还需要鞋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是塑料袋里又多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双鞋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47280" y="2276280"/>
            <a:ext cx="6667560" cy="34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首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981000"/>
            <a:ext cx="74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裤子和克拉拉的上衣     爸爸的一件毛衣和妈妈的一件绿外套       四双鞋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06207815588"/>
          <p:cNvPicPr/>
          <p:nvPr/>
        </p:nvPicPr>
        <p:blipFill>
          <a:blip r:embed="rId2"/>
          <a:stretch/>
        </p:blipFill>
        <p:spPr>
          <a:xfrm>
            <a:off x="2786040" y="1571760"/>
            <a:ext cx="3500640" cy="466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4247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费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把口袋拎到楼下。大门前已经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许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袋子了，不过我们的口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63280" y="2276640"/>
            <a:ext cx="62643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别人快乐，我们也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285560"/>
            <a:ext cx="9144000" cy="37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黑鞋子在哪里？你们怎么会把我的新鞋子送掉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穷人就该老是穿旧的东西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呀，那样，他们看上去就更穷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真想哭，也真想笑。”他摇了摇头，看着妈妈笑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68360" y="3284640"/>
            <a:ext cx="6264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真想哭，也真想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71320" y="2928600"/>
            <a:ext cx="7964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，就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0040" y="135720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我的姐姐克拉拉对我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已经长大了，我们今天应该做一件好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做什么好事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送些衣服给穷人，你拿出一条裤子，我拿出一件上衣，这就是做好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姐姐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21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把喜欢的连环画捐给了灾区的小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为声音沙哑的老师送上一杯清凉的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我终于学会了炒鸡蛋、骑单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928600" y="213840"/>
            <a:ext cx="4032360" cy="635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我们，长大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该做件好事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好事，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简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塑料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鞋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面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喘吁吁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十字会来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送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贫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家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家老小齐分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快乐我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赠人玫瑰手余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9" descr="2_1233377378_2446497"/>
          <p:cNvPicPr/>
          <p:nvPr/>
        </p:nvPicPr>
        <p:blipFill>
          <a:blip r:embed="rId2"/>
          <a:stretch/>
        </p:blipFill>
        <p:spPr>
          <a:xfrm>
            <a:off x="324000" y="404640"/>
            <a:ext cx="85089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290482175965630043"/>
          <p:cNvPicPr/>
          <p:nvPr/>
        </p:nvPicPr>
        <p:blipFill>
          <a:blip r:embed="rId2"/>
          <a:stretch/>
        </p:blipFill>
        <p:spPr>
          <a:xfrm>
            <a:off x="4788000" y="189000"/>
            <a:ext cx="4064040" cy="609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290482175965630082"/>
          <p:cNvPicPr/>
          <p:nvPr/>
        </p:nvPicPr>
        <p:blipFill>
          <a:blip r:embed="rId3"/>
          <a:stretch/>
        </p:blipFill>
        <p:spPr>
          <a:xfrm>
            <a:off x="287280" y="216000"/>
            <a:ext cx="406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5400000">
            <a:off x="3318120" y="2569320"/>
            <a:ext cx="2619360" cy="170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1" lang="en-US" sz="3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4200" y="1714320"/>
            <a:ext cx="8358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可我连一个穷人都不认识，你认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我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很简单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拉拉说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只要把你的裤子和我的上衣装进塑料袋，放在房子门前，就会有红十字会的人员来取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来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塑料袋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我的裤子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拉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上衣放了进去。然后我们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到我们衣服的孩子一定很快乐，可是，他们还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贫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父母呢。于是我们又去找来爸爸的一件毛衣和妈妈的一件绿外套。克拉拉还说，得到衣服的穷人一定还需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鞋子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塑料袋里又多了四双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26920" y="1988640"/>
            <a:ext cx="784872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ēn                  līn           chuǎn 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深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叹气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   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喘吁 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82840" y="3714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十字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2920" y="333000"/>
            <a:ext cx="172908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拎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40205236_538209810"/>
          <p:cNvPicPr/>
          <p:nvPr/>
        </p:nvPicPr>
        <p:blipFill>
          <a:blip r:embed="rId2"/>
          <a:stretch/>
        </p:blipFill>
        <p:spPr>
          <a:xfrm>
            <a:off x="4643280" y="1413000"/>
            <a:ext cx="407700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200785125441432_2_副本"/>
          <p:cNvPicPr/>
          <p:nvPr/>
        </p:nvPicPr>
        <p:blipFill>
          <a:blip r:embed="rId3"/>
          <a:stretch/>
        </p:blipFill>
        <p:spPr>
          <a:xfrm>
            <a:off x="611280" y="692280"/>
            <a:ext cx="345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7013101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2008518155527808"/>
          <p:cNvPicPr/>
          <p:nvPr/>
        </p:nvPicPr>
        <p:blipFill>
          <a:blip r:embed="rId3"/>
          <a:stretch/>
        </p:blipFill>
        <p:spPr>
          <a:xfrm>
            <a:off x="1857240" y="337500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271425349_c8gD3p"/>
          <p:cNvPicPr/>
          <p:nvPr/>
        </p:nvPicPr>
        <p:blipFill>
          <a:blip r:embed="rId4"/>
          <a:srcRect l="0" t="0" r="3127" b="10082"/>
          <a:stretch/>
        </p:blipFill>
        <p:spPr>
          <a:xfrm>
            <a:off x="0" y="0"/>
            <a:ext cx="4429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300000185581123359733054583"/>
          <p:cNvPicPr/>
          <p:nvPr/>
        </p:nvPicPr>
        <p:blipFill>
          <a:blip r:embed="rId2"/>
          <a:srcRect l="0" t="0" r="191" b="3822"/>
          <a:stretch/>
        </p:blipFill>
        <p:spPr>
          <a:xfrm>
            <a:off x="1428840" y="1571760"/>
            <a:ext cx="416880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690880" y="1643040"/>
            <a:ext cx="1521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十字会标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未命名"/>
          <p:cNvPicPr/>
          <p:nvPr/>
        </p:nvPicPr>
        <p:blipFill>
          <a:blip r:embed="rId2"/>
          <a:stretch/>
        </p:blipFill>
        <p:spPr>
          <a:xfrm>
            <a:off x="5076720" y="2924280"/>
            <a:ext cx="1873440" cy="151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未命名"/>
          <p:cNvPicPr/>
          <p:nvPr/>
        </p:nvPicPr>
        <p:blipFill>
          <a:blip r:embed="rId3"/>
          <a:stretch/>
        </p:blipFill>
        <p:spPr>
          <a:xfrm>
            <a:off x="2916360" y="2997360"/>
            <a:ext cx="1714320" cy="151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未命名"/>
          <p:cNvPicPr/>
          <p:nvPr/>
        </p:nvPicPr>
        <p:blipFill>
          <a:blip r:embed="rId4"/>
          <a:stretch/>
        </p:blipFill>
        <p:spPr>
          <a:xfrm>
            <a:off x="826920" y="299736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未命名"/>
          <p:cNvPicPr/>
          <p:nvPr/>
        </p:nvPicPr>
        <p:blipFill>
          <a:blip r:embed="rId5"/>
          <a:stretch/>
        </p:blipFill>
        <p:spPr>
          <a:xfrm>
            <a:off x="7236000" y="981000"/>
            <a:ext cx="171576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未命名"/>
          <p:cNvPicPr/>
          <p:nvPr/>
        </p:nvPicPr>
        <p:blipFill>
          <a:blip r:embed="rId6"/>
          <a:stretch/>
        </p:blipFill>
        <p:spPr>
          <a:xfrm>
            <a:off x="5076720" y="981000"/>
            <a:ext cx="1873440" cy="151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未命名"/>
          <p:cNvPicPr/>
          <p:nvPr/>
        </p:nvPicPr>
        <p:blipFill>
          <a:blip r:embed="rId7"/>
          <a:stretch/>
        </p:blipFill>
        <p:spPr>
          <a:xfrm>
            <a:off x="2916360" y="1052640"/>
            <a:ext cx="180000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未命名"/>
          <p:cNvPicPr/>
          <p:nvPr/>
        </p:nvPicPr>
        <p:blipFill>
          <a:blip r:embed="rId8"/>
          <a:stretch/>
        </p:blipFill>
        <p:spPr>
          <a:xfrm>
            <a:off x="826920" y="1052640"/>
            <a:ext cx="180036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8"/>
          <p:cNvSpPr/>
          <p:nvPr/>
        </p:nvSpPr>
        <p:spPr>
          <a:xfrm>
            <a:off x="1258920" y="1197000"/>
            <a:ext cx="865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573720" y="119700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5580000" y="1197000"/>
            <a:ext cx="936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拎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7596360" y="1125360"/>
            <a:ext cx="94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塑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258920" y="3213000"/>
            <a:ext cx="934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430800" y="314172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深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662800" y="314172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2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3:58:14Z</dcterms:created>
  <dc:creator/>
  <dc:description/>
  <dc:language>en-US</dc:language>
  <cp:lastModifiedBy/>
  <dcterms:modified xsi:type="dcterms:W3CDTF">2014-03-30T08:27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