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FEE-2D30-4A21-BC97-A72FB0F3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0A8-A701-49C9-8416-7B4A154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F98-76AA-43CE-AF88-78D0274C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30D-B132-433E-82C3-C38544BC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166B-D91E-4C3D-9982-D91AD8C8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3B0F-2E13-40D9-B022-3ED93ED3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73F5-D6DF-481C-96BB-82E16DA6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D184-9D15-4210-B59D-7223FFCC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A08-11B2-4307-B0AB-5F0CDECA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8969-1A5A-496A-9A8E-B0680C2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9D00-076C-4FFB-A932-5B3E8CCE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31C-8C4D-4F4C-A819-C9E05A44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89D6-4CC4-48C2-8B81-4110A47D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303E-3984-4173-A60B-19BC451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EE8F-C773-4D48-B525-390261B8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A70-C5B9-4EBC-A54D-41038DC9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3323-7E2D-4875-98D9-94D20E6E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90E-9838-4CC8-B7D8-8342068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78C-435C-45FE-93F0-E7A7B8DE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869-22AC-4DE7-BF8B-3B56199E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EF8-FAC4-474B-A378-1DF7412D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CBD-578C-4637-AB46-E18AF868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013-DB62-4BB2-9975-9274A82F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89C-6104-4EF0-A0BD-D74B1A7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C94C-98AC-46D0-8556-D9EB41F1DB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7E72-58B7-4A34-A496-F5C7D191C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1800" y="11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女娲补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女娲补天3.jpg"/>
          <p:cNvPicPr/>
          <p:nvPr/>
        </p:nvPicPr>
        <p:blipFill>
          <a:blip r:embed="rId2"/>
          <a:stretch/>
        </p:blipFill>
        <p:spPr>
          <a:xfrm>
            <a:off x="396720" y="1573200"/>
            <a:ext cx="83520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57280"/>
            <a:ext cx="8435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娲在大江大河里挑选了许多五色石子，支起一口大锅，架起一堆火，把这些石子熔成胶糊状的液体。她把这些沸腾的液体填补在天空的缺口上。不知少了多少天火，炼了多少石子，虽然累得腰酸背痛，但她从不停歇。终于，天补好了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241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娲在大江大河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挑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许多五色石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支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口大锅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架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堆火，把这些石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熔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胶糊状的液体。她把这些沸腾的液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填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天空的缺口上。不知少了多少天火，炼了多少石子，虽然累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腰酸背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但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不停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终于，天补好了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娲还担心天补得不结实，又杀了一只巨大的乌龟，用它的脚代替天柱，竖立在大地的四方。这样，人类头顶上的天空像帐篷似的张开来，再也不会塌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71680" y="500040"/>
            <a:ext cx="79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女娲见到别人受苦心里就难过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这是一种怎样的感情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85880" y="221292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个人总能为别人着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总想着帮助别人克服困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急他人所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想他人所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救民于水火的一种献身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077840" y="1500120"/>
            <a:ext cx="806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抄写课文中生动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再找一些神话故事读一读，让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读中认识更多神奇的人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71680" y="64296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5920" y="235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"/>
              </a:rPr>
              <a:t>再  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0"/>
          <p:cNvSpPr/>
          <p:nvPr/>
        </p:nvSpPr>
        <p:spPr>
          <a:xfrm>
            <a:off x="1285920" y="1928880"/>
            <a:ext cx="642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补   末    遭   修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破    缺    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1"/>
          <p:cNvSpPr/>
          <p:nvPr/>
        </p:nvSpPr>
        <p:spPr>
          <a:xfrm>
            <a:off x="1214280" y="10717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ǔ        mò        zāo        xī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1500120" y="3429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ǔ         quē           t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1357200" y="1714680"/>
            <a:ext cx="7286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女娲    失败    大祸    苦难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誓    大锅     熔       状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液体    填补     炼       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44720" y="476280"/>
            <a:ext cx="75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部分：第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1-2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28720" y="1486080"/>
            <a:ext cx="76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天塌地陷，人类遭到灭顶之灾。不补天就无法救万物于水深火热之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 flipV="1">
            <a:off x="4284720" y="3933000"/>
            <a:ext cx="3816360" cy="2087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女娲补天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客观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传在遥远的古代，水神共工与火神祝融打仗。共工失败了，他恼羞成怒，一气之下，撞倒了不周山。这下可闯了大祸，不周山是支撑天的柱子，柱子一倒，天塌地陷，日月星辰都向西移去，大地裂开了，山林大火昼夜燃烧，洪水从地下喷涌而出，地上一片汪洋。各种猛兽都出来残害人类。世界仿佛到了末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二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娲是人类的母亲，看见自己的儿女遭受这样的苦难，她心痛极了，发誓要修补好残破的天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 flipV="1">
            <a:off x="3997440" y="3718080"/>
            <a:ext cx="3816360" cy="2303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女娲补天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主观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00000" y="476280"/>
            <a:ext cx="76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再写“女娲是人类的母亲，看见自己的儿女遭受这样的苦难，她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心痛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极了，她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发誓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要修补好残破的天空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937520" y="642960"/>
            <a:ext cx="32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女娲为什么要补天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14200" y="1928880"/>
            <a:ext cx="860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女娲看到天塌下来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许多人在水深火热之中受苦受难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心里难过极了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所以她决心要补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44720" y="476280"/>
            <a:ext cx="75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部分：第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3-4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16000" y="148608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女娲历尽艰难险阻，终于修补好了残破的天空，拯救了人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2:03:52Z</dcterms:created>
  <dc:creator/>
  <dc:description/>
  <dc:language>en-US</dc:language>
  <cp:lastModifiedBy/>
  <dcterms:modified xsi:type="dcterms:W3CDTF">2014-03-30T09:19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