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7F9-AD06-497B-9443-480E5AB0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AA6-9C11-45C8-ACEB-E39A0453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AB1-2555-4AF6-8EE2-68130946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E04F-55FB-458B-BD1F-57A2349B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7537-62E2-4A45-977C-BA68EB23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F2DF-4276-47A4-9B76-9B7AACC4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1A71-2904-47DF-9857-267B98A1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B4F2-9B6D-4E1B-8A51-56DA5DBE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D0C3-3A23-4D3B-AC66-D7182333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0779-7F18-414E-91B7-F906F700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5585-4A1F-4999-A5BC-A87C1CB7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A45-5A1A-43BF-A12A-68AC62A8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8375-1D4F-49D3-B4BD-E513B8A7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386F-03DA-4F51-92BB-0D620353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449F-8DF3-4956-9074-67013480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FF0E-274B-4A91-B35C-20B8119B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7EFB-FB78-4B9D-A266-0861D7D8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C47-C1DD-4392-B09F-B53873D0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B33-2912-4BFA-97D7-DF9C36D1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CD9-6D9C-4668-9960-F8FB3D42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DAF-685C-4B15-A93D-C9A6776E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DCC-99EF-472B-84AD-ED7C1F85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EB6-A6C3-4BAB-BCE0-9099C3C7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B9D-4F6C-4B31-A898-52C3D9B8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A890-8885-4F6D-9794-16BA6C13B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A506-3446-4623-91D7-DC4C9137D2CF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为中华之崛起而读书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3" name="Picture 10" descr="371391_121800014_2"/>
          <p:cNvPicPr/>
          <p:nvPr/>
        </p:nvPicPr>
        <p:blipFill>
          <a:blip r:embed="rId2"/>
          <a:srcRect l="0" t="0" r="5997" b="3710"/>
          <a:stretch/>
        </p:blipFill>
        <p:spPr>
          <a:xfrm>
            <a:off x="2286000" y="2057400"/>
            <a:ext cx="1716120" cy="40384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7" descr="周恩来3.jpg"/>
          <p:cNvPicPr/>
          <p:nvPr/>
        </p:nvPicPr>
        <p:blipFill>
          <a:blip r:embed="rId3"/>
          <a:stretch/>
        </p:blipFill>
        <p:spPr>
          <a:xfrm>
            <a:off x="4495680" y="2209680"/>
            <a:ext cx="2667240" cy="36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839880" y="1816200"/>
            <a:ext cx="85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起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模 范   纷纷   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                                 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钦 佩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期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待   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环顾   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所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浑身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振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中华之崛起而读书！</a:t>
            </a:r>
            <a:br>
              <a:rPr sz="36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　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崛起”是兴起的意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上文写其他同学的读书目的是为家父、为光耀门楣，都是为了满足自己生活的需要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周恩来的“为中华之崛起而读书”，则是把个人的学习与民族振兴的大业联系起来，他不愿意自己的民族再这样软弱，不愿意自己的同胞再受到这样的欺凌，要为祖国的兴盛和民族的振兴而学习、奋斗。与其他同学的志向对比着理解，我们可以看出，周恩来在少年时代就已经立下大志，显示出与众不同的远大志向。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228600" y="1447920"/>
            <a:ext cx="85406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故今日之责任，不在他人，而全在我少年。少年智则国智，少年富则国富，少年强则国强，少年独立则国独立，少年自由则国自由，少年进步则国进步，少年胜于欧洲，则国胜于欧洲，少年雄于地球，则国雄于地球。红日初升，其道大光；河出伏流，一泻汪洋；潜龙腾渊，鳞爪飞扬；乳虎啸谷，百兽震惶；鹰隼试翼，风尘翕张；奇花初胎，矞矞皇皇；干将发硎，有作其芒；天戴其苍，地履其黄；纵有千古，横有八荒，前途似海，来日方长。美哉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我少年中国，与天不老；壮哉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我中国少年，与国无疆！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少年中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少年中国说是清朝末年梁启超所作的散文，写于戊戌变法失败后的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90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年，文中极力歌颂少年的朝气蓬勃，指出封建统治下的中国是“老大帝国”，热切希望出现“少年中国”，振奋人民的精神。文章不拘格式，多用比喻，具有强烈的鼓动性。酣畅淋漓，多用比喻、对比，具有强烈的进取精神，寄托了作者对少年中国的热爱和期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课外拓展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3520" y="2286000"/>
            <a:ext cx="830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历史上涌现了许多为祖国作出贡献的人，他们在青春年少时就立下了远大的志向。除了周恩来你还知道哪些人是这样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9400" y="2819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3399"/>
                </a:solidFill>
                <a:latin typeface="Arial"/>
              </a:rPr>
              <a:t>再  见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周恩来生平简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周恩来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1898—1976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字翔宇，原籍浙江绍兴，生于江苏淮安。伟大的无产阶级革命家，党和国家的卓越领导人，中国人民解放军和中华人民共和国的缔造者之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中华人民共和国成立后，一直担任政府总理，兼外交部长，同时还担任党和国家许多重要职务。周恩来同志为中国人民革命和建设事业鞠躬尽瘁，无私地贡献出毕生的精力。他的崇高品质和为党、为国家、为人民建立的丰功伟绩永远留在人民心中，他受到中国人民和世界人民的衷心爱戴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周恩来同志因患癌症，医治无效，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97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日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7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分在北京医院逝世，终年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78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岁。周恩来逝世后成立了以毛泽东为首的治丧委员会。根据总理生前的遗愿，他的骨灰撒在祖国的江河大地上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写作背景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周恩来在沈阳读书的时候，只是个十二三岁的少年。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有一天，东关模范高等学堂的魏校长把同学们召集起来，问大家：“读书为了什么？” 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有的同学说：“为了家父。” 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有的同学说：“为了光耀门楣。” 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魏校长问周恩来：“你呢，为什么读书？” 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周恩来站起来，大声地说：“为中华之崛起而读书。”  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老师和同学们都敬佩地望着他。 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周恩来在小学三年，学习成绩始终名列前茅，他的作文曾经被选送到省里，作为小学生的模范作文印行，这篇题目为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东关模范学校第二周年感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文章，后来还收入上海进步书局出版的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学校国文成绩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和上海大东书局出版的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中学国文成绩精集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这两本书里。这篇九百多字的文章写得非常精采，其中对于老师、同学充满着热情的希望，希望师生一道以担负“国家将来艰巨之责任”。这对一个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岁的孩子来说是非常难能可贵的。 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为中华崛起而读书，是周恩来毕生的目标，唯是如此，周恩来才受到万民的景仰，几成为一个完美的化身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主要内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38894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中华之崛起而读书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这篇课文写的是周恩来少年时代立志要为振兴中华而读书的故事，表现了周恩来的博大胸襟和远大志向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760" y="1905120"/>
            <a:ext cx="41925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Picture 5" descr="u=1687927370,2021067614&amp;fm=3&amp;gp=0"/>
          <p:cNvPicPr/>
          <p:nvPr/>
        </p:nvPicPr>
        <p:blipFill>
          <a:blip r:embed="rId2"/>
          <a:stretch/>
        </p:blipFill>
        <p:spPr>
          <a:xfrm>
            <a:off x="4572000" y="1905120"/>
            <a:ext cx="373392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0920" y="2060640"/>
            <a:ext cx="8227800" cy="41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起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模 范   纷纷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投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                    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钦 佩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待   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环顾   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所思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一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振   其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85800" y="1676520"/>
            <a:ext cx="11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ju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905120" y="16765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mó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590920" y="1676520"/>
            <a:ext cx="1008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宋体"/>
              </a:rPr>
              <a:t>f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7a77"/>
                </a:solidFill>
                <a:latin typeface="宋体"/>
              </a:rPr>
              <a:t>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657600" y="1676520"/>
            <a:ext cx="865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fē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105520" y="1676520"/>
            <a:ext cx="1079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yāo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585120" y="1676520"/>
            <a:ext cx="1079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tóu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685800" y="289548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qī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295280" y="28954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pèi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 flipH="1">
            <a:off x="561240" y="2924280"/>
            <a:ext cx="242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 flipV="1">
            <a:off x="2340000" y="2707560"/>
            <a:ext cx="100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 flipH="1">
            <a:off x="2666160" y="2895480"/>
            <a:ext cx="107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dài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419640" y="5157720"/>
            <a:ext cx="107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3809880" y="2895480"/>
            <a:ext cx="6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jú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5029200" y="2895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huá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5715000" y="2895480"/>
            <a:ext cx="14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ù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6698880" y="28954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zhèng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685800" y="40384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ruò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3124080" y="403848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yào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3809880" y="403848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méi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6248520" y="411480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zhè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80880" y="609480"/>
            <a:ext cx="779616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6"/>
          <p:cNvSpPr/>
          <p:nvPr/>
        </p:nvSpPr>
        <p:spPr>
          <a:xfrm>
            <a:off x="914400" y="2666880"/>
            <a:ext cx="8062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       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y</a:t>
            </a: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āo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（要求）（要挟）（要功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      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yào  (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重要）（紧要）（主要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左大括号 5"/>
          <p:cNvSpPr/>
          <p:nvPr/>
        </p:nvSpPr>
        <p:spPr>
          <a:xfrm>
            <a:off x="1981080" y="304812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992160" y="1600200"/>
            <a:ext cx="85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40c"/>
                </a:solidFill>
                <a:latin typeface="Arial"/>
              </a:rPr>
              <a:t>崛    模    范    纷    要     投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40c"/>
                </a:solidFill>
                <a:latin typeface="Arial"/>
              </a:rPr>
              <a:t>                                          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40c"/>
                </a:solidFill>
                <a:latin typeface="Arial"/>
              </a:rPr>
              <a:t>钦   佩     待    举    环     顾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40c"/>
                </a:solidFill>
                <a:latin typeface="Arial"/>
              </a:rPr>
              <a:t>郑   若    耀    楣     振</a:t>
            </a:r>
            <a:r>
              <a:rPr b="0" lang="zh-CN" sz="4000" spc="-1" strike="noStrike">
                <a:solidFill>
                  <a:srgbClr val="00040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08:45:29Z</dcterms:created>
  <dc:creator/>
  <dc:description/>
  <dc:language>en-US</dc:language>
  <cp:lastModifiedBy/>
  <dcterms:modified xsi:type="dcterms:W3CDTF">2014-03-30T08:58:2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