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3472-0A27-45D7-8C8D-2BF9F5C5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3E94-D252-418C-AF14-EF33907C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9930-C9B2-48AF-8CC8-28270A0F4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D1FC-4FB2-48BC-B38E-84264AF5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E9A6-03A7-4E4E-B636-EAC859E5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7C2E-22EE-4D0C-BE9D-6D450C51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35F3-AF58-48EE-9FE9-0A65E73C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2B3C-326C-4086-9F61-931EE52D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7E81-9904-4DC1-911A-D5E1F6C7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8115-8B7E-4C5A-A859-2097107E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5443-3AF0-4EB8-B557-5D255CA2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6410-3B2E-4E41-8389-7C807F78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5C37-2699-4EC5-A230-71DDFDA6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4620-7C41-498B-8EFA-02049D19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E900-D791-49BA-80B4-F30EB495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DBFC-A027-4BEF-8AF6-636BB38DB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AF68-A489-4C9E-9F95-6A3F7E5FC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60DB-452C-45B9-9AFD-228F5C6F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3062-C902-494D-B486-8DE044A7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B87A-F5E5-4D1B-86F8-620FCDC0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841A-1530-4D9F-858A-EADDDBB1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2151-297B-4198-9789-43B6BE22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5E5C-F6A9-45A1-B6A5-12684B4B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45C5-7EF2-4D9E-B308-277E0E67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2d2d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e4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85A0-BA14-46E2-A200-D4B1CFED60DF}" type="slidenum">
              <a:rPr b="0" lang="zh-CN" sz="2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17bbf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e4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17bbf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E7DE-4D16-4E20-AEE7-3CDCE44FD84E}" type="slidenum">
              <a:rPr b="0" lang="zh-CN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9" descr="《多彩的夏天》课文插图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2"/>
          <p:cNvSpPr/>
          <p:nvPr/>
        </p:nvSpPr>
        <p:spPr>
          <a:xfrm>
            <a:off x="1185840" y="1401840"/>
            <a:ext cx="6696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Times New Roman"/>
              </a:rPr>
              <a:t>迷人的夏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685800" y="1600200"/>
            <a:ext cx="76201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5072040" y="45007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1071720" y="1571760"/>
            <a:ext cx="73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学习了这段后，用自己的话说一说夏天可以听什么，看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1285920" y="321480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夏天可以 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以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以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以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无标题"/>
          <p:cNvPicPr/>
          <p:nvPr/>
        </p:nvPicPr>
        <p:blipFill>
          <a:blip r:embed="rId1"/>
          <a:stretch/>
        </p:blipFill>
        <p:spPr>
          <a:xfrm>
            <a:off x="2643120" y="3071880"/>
            <a:ext cx="4500720" cy="3375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7"/>
          <p:cNvSpPr/>
          <p:nvPr/>
        </p:nvSpPr>
        <p:spPr>
          <a:xfrm>
            <a:off x="1357200" y="1071720"/>
            <a:ext cx="721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夏天是悠闲的。我们扛着鱼竿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去钓鱼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提着水桶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去捉虾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背着救生圈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去游泳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14190815843"/>
          <p:cNvPicPr/>
          <p:nvPr/>
        </p:nvPicPr>
        <p:blipFill>
          <a:blip r:embed="rId1"/>
          <a:srcRect l="0" t="0" r="196" b="6053"/>
          <a:stretch/>
        </p:blipFill>
        <p:spPr>
          <a:xfrm>
            <a:off x="2214720" y="3214800"/>
            <a:ext cx="4857480" cy="3429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838080" y="121428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还可以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自制冰淇淋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学做美味的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凉拌佳肴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或者白天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躺在竹椅上读书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夜晚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望着星空畅想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2500200" y="414324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5"/>
          <p:cNvSpPr/>
          <p:nvPr/>
        </p:nvSpPr>
        <p:spPr>
          <a:xfrm>
            <a:off x="838080" y="20700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假设你也在夏夜星空下，望着满天的星星，望着这深色的星空，你会想些什么呢？有人愿意把你畅想到的跟我们大家分享一下吗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5"/>
          <p:cNvSpPr/>
          <p:nvPr/>
        </p:nvSpPr>
        <p:spPr>
          <a:xfrm>
            <a:off x="685800" y="1600200"/>
            <a:ext cx="76201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5072040" y="45007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5"/>
          <p:cNvSpPr/>
          <p:nvPr/>
        </p:nvSpPr>
        <p:spPr>
          <a:xfrm>
            <a:off x="1071720" y="1571760"/>
            <a:ext cx="73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学习了这段后，用自己的话说一说夏天可以做哪些悠闲的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Box 7"/>
          <p:cNvSpPr/>
          <p:nvPr/>
        </p:nvSpPr>
        <p:spPr>
          <a:xfrm>
            <a:off x="1285920" y="321480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夏天可以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还可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143f1ac5563bcd818226acb4"/>
          <p:cNvPicPr/>
          <p:nvPr/>
        </p:nvPicPr>
        <p:blipFill>
          <a:blip r:embed="rId1"/>
          <a:stretch/>
        </p:blipFill>
        <p:spPr>
          <a:xfrm>
            <a:off x="2643120" y="2857680"/>
            <a:ext cx="4786560" cy="35892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785880" y="1000080"/>
            <a:ext cx="7643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夏天是迷人的，是我们最喜爱的季节，一切都在夏天里走向成熟。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539640" y="172476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什么说“一切都在夏天里走向成熟”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3" descr="20031230151332"/>
          <p:cNvPicPr/>
          <p:nvPr/>
        </p:nvPicPr>
        <p:blipFill>
          <a:blip r:embed="rId1"/>
          <a:stretch/>
        </p:blipFill>
        <p:spPr>
          <a:xfrm>
            <a:off x="2700360" y="3502080"/>
            <a:ext cx="4284720" cy="2673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5"/>
          <p:cNvSpPr/>
          <p:nvPr/>
        </p:nvSpPr>
        <p:spPr>
          <a:xfrm>
            <a:off x="0" y="2543040"/>
            <a:ext cx="8534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1000080" y="1571760"/>
            <a:ext cx="678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学习这篇课文后，谁能用一句话说说夏天是什么样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13"/>
          <p:cNvSpPr/>
          <p:nvPr/>
        </p:nvSpPr>
        <p:spPr>
          <a:xfrm>
            <a:off x="1285920" y="3857760"/>
            <a:ext cx="69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请用上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还是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U54P55T4D73831F50DT20051026165526"/>
          <p:cNvPicPr/>
          <p:nvPr/>
        </p:nvPicPr>
        <p:blipFill>
          <a:blip r:embed="rId1"/>
          <a:srcRect l="0" t="23533" r="0" b="589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5"/>
          <p:cNvSpPr/>
          <p:nvPr/>
        </p:nvSpPr>
        <p:spPr>
          <a:xfrm>
            <a:off x="785880" y="128592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考   考   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500120" y="2500200"/>
            <a:ext cx="8572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浓浓  鸣叫  闪耀  钓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竹椅  悠闲  炎热  热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尽情  显得  街上  有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捉虾  或者  游泳   畅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火辣辣      凉拌佳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图片6"/>
          <p:cNvPicPr/>
          <p:nvPr/>
        </p:nvPicPr>
        <p:blipFill>
          <a:blip r:embed="rId1"/>
          <a:stretch/>
        </p:blipFill>
        <p:spPr>
          <a:xfrm>
            <a:off x="114480" y="0"/>
            <a:ext cx="895824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-496800" y="285840"/>
            <a:ext cx="715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此时此刻，你想说什么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5"/>
          <p:cNvSpPr/>
          <p:nvPr/>
        </p:nvSpPr>
        <p:spPr>
          <a:xfrm>
            <a:off x="0" y="321336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1143000" y="22860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这是一篇描写夏天的课文，请同学们回忆一下你们学过的古诗中有描写夏天的诗吗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谁举手说一说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20021118135930"/>
          <p:cNvPicPr/>
          <p:nvPr/>
        </p:nvPicPr>
        <p:blipFill>
          <a:blip r:embed="rId1"/>
          <a:srcRect l="0" t="0" r="0" b="24062"/>
          <a:stretch/>
        </p:blipFill>
        <p:spPr>
          <a:xfrm>
            <a:off x="0" y="0"/>
            <a:ext cx="968544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"/>
          <p:cNvSpPr/>
          <p:nvPr/>
        </p:nvSpPr>
        <p:spPr>
          <a:xfrm>
            <a:off x="166680" y="0"/>
            <a:ext cx="46116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Box 4"/>
          <p:cNvSpPr/>
          <p:nvPr/>
        </p:nvSpPr>
        <p:spPr>
          <a:xfrm>
            <a:off x="642960" y="928800"/>
            <a:ext cx="271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所   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8"/>
          <p:cNvSpPr/>
          <p:nvPr/>
        </p:nvSpPr>
        <p:spPr>
          <a:xfrm>
            <a:off x="714240" y="2786040"/>
            <a:ext cx="33577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牧童骑黄牛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歌声振林樾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意欲捕鸣蝉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忽然闭口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10"/>
          <p:cNvSpPr/>
          <p:nvPr/>
        </p:nvSpPr>
        <p:spPr>
          <a:xfrm>
            <a:off x="2643840" y="214308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清）袁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4" descr="143f1ac5563bcd818226acb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838080" y="411480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3571920" y="428760"/>
            <a:ext cx="258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小     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7"/>
          <p:cNvSpPr/>
          <p:nvPr/>
        </p:nvSpPr>
        <p:spPr>
          <a:xfrm>
            <a:off x="4572000" y="185904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宋     杨万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2571840" y="3076560"/>
            <a:ext cx="502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泉眼无声惜细流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13"/>
          <p:cNvSpPr/>
          <p:nvPr/>
        </p:nvSpPr>
        <p:spPr>
          <a:xfrm>
            <a:off x="2643120" y="378936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树阴照水爱晴柔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15"/>
          <p:cNvSpPr/>
          <p:nvPr/>
        </p:nvSpPr>
        <p:spPr>
          <a:xfrm>
            <a:off x="2571840" y="5288040"/>
            <a:ext cx="40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早有蜻蜓立上头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Box 18"/>
          <p:cNvSpPr/>
          <p:nvPr/>
        </p:nvSpPr>
        <p:spPr>
          <a:xfrm>
            <a:off x="2571840" y="4502160"/>
            <a:ext cx="487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小荷才露尖尖角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Box 12"/>
          <p:cNvSpPr/>
          <p:nvPr/>
        </p:nvSpPr>
        <p:spPr>
          <a:xfrm>
            <a:off x="6286680" y="385776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Box 14"/>
          <p:cNvSpPr/>
          <p:nvPr/>
        </p:nvSpPr>
        <p:spPr>
          <a:xfrm>
            <a:off x="2643120" y="35719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627280" y="29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0000"/>
                </a:solidFill>
                <a:latin typeface="Times New Roman"/>
              </a:rPr>
              <a:t>谢  谢</a:t>
            </a:r>
            <a:endParaRPr b="0" lang="en-US" sz="8000" spc="-1" strike="noStrike">
              <a:solidFill>
                <a:srgbClr val="666666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0"/>
          <p:cNvSpPr/>
          <p:nvPr/>
        </p:nvSpPr>
        <p:spPr>
          <a:xfrm>
            <a:off x="1428840" y="2070000"/>
            <a:ext cx="6929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夏天是炎热的。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火辣辣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太阳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高高地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挂在空中，把热量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尽情地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洒向大地。我们不必穿上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厚厚的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衣服，显得笨手笨脚；也不必为风沙烦恼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5104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如果下起雨来，就在小雨中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奔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洗一个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痛快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凉水澡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57200" y="426708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如果下起雨来，就在小雨中奔跑，洗一个痛快的凉水澡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5"/>
          <p:cNvSpPr/>
          <p:nvPr/>
        </p:nvSpPr>
        <p:spPr>
          <a:xfrm>
            <a:off x="2438280" y="0"/>
            <a:ext cx="5257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642960" y="2355840"/>
            <a:ext cx="792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夏天是多彩的。盛开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鲜花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碧绿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草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墙上爬满了绿色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植物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街上飘着五颜六色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衣裙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Users\Administrator\Desktop\西瓜.bmp"/>
          <p:cNvPicPr/>
          <p:nvPr/>
        </p:nvPicPr>
        <p:blipFill>
          <a:blip r:embed="rId1"/>
          <a:srcRect l="0" t="0" r="196" b="6059"/>
          <a:stretch/>
        </p:blipFill>
        <p:spPr>
          <a:xfrm>
            <a:off x="2428920" y="2786040"/>
            <a:ext cx="5286240" cy="37321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357120" y="1357200"/>
            <a:ext cx="857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如果有朋友来，从冰箱里拿出黑子红瓤的西瓜招待他们，那感觉真好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6"/>
          <p:cNvSpPr/>
          <p:nvPr/>
        </p:nvSpPr>
        <p:spPr>
          <a:xfrm>
            <a:off x="1357200" y="25002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文中画出表示颜色的词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1357200" y="3714840"/>
            <a:ext cx="657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填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1357200" y="5214960"/>
            <a:ext cx="65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       ）的植物  （      ）的衣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1357200" y="450072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       ）的鲜花（        ）的草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16"/>
          <p:cNvSpPr/>
          <p:nvPr/>
        </p:nvSpPr>
        <p:spPr>
          <a:xfrm>
            <a:off x="1357200" y="5857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       ）的西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128592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练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200904272259011071"/>
          <p:cNvPicPr/>
          <p:nvPr/>
        </p:nvPicPr>
        <p:blipFill>
          <a:blip r:embed="rId4"/>
          <a:stretch/>
        </p:blipFill>
        <p:spPr>
          <a:xfrm>
            <a:off x="2357280" y="3071880"/>
            <a:ext cx="4714920" cy="35352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357120" y="10717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夏天是有趣的。白天，可以在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浓浓的树荫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下，听知了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悠长的鸣叫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看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点点光影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在地上闪耀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059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3"/>
          <p:cNvSpPr/>
          <p:nvPr/>
        </p:nvSpPr>
        <p:spPr>
          <a:xfrm>
            <a:off x="2446200" y="1519200"/>
            <a:ext cx="73080" cy="730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3454560" y="797040"/>
            <a:ext cx="72720" cy="730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6118200" y="1373040"/>
            <a:ext cx="73080" cy="730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7918560" y="725400"/>
            <a:ext cx="73080" cy="730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5541840" y="581040"/>
            <a:ext cx="73080" cy="730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1509840" y="1662120"/>
            <a:ext cx="72720" cy="730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3886200" y="1373040"/>
            <a:ext cx="73080" cy="730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1222200" y="438120"/>
            <a:ext cx="73080" cy="730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861840" y="1446120"/>
            <a:ext cx="73080" cy="730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2"/>
          <p:cNvSpPr/>
          <p:nvPr/>
        </p:nvSpPr>
        <p:spPr>
          <a:xfrm>
            <a:off x="2733840" y="581040"/>
            <a:ext cx="72720" cy="730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7846920" y="1662120"/>
            <a:ext cx="73080" cy="730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14"/>
          <p:cNvSpPr/>
          <p:nvPr/>
        </p:nvSpPr>
        <p:spPr>
          <a:xfrm>
            <a:off x="5973840" y="941400"/>
            <a:ext cx="73080" cy="730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15"/>
          <p:cNvSpPr/>
          <p:nvPr/>
        </p:nvSpPr>
        <p:spPr>
          <a:xfrm>
            <a:off x="4965840" y="1157400"/>
            <a:ext cx="72720" cy="730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6"/>
          <p:cNvSpPr/>
          <p:nvPr/>
        </p:nvSpPr>
        <p:spPr>
          <a:xfrm>
            <a:off x="6046920" y="104760"/>
            <a:ext cx="72720" cy="730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7"/>
          <p:cNvSpPr/>
          <p:nvPr/>
        </p:nvSpPr>
        <p:spPr>
          <a:xfrm>
            <a:off x="2085840" y="104760"/>
            <a:ext cx="73080" cy="730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8"/>
          <p:cNvSpPr/>
          <p:nvPr/>
        </p:nvSpPr>
        <p:spPr>
          <a:xfrm>
            <a:off x="2843280" y="1698480"/>
            <a:ext cx="142920" cy="146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9"/>
          <p:cNvSpPr/>
          <p:nvPr/>
        </p:nvSpPr>
        <p:spPr>
          <a:xfrm>
            <a:off x="2482920" y="690480"/>
            <a:ext cx="142920" cy="146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20"/>
          <p:cNvSpPr/>
          <p:nvPr/>
        </p:nvSpPr>
        <p:spPr>
          <a:xfrm>
            <a:off x="1114560" y="1050840"/>
            <a:ext cx="142920" cy="146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1"/>
          <p:cNvSpPr/>
          <p:nvPr/>
        </p:nvSpPr>
        <p:spPr>
          <a:xfrm>
            <a:off x="4572000" y="835200"/>
            <a:ext cx="142920" cy="145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22"/>
          <p:cNvSpPr/>
          <p:nvPr/>
        </p:nvSpPr>
        <p:spPr>
          <a:xfrm>
            <a:off x="5364000" y="69840"/>
            <a:ext cx="142920" cy="146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23"/>
          <p:cNvSpPr/>
          <p:nvPr/>
        </p:nvSpPr>
        <p:spPr>
          <a:xfrm>
            <a:off x="7812000" y="69840"/>
            <a:ext cx="142920" cy="146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24"/>
          <p:cNvSpPr/>
          <p:nvPr/>
        </p:nvSpPr>
        <p:spPr>
          <a:xfrm>
            <a:off x="4356000" y="1338120"/>
            <a:ext cx="142920" cy="146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25"/>
          <p:cNvSpPr/>
          <p:nvPr/>
        </p:nvSpPr>
        <p:spPr>
          <a:xfrm>
            <a:off x="1690560" y="1122480"/>
            <a:ext cx="142920" cy="145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26"/>
          <p:cNvSpPr/>
          <p:nvPr/>
        </p:nvSpPr>
        <p:spPr>
          <a:xfrm>
            <a:off x="8172360" y="1195560"/>
            <a:ext cx="142920" cy="145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27"/>
          <p:cNvSpPr/>
          <p:nvPr/>
        </p:nvSpPr>
        <p:spPr>
          <a:xfrm>
            <a:off x="6730920" y="1122480"/>
            <a:ext cx="142920" cy="145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28"/>
          <p:cNvSpPr/>
          <p:nvPr/>
        </p:nvSpPr>
        <p:spPr>
          <a:xfrm>
            <a:off x="6588000" y="546120"/>
            <a:ext cx="142920" cy="146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30"/>
          <p:cNvSpPr/>
          <p:nvPr/>
        </p:nvSpPr>
        <p:spPr>
          <a:xfrm>
            <a:off x="2517840" y="2313000"/>
            <a:ext cx="73080" cy="730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31"/>
          <p:cNvSpPr/>
          <p:nvPr/>
        </p:nvSpPr>
        <p:spPr>
          <a:xfrm>
            <a:off x="3525840" y="1590840"/>
            <a:ext cx="73080" cy="727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32"/>
          <p:cNvSpPr/>
          <p:nvPr/>
        </p:nvSpPr>
        <p:spPr>
          <a:xfrm>
            <a:off x="6189840" y="2166840"/>
            <a:ext cx="72720" cy="730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33"/>
          <p:cNvSpPr/>
          <p:nvPr/>
        </p:nvSpPr>
        <p:spPr>
          <a:xfrm>
            <a:off x="7989840" y="1519200"/>
            <a:ext cx="73080" cy="730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34"/>
          <p:cNvSpPr/>
          <p:nvPr/>
        </p:nvSpPr>
        <p:spPr>
          <a:xfrm>
            <a:off x="5613480" y="1374840"/>
            <a:ext cx="73080" cy="730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35"/>
          <p:cNvSpPr/>
          <p:nvPr/>
        </p:nvSpPr>
        <p:spPr>
          <a:xfrm>
            <a:off x="1581120" y="2455920"/>
            <a:ext cx="73080" cy="730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36"/>
          <p:cNvSpPr/>
          <p:nvPr/>
        </p:nvSpPr>
        <p:spPr>
          <a:xfrm>
            <a:off x="3957480" y="2166840"/>
            <a:ext cx="73080" cy="730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37"/>
          <p:cNvSpPr/>
          <p:nvPr/>
        </p:nvSpPr>
        <p:spPr>
          <a:xfrm>
            <a:off x="1293840" y="1231920"/>
            <a:ext cx="73080" cy="730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38"/>
          <p:cNvSpPr/>
          <p:nvPr/>
        </p:nvSpPr>
        <p:spPr>
          <a:xfrm>
            <a:off x="933480" y="2239920"/>
            <a:ext cx="73080" cy="730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39"/>
          <p:cNvSpPr/>
          <p:nvPr/>
        </p:nvSpPr>
        <p:spPr>
          <a:xfrm>
            <a:off x="2805120" y="1374840"/>
            <a:ext cx="73080" cy="730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40"/>
          <p:cNvSpPr/>
          <p:nvPr/>
        </p:nvSpPr>
        <p:spPr>
          <a:xfrm>
            <a:off x="7918560" y="2455920"/>
            <a:ext cx="73080" cy="730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41"/>
          <p:cNvSpPr/>
          <p:nvPr/>
        </p:nvSpPr>
        <p:spPr>
          <a:xfrm>
            <a:off x="6045120" y="1735200"/>
            <a:ext cx="73080" cy="730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42"/>
          <p:cNvSpPr/>
          <p:nvPr/>
        </p:nvSpPr>
        <p:spPr>
          <a:xfrm>
            <a:off x="5037120" y="1951200"/>
            <a:ext cx="73080" cy="727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3"/>
          <p:cNvSpPr/>
          <p:nvPr/>
        </p:nvSpPr>
        <p:spPr>
          <a:xfrm>
            <a:off x="6118200" y="898560"/>
            <a:ext cx="73080" cy="730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44"/>
          <p:cNvSpPr/>
          <p:nvPr/>
        </p:nvSpPr>
        <p:spPr>
          <a:xfrm>
            <a:off x="2157480" y="898560"/>
            <a:ext cx="73080" cy="730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45"/>
          <p:cNvSpPr/>
          <p:nvPr/>
        </p:nvSpPr>
        <p:spPr>
          <a:xfrm>
            <a:off x="2914560" y="2492280"/>
            <a:ext cx="142920" cy="146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46"/>
          <p:cNvSpPr/>
          <p:nvPr/>
        </p:nvSpPr>
        <p:spPr>
          <a:xfrm>
            <a:off x="2554200" y="1484280"/>
            <a:ext cx="142920" cy="146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47"/>
          <p:cNvSpPr/>
          <p:nvPr/>
        </p:nvSpPr>
        <p:spPr>
          <a:xfrm>
            <a:off x="1185840" y="1844640"/>
            <a:ext cx="142920" cy="146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48"/>
          <p:cNvSpPr/>
          <p:nvPr/>
        </p:nvSpPr>
        <p:spPr>
          <a:xfrm>
            <a:off x="4643280" y="1628640"/>
            <a:ext cx="142920" cy="146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49"/>
          <p:cNvSpPr/>
          <p:nvPr/>
        </p:nvSpPr>
        <p:spPr>
          <a:xfrm>
            <a:off x="5435640" y="863640"/>
            <a:ext cx="142920" cy="146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50"/>
          <p:cNvSpPr/>
          <p:nvPr/>
        </p:nvSpPr>
        <p:spPr>
          <a:xfrm>
            <a:off x="7883640" y="863640"/>
            <a:ext cx="142920" cy="146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51"/>
          <p:cNvSpPr/>
          <p:nvPr/>
        </p:nvSpPr>
        <p:spPr>
          <a:xfrm>
            <a:off x="4427640" y="2131920"/>
            <a:ext cx="142920" cy="146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2"/>
          <p:cNvSpPr/>
          <p:nvPr/>
        </p:nvSpPr>
        <p:spPr>
          <a:xfrm>
            <a:off x="1762200" y="1916280"/>
            <a:ext cx="142920" cy="145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53"/>
          <p:cNvSpPr/>
          <p:nvPr/>
        </p:nvSpPr>
        <p:spPr>
          <a:xfrm>
            <a:off x="8244000" y="1989000"/>
            <a:ext cx="142920" cy="146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54"/>
          <p:cNvSpPr/>
          <p:nvPr/>
        </p:nvSpPr>
        <p:spPr>
          <a:xfrm>
            <a:off x="6802560" y="1916280"/>
            <a:ext cx="142920" cy="145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55"/>
          <p:cNvSpPr/>
          <p:nvPr/>
        </p:nvSpPr>
        <p:spPr>
          <a:xfrm>
            <a:off x="6659640" y="1339920"/>
            <a:ext cx="142920" cy="146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85880" y="292896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晚上，可以到田边听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青蛙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赛歌会，看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萤火虫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提着灯笼在草丛中游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50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50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50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50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50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50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50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500" autoRev="1" fill="hold"/>
                                        <p:tgtEl>
                                          <p:spTgt spid="1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50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50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500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500" autoRev="1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50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50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50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500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50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500" autoRev="1" fill="hold"/>
                                        <p:tgtEl>
                                          <p:spTgt spid="1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50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500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50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50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500" autoRev="1" fill="hold"/>
                                        <p:tgtEl>
                                          <p:spTgt spid="1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500" autoRev="1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500" autoRev="1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500" autoRev="1" fill="hold"/>
                                        <p:tgtEl>
                                          <p:spTgt spid="1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50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500" autoRev="1" fill="hold"/>
                                        <p:tgtEl>
                                          <p:spTgt spid="1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50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50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500" autoRev="1" fill="hold"/>
                                        <p:tgtEl>
                                          <p:spTgt spid="1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500" autoRev="1" fill="hold"/>
                                        <p:tgtEl>
                                          <p:spTgt spid="1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500" autoRev="1" fill="hold"/>
                                        <p:tgtEl>
                                          <p:spTgt spid="1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500" autoRev="1" fill="hold"/>
                                        <p:tgtEl>
                                          <p:spTgt spid="1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500" autoRev="1" fill="hold"/>
                                        <p:tgtEl>
                                          <p:spTgt spid="1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50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500" autoRev="1" fill="hold"/>
                                        <p:tgtEl>
                                          <p:spTgt spid="1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500" autoRev="1" fill="hold"/>
                                        <p:tgtEl>
                                          <p:spTgt spid="1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500" autoRev="1" fill="hold"/>
                                        <p:tgtEl>
                                          <p:spTgt spid="1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50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500" autoRev="1" fill="hold"/>
                                        <p:tgtEl>
                                          <p:spTgt spid="1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50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500" autoRev="1" fill="hold"/>
                                        <p:tgtEl>
                                          <p:spTgt spid="1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500" autoRev="1" fill="hold"/>
                                        <p:tgtEl>
                                          <p:spTgt spid="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500" autoRev="1" fill="hold"/>
                                        <p:tgtEl>
                                          <p:spTgt spid="1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50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500" autoRev="1" fill="hold"/>
                                        <p:tgtEl>
                                          <p:spTgt spid="1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500" autoRev="1" fill="hold"/>
                                        <p:tgtEl>
                                          <p:spTgt spid="1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50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50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500" autoRev="1" fill="hold"/>
                                        <p:tgtEl>
                                          <p:spTgt spid="1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500" autoRev="1" fill="hold"/>
                                        <p:tgtEl>
                                          <p:spTgt spid="1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5T05:43:46Z</dcterms:created>
  <dc:creator/>
  <dc:description/>
  <dc:language>en-US</dc:language>
  <cp:lastModifiedBy/>
  <dcterms:modified xsi:type="dcterms:W3CDTF">2014-03-30T09:34:1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