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08D2-321C-489B-BE94-508906344E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7622-BBDF-40AE-A427-89986FFDD3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34EB-6D98-44C8-B41D-8FCCF47A9E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35A5-54AE-48FA-B279-47763649DC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16A2-552B-4DD0-860C-C4C00EC9C9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8564-8E64-4B43-A742-9DA51C0513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4A7D-4AC3-4F4D-9F30-AF6A877B54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0469-1842-4D06-8CCB-1B1D578409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D927-623B-48C6-ADAC-056BB8E689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505B-1FCD-446D-90C4-F4A5146E77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23A4-8D9F-4F5D-8D71-5F48AADE17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1DA-C229-4B42-9DBF-3A994710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65D-CCEB-43A1-AFB0-1BAF4B2A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731-84FA-400C-8D13-09CE39C1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3F2-E54D-4A19-8E5B-6F1C0D44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DFE-6A70-4358-99ED-C2042285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6EF-1CB4-4177-AB1A-C2559D97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13B-7A85-4773-B73A-3B80E9C6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B76-A1DD-499F-9E10-0637A566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C3B-BEBC-4612-9332-A3448E3B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4BA-FA5C-4CFA-8FEA-67747877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914-A976-4BDF-98A4-25F6A857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068-296B-4A5B-896B-E0045EC3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B609-4B96-4385-91F9-3B35EA418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286000" y="3429000"/>
            <a:ext cx="5029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程门立雪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04920" y="1522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语文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S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版二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5"/>
          <p:cNvSpPr txBox="1"/>
          <p:nvPr/>
        </p:nvSpPr>
        <p:spPr>
          <a:xfrm>
            <a:off x="2971800" y="2209680"/>
            <a:ext cx="30481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 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8" name="Picture 7" descr="16"/>
          <p:cNvPicPr/>
          <p:nvPr/>
        </p:nvPicPr>
        <p:blipFill>
          <a:blip r:embed="rId1"/>
          <a:stretch/>
        </p:blipFill>
        <p:spPr>
          <a:xfrm>
            <a:off x="8317080" y="6432480"/>
            <a:ext cx="433080" cy="42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807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程”指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雪”是什么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在程门立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要立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写会默本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579040" y="1828800"/>
            <a:ext cx="475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  尊敬  问题  请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待  慈祥  漫天飞舞 尽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候  宋朝  休息  诚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048120" y="5335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杨时是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ò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朝的大学问家。他很爱学习，也非常尊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ū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敬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相传，有一次，他和一个同学在读书时争论起来。为了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jǐn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快弄清问题，他们就冒着鹅毛大雪，专门去请教程颐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他们走到程老师家门口，看见程老师坐在椅子上睡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zháo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。杨时悄悄地对同学说：“程老师正在休息，咱们在这儿等一会儿吧！”他们就一声不响地站在门口，一边默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默地背书，一边静静地等候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过了很久，程老师醒来，发现两个学生站在大雪纷飞的门外，就急忙把他们拉进屋里，心疼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地说：“外边雪这么大，你们为什么不进屋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杨时望着程老师慈祥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xiá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面容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ó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诚恳地说：“老师，您正在休息，我们怎么能惊动您呢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6-有一次。。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28600" y="434340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有一次，他和一个同学在读书时争论起来。为了尽快弄清问题，他们就冒着鹅毛大雪，专门去请教程颐老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9-在门口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53352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杨时悄悄地对同学说：“程老师正在休息，咱们在这儿等一会儿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9-在门口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457200" y="50292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们就一声不响地站在门口，一边默默地背书，一边静静地等候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-最后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228600" y="5181480"/>
            <a:ext cx="8915400" cy="190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过了很久，程老师醒来，发现两个学生站在大雪纷飞的门外，就急忙把他们拉进屋里，心疼地说：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外边雪这么大，你们为什么不进屋呢？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0-最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457200" y="6218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858000" y="1219320"/>
            <a:ext cx="2057400" cy="3377160"/>
          </a:xfrm>
          <a:prstGeom prst="rect">
            <a:avLst/>
          </a:prstGeom>
          <a:solidFill>
            <a:srgbClr val="800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程门立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这个成语比喻一个人应该尊师重道，重视教育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07:23:32Z</dcterms:created>
  <dc:creator/>
  <dc:description/>
  <dc:language>en-US</dc:language>
  <cp:lastModifiedBy/>
  <dcterms:modified xsi:type="dcterms:W3CDTF">2016-12-09T07:23:34Z</dcterms:modified>
  <cp:revision>1</cp:revision>
  <dc:subject/>
  <dc:title/>
</cp:coreProperties>
</file>