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E8E-559D-4B4B-8769-82D3A30A45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529-AA91-44BD-B7BD-75286BE08A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3C0A-91EC-4076-A1B7-EB12C4B587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BF4F-362A-4622-98C3-81D8F1A1EB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6294-21E5-421A-BBC2-CDB5FF746C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530-7A27-48B3-AC04-60E1C32512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700-E5AD-4D02-B4BA-E2FA06BE9D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F34F-724B-449B-9CE5-05919D13E5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6653-7332-4020-8CE3-EFB527F8E3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70FD-93CF-49AE-B038-02798F9BF0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A0D-FED9-4D06-9574-AC3E456C70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99E5-6DEA-4EB0-8360-1065CF1AAE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3B89-6124-459D-B50B-1B2EED922D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6B09-44F0-4229-B403-AAED8A5259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82F-475E-4E00-8812-48DCA392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6DC-9880-48EF-AA00-7B40C9C4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8A9-C458-4748-8525-0D005E85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DA2-1C66-413C-8105-D89FB76D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C29-9935-4BF2-BAE3-84410FB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E4D-E68A-4556-BA33-387EDC1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769-3985-4D58-BBE2-D6610802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95E-9A26-48D4-A17E-70ECEF38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EBD-5899-4463-9575-57068960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8FA-72E9-4697-A2D5-B5C68224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F78-1B2D-467E-8A3D-9632AC6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479-C8D4-48B4-B6F7-D5B2AC8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4E89-41DD-41B9-A484-E41B7B46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M_020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RM_1121"/>
          <p:cNvPicPr/>
          <p:nvPr/>
        </p:nvPicPr>
        <p:blipFill>
          <a:blip r:embed="rId2"/>
          <a:stretch/>
        </p:blipFill>
        <p:spPr>
          <a:xfrm>
            <a:off x="2286000" y="264780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203640" y="170028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假  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7" descr=""/>
          <p:cNvPicPr/>
          <p:nvPr/>
        </p:nvPicPr>
        <p:blipFill>
          <a:blip r:embed="rId3"/>
          <a:stretch/>
        </p:blipFill>
        <p:spPr>
          <a:xfrm>
            <a:off x="317520" y="103320"/>
            <a:ext cx="50529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组学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课文用三节写了作者的三个愿望，你最喜欢哪个小节？在组内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这一小节中，你读懂了什么？小组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认为这一小节中哪个句子，哪个词用得好，为什么？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扩展活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中最后一段没有说为谁画什么，你能仿照课文发挥想象。“假如你有一支马良的神笔。”写出你的愿望，像课文里的小诗歌一样。回家在把你写的愿望画出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图片8"/>
          <p:cNvPicPr/>
          <p:nvPr/>
        </p:nvPicPr>
        <p:blipFill>
          <a:blip r:embed="rId1"/>
          <a:stretch/>
        </p:blipFill>
        <p:spPr>
          <a:xfrm>
            <a:off x="-11160" y="-111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1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课后作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547640" y="1989000"/>
            <a:ext cx="5977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步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正确、流利、有感情地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展开想象仿写句子，培养有关爱他人、关爱环境的愿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导入新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马良到神笔后他用神笔为老百姓做了许许多多的好事，假如你有一枝马良的神笔，你会做些什么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648320" y="0"/>
            <a:ext cx="4495680" cy="63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假如我有一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良的神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给窗前的小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一个红红的太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小树在冬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能快活地成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会在寒冷的北风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缩着身子，轻轻叹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1"/>
          <p:cNvGrpSpPr/>
          <p:nvPr/>
        </p:nvGrpSpPr>
        <p:grpSpPr>
          <a:xfrm>
            <a:off x="6248520" y="3048120"/>
            <a:ext cx="1066680" cy="75960"/>
            <a:chOff x="6248520" y="3048120"/>
            <a:chExt cx="1066680" cy="75960"/>
          </a:xfrm>
        </p:grpSpPr>
        <p:sp>
          <p:nvSpPr>
            <p:cNvPr id="58" name="AutoShape 8"/>
            <p:cNvSpPr/>
            <p:nvPr/>
          </p:nvSpPr>
          <p:spPr>
            <a:xfrm>
              <a:off x="6705720" y="3048120"/>
              <a:ext cx="7596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3"/>
            <p:cNvSpPr/>
            <p:nvPr/>
          </p:nvSpPr>
          <p:spPr>
            <a:xfrm>
              <a:off x="7238880" y="3048120"/>
              <a:ext cx="7632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4"/>
            <p:cNvSpPr/>
            <p:nvPr/>
          </p:nvSpPr>
          <p:spPr>
            <a:xfrm>
              <a:off x="6248520" y="3048120"/>
              <a:ext cx="75960" cy="759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2"/>
          <p:cNvGrpSpPr/>
          <p:nvPr/>
        </p:nvGrpSpPr>
        <p:grpSpPr>
          <a:xfrm>
            <a:off x="5867280" y="4724280"/>
            <a:ext cx="914400" cy="76320"/>
            <a:chOff x="5867280" y="4724280"/>
            <a:chExt cx="914400" cy="76320"/>
          </a:xfrm>
        </p:grpSpPr>
        <p:sp>
          <p:nvSpPr>
            <p:cNvPr id="62" name="AutoShape 15"/>
            <p:cNvSpPr/>
            <p:nvPr/>
          </p:nvSpPr>
          <p:spPr>
            <a:xfrm>
              <a:off x="6705720" y="4724280"/>
              <a:ext cx="7596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400800" y="4724280"/>
              <a:ext cx="7632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7"/>
            <p:cNvSpPr/>
            <p:nvPr/>
          </p:nvSpPr>
          <p:spPr>
            <a:xfrm>
              <a:off x="5867280" y="4724280"/>
              <a:ext cx="7632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8"/>
          <p:cNvGrpSpPr/>
          <p:nvPr/>
        </p:nvGrpSpPr>
        <p:grpSpPr>
          <a:xfrm>
            <a:off x="4876920" y="6400800"/>
            <a:ext cx="2895480" cy="76320"/>
            <a:chOff x="4876920" y="6400800"/>
            <a:chExt cx="2895480" cy="76320"/>
          </a:xfrm>
        </p:grpSpPr>
        <p:sp>
          <p:nvSpPr>
            <p:cNvPr id="66" name="AutoShape 18"/>
            <p:cNvSpPr/>
            <p:nvPr/>
          </p:nvSpPr>
          <p:spPr>
            <a:xfrm>
              <a:off x="7696080" y="6400800"/>
              <a:ext cx="7632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9"/>
            <p:cNvSpPr/>
            <p:nvPr/>
          </p:nvSpPr>
          <p:spPr>
            <a:xfrm>
              <a:off x="7162920" y="6400800"/>
              <a:ext cx="7596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0"/>
            <p:cNvSpPr/>
            <p:nvPr/>
          </p:nvSpPr>
          <p:spPr>
            <a:xfrm>
              <a:off x="4876920" y="6400800"/>
              <a:ext cx="7596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7"/>
          <p:cNvGrpSpPr/>
          <p:nvPr/>
        </p:nvGrpSpPr>
        <p:grpSpPr>
          <a:xfrm>
            <a:off x="6324480" y="5638680"/>
            <a:ext cx="457200" cy="76320"/>
            <a:chOff x="6324480" y="5638680"/>
            <a:chExt cx="457200" cy="76320"/>
          </a:xfrm>
        </p:grpSpPr>
        <p:sp>
          <p:nvSpPr>
            <p:cNvPr id="70" name="AutoShape 23"/>
            <p:cNvSpPr/>
            <p:nvPr/>
          </p:nvSpPr>
          <p:spPr>
            <a:xfrm>
              <a:off x="6324480" y="5638680"/>
              <a:ext cx="7632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5"/>
            <p:cNvSpPr/>
            <p:nvPr/>
          </p:nvSpPr>
          <p:spPr>
            <a:xfrm>
              <a:off x="6705720" y="5638680"/>
              <a:ext cx="75960" cy="7632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26"/>
          <p:cNvSpPr/>
          <p:nvPr/>
        </p:nvSpPr>
        <p:spPr>
          <a:xfrm>
            <a:off x="7162920" y="5638680"/>
            <a:ext cx="75960" cy="763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微笑的小女孩"/>
          <p:cNvPicPr/>
          <p:nvPr/>
        </p:nvPicPr>
        <p:blipFill>
          <a:blip r:embed="rId1"/>
          <a:stretch/>
        </p:blipFill>
        <p:spPr>
          <a:xfrm>
            <a:off x="971640" y="1052640"/>
            <a:ext cx="240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KEWAN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R_024"/>
          <p:cNvPicPr/>
          <p:nvPr/>
        </p:nvPicPr>
        <p:blipFill>
          <a:blip r:embed="rId1"/>
          <a:stretch/>
        </p:blipFill>
        <p:spPr>
          <a:xfrm>
            <a:off x="0" y="0"/>
            <a:ext cx="8686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981080" y="6094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我会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95280" y="213372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假如你有一枝马良的神笔，你会画些什么呢？把你的想法写下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M_001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914400" y="609480"/>
            <a:ext cx="693432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良好  遥远   寻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哭泣     健康      操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缩小     一双       身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悟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最喜欢哪个句子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扩展说话：我要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07:38:19Z</dcterms:created>
  <dc:creator/>
  <dc:description/>
  <dc:language>en-US</dc:language>
  <cp:lastModifiedBy/>
  <dcterms:modified xsi:type="dcterms:W3CDTF">2016-12-09T07:38:23Z</dcterms:modified>
  <cp:revision>1</cp:revision>
  <dc:subject/>
  <dc:title/>
</cp:coreProperties>
</file>