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8AFA-E485-4B64-B314-485A9212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1AE0-B92E-465F-A6A7-38FEFB9B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63F-93B1-47F9-8FBE-B5D0A95B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891-5888-417B-A841-CD32AE9F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629-9A8D-4744-BAB3-B99F050A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C2D-10AF-4CD5-945F-6181538A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ECA-BB43-4C7E-8F64-68B4AEB8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4F2-6239-42E6-90EB-1996E972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73D-53F0-4E99-BCB0-FA1AAFA6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533-D22A-4730-B323-C65D7CCB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C6E-237A-4393-8577-B5C5CE0B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AF6-AB76-4757-8A5B-DEEB8888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3A72-8653-46A3-91B6-0EE2EFB2FE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，我国历史上有一个时代，那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春秋战国时代，距现在约有两千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多年了。当时有个国家叫齐国，由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长时间没有下雨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，田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庄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枯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，齐王很着急，决定向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求雨。齐王能求来雨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-376200"/>
            <a:ext cx="9144000" cy="72342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3008520" y="1505160"/>
            <a:ext cx="1758960" cy="1758960"/>
            <a:chOff x="3008520" y="1505160"/>
            <a:chExt cx="1758960" cy="175896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 rot="1221600">
              <a:off x="3203640" y="170028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490920" y="198756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efefe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136880" y="1505160"/>
            <a:ext cx="1758960" cy="1758960"/>
            <a:chOff x="1136880" y="1505160"/>
            <a:chExt cx="1758960" cy="1758960"/>
          </a:xfrm>
        </p:grpSpPr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 rot="1221600">
              <a:off x="1332000" y="170028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1619280" y="198756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efefe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664160" y="1505160"/>
            <a:ext cx="1758960" cy="1758960"/>
            <a:chOff x="4664160" y="1505160"/>
            <a:chExt cx="1758960" cy="1758960"/>
          </a:xfrm>
        </p:grpSpPr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 rot="1221600">
              <a:off x="4859280" y="170028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146560" y="198756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efefe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溉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6537600" y="1505160"/>
            <a:ext cx="1758960" cy="1758960"/>
            <a:chOff x="6537600" y="1505160"/>
            <a:chExt cx="1758960" cy="1758960"/>
          </a:xfrm>
        </p:grpSpPr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 rot="1221600">
              <a:off x="6732720" y="170028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7020000" y="198756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efefe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稼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00160" y="3233880"/>
            <a:ext cx="1757520" cy="1758600"/>
            <a:chOff x="200160" y="3233880"/>
            <a:chExt cx="1757520" cy="1758600"/>
          </a:xfrm>
        </p:grpSpPr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 rot="1221600">
              <a:off x="395280" y="3428640"/>
              <a:ext cx="13669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82200" y="3716280"/>
              <a:ext cx="71820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efefe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枯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000520" y="3089520"/>
            <a:ext cx="1758960" cy="1758960"/>
            <a:chOff x="2000520" y="3089520"/>
            <a:chExt cx="1758960" cy="1758960"/>
          </a:xfrm>
        </p:grpSpPr>
        <p:pic>
          <p:nvPicPr>
            <p:cNvPr id="91" name="" descr=""/>
            <p:cNvPicPr/>
            <p:nvPr/>
          </p:nvPicPr>
          <p:blipFill>
            <a:blip r:embed="rId7"/>
            <a:stretch/>
          </p:blipFill>
          <p:spPr>
            <a:xfrm rot="1221600">
              <a:off x="2195640" y="328464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482920" y="357192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efefe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决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730680" y="3162600"/>
            <a:ext cx="1757520" cy="1758600"/>
            <a:chOff x="3730680" y="3162600"/>
            <a:chExt cx="1757520" cy="1758600"/>
          </a:xfrm>
        </p:grpSpPr>
        <p:pic>
          <p:nvPicPr>
            <p:cNvPr id="94" name="" descr=""/>
            <p:cNvPicPr/>
            <p:nvPr/>
          </p:nvPicPr>
          <p:blipFill>
            <a:blip r:embed="rId8"/>
            <a:stretch/>
          </p:blipFill>
          <p:spPr>
            <a:xfrm rot="1221600">
              <a:off x="3925800" y="3357360"/>
              <a:ext cx="13669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212720" y="3645000"/>
              <a:ext cx="71820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efefe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ahoma"/>
                </a:rPr>
                <a:t>劝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384880" y="3162600"/>
            <a:ext cx="1758960" cy="1758960"/>
            <a:chOff x="5384880" y="3162600"/>
            <a:chExt cx="1758960" cy="1758960"/>
          </a:xfrm>
        </p:grpSpPr>
        <p:pic>
          <p:nvPicPr>
            <p:cNvPr id="97" name="" descr=""/>
            <p:cNvPicPr/>
            <p:nvPr/>
          </p:nvPicPr>
          <p:blipFill>
            <a:blip r:embed="rId9"/>
            <a:stretch/>
          </p:blipFill>
          <p:spPr>
            <a:xfrm rot="1221600">
              <a:off x="5580000" y="335772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867280" y="364500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efefe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饿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7113600" y="3162600"/>
            <a:ext cx="1757520" cy="1758600"/>
            <a:chOff x="7113600" y="3162600"/>
            <a:chExt cx="1757520" cy="1758600"/>
          </a:xfrm>
        </p:grpSpPr>
        <p:pic>
          <p:nvPicPr>
            <p:cNvPr id="100" name="" descr=""/>
            <p:cNvPicPr/>
            <p:nvPr/>
          </p:nvPicPr>
          <p:blipFill>
            <a:blip r:embed="rId10"/>
            <a:stretch/>
          </p:blipFill>
          <p:spPr>
            <a:xfrm rot="1221600">
              <a:off x="7308720" y="3357360"/>
              <a:ext cx="13669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595640" y="3645000"/>
              <a:ext cx="71820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efefe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谁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0276 0.34081 E">
                                      <p:cBhvr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21387E-006 L 0.0118 0.37225 E">
                                      <p:cBhvr>
                                        <p:cTn id="8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0276 0.34081 E">
                                      <p:cBhvr>
                                        <p:cTn id="88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0276 0.34081 E">
                                      <p:cBhvr>
                                        <p:cTn id="9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0276 0.34081 E">
                                      <p:cBhvr>
                                        <p:cTn id="9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0276 0.34081 E">
                                      <p:cBhvr>
                                        <p:cTn id="103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0276 0.34081 E">
                                      <p:cBhvr>
                                        <p:cTn id="10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0276 0.34081 E">
                                      <p:cBhvr>
                                        <p:cTn id="113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0276 0.34081 E">
                                      <p:cBhvr>
                                        <p:cTn id="11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认  一  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2781360"/>
            <a:ext cx="89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晏子   一滴     枯黄     山神     鱼虾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灌溉    庄稼    河神     百姓      慢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439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决定、决战、决斗、决断、决心、表决、处决、决一死战、决胜千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劝告、劝导、劝说、劝解、劝架、劝止、劝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饿肚子、饥饿、饿虎扑食、饿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698640"/>
            <a:ext cx="78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枯黄、枯井、枯燥、枯死、枯木逢春、   海枯石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庄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是谁、谁人、谁个、谁的、谁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33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会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55640" y="4653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492360" y="458136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6012000" y="450864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5651640" y="1773360"/>
            <a:ext cx="1439640" cy="1439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9640" y="177336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700280"/>
            <a:ext cx="143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162864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05264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ju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981000"/>
            <a:ext cx="16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quà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90792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3789360"/>
            <a:ext cx="136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35280" y="371628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ji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64500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shé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450864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枯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4437000"/>
            <a:ext cx="144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436572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260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会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050920" y="1557360"/>
            <a:ext cx="4897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43480" y="2498760"/>
            <a:ext cx="318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92360" y="549360"/>
            <a:ext cx="56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660066"/>
                </a:solidFill>
                <a:latin typeface="Arial"/>
              </a:rPr>
              <a:t>晏 子 劝 齐 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419640" y="1773360"/>
            <a:ext cx="4176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们知道他是谁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名叫晏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春秋后期齐国的国相，著名的政治家和外交家。他重视生产，提倡种桑养蚕，反对厚赋、重刑。他爱国忧民，敢于说真话，在诸候和百姓中享有极高的声誉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3419640" cy="568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24360" y="476280"/>
            <a:ext cx="37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人物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3120" y="90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5600" y="2602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765000"/>
            <a:ext cx="82296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滴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（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（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1844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349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雨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184464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枯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349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干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4005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灌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4508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浇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32360" y="4076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灌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3943440" cy="2852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76720" y="3789360"/>
            <a:ext cx="3943440" cy="2852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3448080"/>
            <a:ext cx="5105520" cy="3409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524480" y="0"/>
            <a:ext cx="46195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848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143240" y="3162240"/>
            <a:ext cx="50007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写一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决 ：决心  决定         劝：劝导  劝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饿 ：饥饿  饿死         枯：枯黄  枯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稼 ：庄稼                  谁：找谁  是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猜  字  谜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棵古树。枯　枯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给枯换偏旁：古　故　姑　固　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换了偏旁的字和枯字在读音上有什么不同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156360" y="404640"/>
            <a:ext cx="1967040" cy="3279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43280" y="3213000"/>
            <a:ext cx="172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3789360"/>
            <a:ext cx="3671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4797360"/>
            <a:ext cx="7561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58920" y="1700280"/>
            <a:ext cx="6913440" cy="33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Arial"/>
              </a:rPr>
              <a:t>滴     枯      灌     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Arial"/>
              </a:rPr>
              <a:t>决     劝      饿     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Arial"/>
              </a:rPr>
              <a:t>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404640"/>
            <a:ext cx="33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我会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5-03T05:09:2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