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1A2-401C-4AF8-8AB7-D4974BE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DA3-A933-4B54-B188-830135E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ED6-1718-43CB-92C9-71127E99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205-3A73-45D3-9B49-FFC787B8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4789-CD9D-4F59-99A4-3DF24AE4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F70C-0511-47E4-9A60-B264394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050-AEF3-46C0-B31A-8BB89D6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604-6ECD-4E18-969C-357C4041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8225-0A05-40F3-BA34-47BC0D9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AF7-4DCD-474A-B1E1-794D6BA7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CD50-3841-4246-836D-F6F76E34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9DF-FA08-4F59-8784-3C75E394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C203-5490-4FB4-9963-E83F610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6D5-8D19-4DF2-8157-2E43839F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E6D1-CCCA-4B39-A97E-474A1CE5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594-C5FC-4CB3-89B9-40E9A7D2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62AA-89F2-4D50-BC6A-81E6BEED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448F-4551-45EA-B7F7-32EF4CA2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E130-AFF6-43EE-A629-F46E501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6226-EB80-4CE7-A1A6-784425C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0212-3C8A-412F-BAFF-016B4C29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E4B4-AE89-4D5F-8C18-9494C950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247-C16E-4226-9C20-AC9A1A6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4183-6D9A-4AA3-A4D6-AF47F97B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1BE1-5C00-445B-A084-F458F5E3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8E5F-0099-4E7E-BAD3-DD25C73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CF3C-F672-429D-A701-EADD89E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E6E0-76C9-4312-A0BE-C56FC9F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5376-6F3F-4A14-B760-BBE8AA3D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4B0A-75A6-4438-8152-0224872E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6A02-B5F9-42E0-91F6-65CAEF4B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0CB8-AC48-455A-AB4B-98AF4E8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855A-000A-4488-9901-80F2C97B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A0C-5B42-4847-8C00-0BEE7BB1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6C91A-DB66-4E88-A04C-38AB42F6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DA14-D5DE-4C0D-87E1-689C791C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5780-5FA3-4542-939F-6101EE79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5B0A-4ACC-402C-93D9-3B2ED0B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BE3CB-73EB-48A2-B78B-0507062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AC48-C985-4612-8267-0B5A1CD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5476F-2446-4B4B-93CF-521DBE44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D0A0-FA8E-49ED-AB60-5EA57406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352A-9F8F-44D7-8769-28D7A1A7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7240-9018-4513-9790-272F479A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D07-BD16-43BD-A872-92231D66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811E-483E-4CD4-ABC4-0DE3639A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E873-25B1-4B92-828C-3AE9FAB6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65C55-8346-4810-8A4C-B47ADD88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7585-B74F-45FE-906B-ABF0EA75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90BF-01AE-40FA-AAE8-4927C35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C0A5-A11D-4565-B3A9-257C2D0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F3D4-BDDD-42D2-AD31-696ED5D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C7D7-B394-4D36-A651-2CFC157D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1A29-ABA2-4849-8260-4564E64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C633-7C3D-4773-B8DE-5D4ED2AA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D86-FA9B-411E-9DCB-0DF04C9F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EDEF-F317-4E96-A1CB-A4186C49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EAE49-D0C2-4928-AD7C-23220028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445F5-F7C9-4639-81E2-DCBCB714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A6D2-555B-455E-BB05-EF2C2FA4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68717-1DF4-424D-9ED7-0A1CE89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A533-B41E-4C1E-B12B-D0648A40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84BD7-20F4-4968-B021-43255AD1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D29C-0DEB-4654-BE65-4B1A029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2452-84A6-47A4-9123-6F07CB1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4B16-BC2B-458E-96A1-037F779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590-A2EE-4ACE-8C7B-31931D3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489F1-AE3B-4A82-9208-A65C3F44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9A3DA-89AD-4E5B-A949-134469EB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E9F0-5163-4B20-A1FB-858C00E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DA54-8C95-4102-8CD8-E8F3565E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BC3BF-76AB-42E0-BC96-FB0E2AC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0313-2DC3-4849-BC80-92982B5B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7CD03-61C9-4963-99E7-4430059E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BF29-B9F2-487D-B75E-D43BA00A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E78C-9D05-4B03-B0C9-141B1E8F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36C2B-9423-4955-BB9A-8064F20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204-8C76-46C8-94CE-098BE18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C8EF-652E-4CE1-B2FA-4745155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F65F-8E05-49C0-89D1-42D23A2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F834-A221-4081-AB91-DE2ED39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D20E-0A58-44DC-A4F2-A5691DA3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796C2-66A3-4453-9366-14F82B1F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7F9-8549-4156-A98F-C5BB1D53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1663-3288-4D76-84FE-5B04014E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474920" cy="1828440"/>
            <a:chOff x="0" y="0"/>
            <a:chExt cx="1474920" cy="18284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74920" cy="9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952920"/>
              <a:ext cx="1474920" cy="87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447920" y="0"/>
            <a:ext cx="7696080" cy="18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704000" y="5029200"/>
            <a:ext cx="14400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DFD-6322-4BE3-8B8D-EDCED6C90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3B44-9A18-40B2-A476-F50EA354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FE9A-4A32-4BAF-B91C-266B3DC93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8B84-A561-4440-B34A-E698B0D7B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7841-35FB-4D55-86B7-9551AECE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60B-B91C-42AB-80DE-D8FF0AC6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824040" y="981000"/>
            <a:ext cx="7277040" cy="23781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119700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黑体"/>
                <a:ea typeface="黑体"/>
              </a:rPr>
              <a:t>22 </a:t>
            </a: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猴子种果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8380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改写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：  梨树要等五年才能结果，你有这个耐心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梨树要等五年才能结果，  你没有这个耐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树四年才能结果，你能等得及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桃树再短也得三年才结果，你不着急吗？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8560" y="1916280"/>
            <a:ext cx="585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梨树        杏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桃树      樱桃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18400" y="2133720"/>
            <a:ext cx="293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猴子种了一棵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苗，天天浇水、施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等着将来吃梨子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18400" y="2133720"/>
            <a:ext cx="293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猴子种了一棵梨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苗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天天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浇水、施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等着将来吃梨子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6560" y="1628640"/>
            <a:ext cx="322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读一读文中的对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画一画猴子的表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想一想猴子的特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26828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正当梨树成活的时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一只乌鸦“哇哇”地对猴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说：“猴哥，猴哥，你怎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种梨树呢？有句农谚，‘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五杏四’。梨树要等五年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能结果，你有这个耐心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133720" y="17524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是农民从长期生产实践中总结出来的经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33526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幼圆"/>
              </a:rPr>
              <a:t>梨树苗种后五年结果，杏树苗种后四年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18680" y="1752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幼圆"/>
              </a:rPr>
              <a:t>农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26760" y="3336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幼圆"/>
              </a:rPr>
              <a:t>梨五杏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87280" y="1268280"/>
            <a:ext cx="72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正当梨树成活的时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一只乌鸦“哇哇”地对猴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说：“猴哥，猴哥，你怎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种梨树呢？有句农谚，‘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五杏四’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梨树要等五年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能结果，你有这个耐心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19280" y="2494080"/>
            <a:ext cx="50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猴子是怎样种果树？结果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666720"/>
            <a:ext cx="9685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当梨树成活的时候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只乌鸦“哇哇”地对猴子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猴哥， 猴哥，你怎么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梨树呢？有句农谚说：‘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五杏四’。梨树要等五年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结果，你有这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耐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吗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31680" y="1341360"/>
            <a:ext cx="899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设问：在哪些方面可以用耐心这个词语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写作业需要耐心；事情多而杂的时候，需要耐心；我们学本领的时候需要耐心。如：我们学弹琴的时候，要有耐心才学得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请同学们仿照这句用耐心说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82080" y="1687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子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70720" y="2820960"/>
            <a:ext cx="51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       ）在耐心地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2133720"/>
            <a:ext cx="727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五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太长，我可等不及。”于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就拔掉梨树，改种杏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52360" y="260280"/>
            <a:ext cx="777420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763640" y="1270080"/>
            <a:ext cx="5415120" cy="4330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rcRect l="24071" t="37800" r="0" b="0"/>
          <a:stretch/>
        </p:blipFill>
        <p:spPr>
          <a:xfrm>
            <a:off x="3635280" y="3068640"/>
            <a:ext cx="4608720" cy="2886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8120" y="1749600"/>
            <a:ext cx="564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620640"/>
            <a:ext cx="698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用自己喜欢的方式自由读四至八自然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思考猴子又听了谁的话？它们分别是怎样说的？猴子是怎么想的？怎么做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3480" y="-23760"/>
            <a:ext cx="9137880" cy="6853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39640" y="1125360"/>
            <a:ext cx="79059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了（        ）说的农谚（                 ），猴子知道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果的时间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长，于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拔掉（          ），改种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了（        ）说的农谚（                 ），猴子知道（         ）结果的时间比（         ）长，于是就拔掉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），改种（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1917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杏四桃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00360" y="26384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杏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19640" y="2997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6000" y="342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杏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95640" y="357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00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杜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03640" y="40784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桃三樱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50920" y="4510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45080" y="4581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樱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08360" y="50864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44720" y="5445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樱桃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66920" y="1844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喜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900000" y="1628640"/>
            <a:ext cx="660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这真是一只（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没有主见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）的猴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五年太长，我可等不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四年太长，我也等不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三年也太长，我还是等不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1341360"/>
            <a:ext cx="75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五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年太长，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可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等不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四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年太长，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也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等不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猴子一想：“对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三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年也太长，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还是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等不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00000" y="1628640"/>
            <a:ext cx="660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这真是一只（   没有耐心 ）的猴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1773360"/>
            <a:ext cx="3888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黑体"/>
              </a:rPr>
              <a:t>读准字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黑体"/>
              </a:rPr>
              <a:t>读通句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黑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5415120" cy="4330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24071" t="37800" r="0" b="0"/>
          <a:stretch/>
        </p:blipFill>
        <p:spPr>
          <a:xfrm>
            <a:off x="3635280" y="3068640"/>
            <a:ext cx="4608720" cy="2886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878120" y="1749600"/>
            <a:ext cx="5646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1773360"/>
            <a:ext cx="52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这真是一只既没有（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主见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）又没有（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耐心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）的猴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4000" y="2637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做什么事都要有耐心、有主见、开动脑筋，这样才能把一件事做好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-1778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419640" y="404280"/>
            <a:ext cx="525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这个童话故事告诉我们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做事要有耐心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有主见</a:t>
            </a: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不能急于求成，否则会一事无成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4720" y="1916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270828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1280" y="3573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24360" y="42926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16000" y="2060640"/>
            <a:ext cx="64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浇    施    肥    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耐   拔   改   喜   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5224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98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442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584676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1187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2411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36860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003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6227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2060640"/>
            <a:ext cx="64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浇    施    肥    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耐   拔   改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喜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  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5224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98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42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84676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187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2411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36860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5003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6227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6000" y="2060640"/>
            <a:ext cx="64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浇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   施    肥    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耐   拔   改   喜   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5224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98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42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84676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187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2411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6860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5003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6227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16000" y="2060640"/>
            <a:ext cx="64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浇    施    肥    哇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耐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拔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  改   喜   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5224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298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42764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846760" y="1989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1187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41128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6860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5003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6227640" y="3645000"/>
          <a:ext cx="1008000" cy="10350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13680">
                      <a:solidFill>
                        <a:srgbClr val="6600ff"/>
                      </a:solidFill>
                    </a:lnT>
                    <a:lnB w="5760">
                      <a:solidFill>
                        <a:srgbClr val="66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ff"/>
                      </a:solidFill>
                    </a:lnL>
                    <a:lnR w="576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ff"/>
                      </a:solidFill>
                    </a:lnL>
                    <a:lnR w="13680">
                      <a:solidFill>
                        <a:srgbClr val="6600ff"/>
                      </a:solidFill>
                    </a:lnR>
                    <a:lnT w="5760">
                      <a:solidFill>
                        <a:srgbClr val="6600ff"/>
                      </a:solidFill>
                    </a:lnT>
                    <a:lnB w="13680">
                      <a:solidFill>
                        <a:srgbClr val="66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6640" y="1413000"/>
            <a:ext cx="7221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左窄右宽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种   浇   施   肥   拔   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上下结构：喜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4360" y="549360"/>
            <a:ext cx="7773840" cy="58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5256360" cy="468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84360" y="549360"/>
            <a:ext cx="7773840" cy="58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18472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54936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zhòng jiāo  shī   fé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种      浇     施     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nài xiǎng bá  gǎi  x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</a:rPr>
              <a:t>耐    想    拔    改   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6720" y="836640"/>
            <a:ext cx="71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放飞想象，拓展思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小猴子接受了经验教训，第二年它又开始种树。乌鸦看见了飞过来劝它。如果你是小猴子，会怎么说？怎么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3880" y="1413000"/>
            <a:ext cx="76028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种　浇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施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   肥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　耐    想　拔    改    喜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　　谚　鹊 　喳    樱　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5520" y="1413000"/>
            <a:ext cx="76024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种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　浇    施    肥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　耐    想　拔    改    喜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  <a:ea typeface="楷体_GB2312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　　谚　鹊 　喳    樱　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6320" y="17002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耐心    浇水    拔掉    施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喜鹊    樱桃    哇哇    改种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不着急            等不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40760" y="1044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32720" y="836640"/>
            <a:ext cx="668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梨五杏四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杏四桃三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桃三樱二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樱桃好吃树难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哇哇     喳喳     咕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4360" y="404640"/>
            <a:ext cx="777384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0720" y="2173320"/>
            <a:ext cx="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74320" y="692280"/>
            <a:ext cx="6349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梨树要等五年才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结果，你有这个耐心吗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“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杏树四年才能结果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你能等得及吗？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“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种桃树再短也得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楷体_GB2312"/>
              </a:rPr>
              <a:t>年才结果，你不着急吗？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4:38:49Z</dcterms:created>
  <dc:creator>微软用户</dc:creator>
  <dc:description/>
  <dc:language>en-US</dc:language>
  <cp:lastModifiedBy>lr</cp:lastModifiedBy>
  <cp:lastPrinted>1899-12-30T00:00:00Z</cp:lastPrinted>
  <dcterms:modified xsi:type="dcterms:W3CDTF">2007-10-28T03:43:09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