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ADF-3C89-4182-82F1-903E0367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C8F-7C3B-4F6B-945C-F56ADD51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F30-704E-46C1-BDCD-BCA114D7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E32-44F8-4B7C-93AE-22E0298F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7E3-3007-4A5F-B0C5-12E7B1A3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165-4E12-4450-805F-D2DBBF6A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DA0-B4C0-42C2-A1BE-AFC7F30D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75F-724B-4CA3-94FF-4C879CC0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AAE-512D-48CA-A84A-926DA17B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788-975C-4D78-8AA4-C888F99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CE1-6261-4D2C-8FD4-8ADB2E8F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C81-4F1C-47AA-B4A9-BE524773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4CDE-79B5-4EED-BEBD-F25AEB511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-27000"/>
            <a:ext cx="9107280" cy="6648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24360" y="3429000"/>
            <a:ext cx="341964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403280" y="1628640"/>
            <a:ext cx="561672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19</a:t>
            </a: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、爱发脾气的孩子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满不在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形容对事情一点也不重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近义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漫不经心、无动于衷、若无其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义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郑重其事</a:t>
            </a:r>
            <a:br>
              <a:rPr sz="3200"/>
            </a:br>
            <a:br>
              <a:rPr sz="3200"/>
            </a:b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读出“满不在乎”的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00000" y="1700280"/>
            <a:ext cx="7848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自读课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-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小组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爸为什么要交给他钉子和锤子，让他发脾气时往木桩上钉钉子，道歉了再拔出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9079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小组合作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1628640"/>
            <a:ext cx="8280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一天，爸爸交给他一盒钉子和一把锤子，然后把他领到院子里的一个木桩前，说：“下次你再要发脾气，就往这个木桩上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钉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一颗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钉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子，等你想道歉了，再把这颗钉子拔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男孩不理解爸爸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用意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，不过还是点点了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84200" y="365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4941720"/>
            <a:ext cx="41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860640"/>
            <a:ext cx="70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284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三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914544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理解爸爸的用意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为什么小男孩还是点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注意多音字：钉一颗钉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īng          d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孩儿在木桩上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ì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了一颗钉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īn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1125360"/>
            <a:ext cx="856908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快，爸爸看到木桩上钉了很多钉子。过了一段时间，爸爸发现新钉的钉子少了，开始有了拔出钉子留下的洞。到后来，几个星期才有一颗新钉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提示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画出这一段中表示时间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木桩上的钉子有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这些变化有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4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14880" y="14130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91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242100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242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小组讨论：男孩为什么不需要钉子和锤子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765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小组合作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8000" y="1628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终于有一天，男孩儿来到爸爸面前，把当初爸爸交给他的钉子和锤子还给了爸爸。他说：“爸爸，我已经不需要这些东西了，我现在可以控制自己，不再乱发脾气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87280" y="765000"/>
            <a:ext cx="72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66cc"/>
                </a:solidFill>
                <a:latin typeface="Arial"/>
              </a:rPr>
              <a:t>爸爸让男孩儿讲一讲原因。男孩儿说：“当我拔出第一颗钉子的时候，看到一个那么深的洞，再也填不平，我的心受到很大的震动。以后每钉一颗钉子，我心里都非常难受，因为我知道，这又是一个无法填平的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87640" y="386064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3860640"/>
            <a:ext cx="14472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508464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5084640"/>
            <a:ext cx="14472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93080" y="508464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08464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443700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43700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443700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443700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小组讨论：男孩为什么不需要钉子和锤子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765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小组合作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292428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他说：“爸爸，我已经不需要这些东西了，我现在可以控制自己，不再乱发脾气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682920" y="33300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小组合作学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179640" y="1341360"/>
            <a:ext cx="90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我拔出第一颗钉子的时候，看到一个那么深的洞，再也填不平，我的心受到很大的震动。以后每钉一颗钉子，我心里都非常难受，因为我知道，这又是一个无法填平的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65720"/>
            <a:ext cx="558000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理解：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、男孩的心为什么受到很大的震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、一个无法填平的洞指得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6093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无法抚平的伤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4000" y="260280"/>
            <a:ext cx="2340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词语草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557360"/>
            <a:ext cx="8964720" cy="55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í qì       yù dào     shāo wēi     dào qiàn       pī p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脾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气   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遇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到    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稍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微     道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歉 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批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ch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í zi   mù zhuāng   dāng chū   kòng zhì   tián p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锤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子   木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桩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  当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初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控制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填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èn dòng  dìng dīng 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震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动     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钉钉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065840" y="1844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议一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278136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18e8"/>
                </a:solidFill>
                <a:latin typeface="Arial"/>
                <a:ea typeface="华文彩云"/>
              </a:rPr>
              <a:t>平时你有没有遇到不顺心的时候就发脾气？学习了这篇课文之后，今后你应该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260280"/>
            <a:ext cx="2340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词语草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557360"/>
            <a:ext cx="8964720" cy="56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脾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气   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遇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到    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稍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微     道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歉 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批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锤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子   木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桩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  当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初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控制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填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震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动     </a:t>
            </a:r>
            <a:r>
              <a:rPr b="0" lang="zh-CN" sz="3600" spc="-1" strike="noStrike">
                <a:solidFill>
                  <a:srgbClr val="e70f0f"/>
                </a:solidFill>
                <a:latin typeface="幼圆"/>
                <a:ea typeface="幼圆"/>
              </a:rPr>
              <a:t>钉钉</a:t>
            </a: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88000" y="3645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554040" y="2142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琥珀"/>
                <a:ea typeface="华文琥珀"/>
              </a:rPr>
              <a:t>我会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3645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643280" y="148428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771640" y="3645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627280" y="1484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588000" y="148428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755640" y="148428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184464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60720" y="1916280"/>
            <a:ext cx="12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1844640"/>
            <a:ext cx="12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93080" y="191628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4076640"/>
            <a:ext cx="144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07664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407664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407664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01680" y="3054240"/>
            <a:ext cx="106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医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后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529740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错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2640" y="3110040"/>
            <a:ext cx="106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顺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顺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2640" y="5334120"/>
            <a:ext cx="130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51680" y="3094200"/>
            <a:ext cx="106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图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钉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6520" y="3094200"/>
            <a:ext cx="106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经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81840" y="5318280"/>
            <a:ext cx="130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接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受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43600" y="5318280"/>
            <a:ext cx="130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难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907920"/>
            <a:ext cx="80661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会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ī  yuàn         shùn   li             jiě  f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)        (            )            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án  shòu       yǐ    jīng           tú   d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)       (            )            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   颗        段        个        头      把      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（    ）星星     两（    ）星期     三（   ）锤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（   ）钉子      一（    ）时间     五（   ）大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2205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医 院             顺 利                 解 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350028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357336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50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难  受            已  经                图  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486900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869000"/>
            <a:ext cx="11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4724280"/>
            <a:ext cx="6985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颗                        个                       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盒                        段                       头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40464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小组合作学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68280"/>
            <a:ext cx="9325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自读课文第一自然段，小组讨论：为什么把那个男孩叫做爱发脾气的孩子？画出相关词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满不在乎”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用“满不在乎”说一句话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一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7632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有个男孩儿，脾气很不好，不管遇到什么事，只要稍有不顺心，就大发雷霆。虽然事情过后，他也能认识到自己错误，向别人道歉，但是，他的朋友还是越来越少。爸爸对他的这个缺点提出了批评，他却满不在乎地说：“我不是已经道歉了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6520" y="1685880"/>
            <a:ext cx="763272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有个男孩儿，脾气很不好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不管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遇到什么事，只要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稍有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不顺心，就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大发雷霆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。虽然事情过后，他也能认识到自己错误，向别人道歉，但是，他的朋友还是越来越少。爸爸对他的这个缺点提出了批评，他却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满不在乎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地说：“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我不是已经道歉了吗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9240" y="1670040"/>
            <a:ext cx="763236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有个男孩儿，脾气很不好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不管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遇到什么事，只要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稍有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不顺心，就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大发雷霆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。虽然事情过后，他也能认识到自己错误，向别人道歉，但是，他的朋友还是越来越少。爸爸对他的这个缺点提出了批评，他却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满不在乎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地说：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不是已经道歉了吗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050560" y="620640"/>
            <a:ext cx="709308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反问句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我不是已经道歉了吗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陈述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我已经道歉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哪句好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3838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发雷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喻大发脾气，大声斥责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【近义词】：勃然大怒、暴跳如雷、怒形于色、怒不可遏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【反义词】：平心静气、心平气和、和颜悦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1:38:11Z</dcterms:created>
  <dc:creator>HP</dc:creator>
  <dc:description/>
  <dc:language>en-US</dc:language>
  <cp:lastModifiedBy>微软用户</cp:lastModifiedBy>
  <dcterms:modified xsi:type="dcterms:W3CDTF">2015-07-09T01:11:20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