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3.png" ContentType="image/png"/>
  <Override PartName="/ppt/media/image6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chimes.wav" ContentType="audio/x-wav"/>
  <Override PartName="/ppt/media/image16.png" ContentType="image/pn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A04F-1E99-429C-87B9-CC1A9B868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5E48-98F5-4D3E-851E-2F145DB5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1CF3-209E-40A9-ABAE-98A9D19C8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CF2A-13DC-4C00-A2C6-4BE706EBB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3CFA-4F28-430F-95B0-291F814A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CF21-B8D3-4957-B46A-6E311A44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515A-78D2-4F69-9D0B-B964FA5B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AB54-7922-45FB-BA54-C9947137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2087-1616-4026-B3B5-1E2A1B54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117C-CF2E-461D-A017-4CA1CFFF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75B1-8A37-43E0-920A-28FEE456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929F-2CDA-4F18-AE8C-7877EFCD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F4D1-E340-49B8-BCDA-D91CC81EBE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5.png"/><Relationship Id="rId3" Type="http://schemas.openxmlformats.org/officeDocument/2006/relationships/image" Target="../media/image11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7.jpeg"/><Relationship Id="rId3" Type="http://schemas.openxmlformats.org/officeDocument/2006/relationships/image" Target="../media/image16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8.jpe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371600" y="1219320"/>
            <a:ext cx="62485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语文百花园八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427800" y="1522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一起读古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88000" y="1052640"/>
            <a:ext cx="410508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所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【清】 袁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牧童骑黄牛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歌声振林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意欲捕鸣蝉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忽然闭口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24000" y="533520"/>
            <a:ext cx="4503600" cy="61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81080" y="1413000"/>
            <a:ext cx="4896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牧童骑黄牛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歌声振林樾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意欲捕鸣蝉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忽然闭口立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2468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放牛的儿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00400" y="36576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传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3657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树林中的阴凉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49068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心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52680" y="48769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095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闭着嘴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28728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     </a:t>
            </a:r>
            <a:r>
              <a:rPr b="0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所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—</a:t>
            </a:r>
            <a:r>
              <a:rPr b="0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清  袁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286000" y="2362320"/>
            <a:ext cx="914400" cy="228600"/>
            <a:chOff x="2286000" y="2362320"/>
            <a:chExt cx="914400" cy="228600"/>
          </a:xfrm>
        </p:grpSpPr>
        <p:sp>
          <p:nvSpPr>
            <p:cNvPr id="94" name=""/>
            <p:cNvSpPr/>
            <p:nvPr/>
          </p:nvSpPr>
          <p:spPr>
            <a:xfrm>
              <a:off x="2286000" y="236232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71800" y="236232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657600" y="358128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343400" y="3581280"/>
            <a:ext cx="990720" cy="228600"/>
            <a:chOff x="4343400" y="3581280"/>
            <a:chExt cx="990720" cy="228600"/>
          </a:xfrm>
        </p:grpSpPr>
        <p:sp>
          <p:nvSpPr>
            <p:cNvPr id="98" name=""/>
            <p:cNvSpPr/>
            <p:nvPr/>
          </p:nvSpPr>
          <p:spPr>
            <a:xfrm>
              <a:off x="4343400" y="358128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05520" y="358128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286000" y="4800600"/>
            <a:ext cx="914400" cy="228600"/>
            <a:chOff x="2286000" y="4800600"/>
            <a:chExt cx="914400" cy="228600"/>
          </a:xfrm>
        </p:grpSpPr>
        <p:sp>
          <p:nvSpPr>
            <p:cNvPr id="101" name=""/>
            <p:cNvSpPr/>
            <p:nvPr/>
          </p:nvSpPr>
          <p:spPr>
            <a:xfrm>
              <a:off x="2286000" y="480060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71800" y="480060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657600" y="5943600"/>
            <a:ext cx="914400" cy="228600"/>
            <a:chOff x="3657600" y="5943600"/>
            <a:chExt cx="914400" cy="228600"/>
          </a:xfrm>
        </p:grpSpPr>
        <p:sp>
          <p:nvSpPr>
            <p:cNvPr id="104" name=""/>
            <p:cNvSpPr/>
            <p:nvPr/>
          </p:nvSpPr>
          <p:spPr>
            <a:xfrm>
              <a:off x="3657600" y="594360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43400" y="594360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343400" y="4800600"/>
            <a:ext cx="914400" cy="228600"/>
            <a:chOff x="4343400" y="4800600"/>
            <a:chExt cx="914400" cy="228600"/>
          </a:xfrm>
        </p:grpSpPr>
        <p:sp>
          <p:nvSpPr>
            <p:cNvPr id="107" name=""/>
            <p:cNvSpPr/>
            <p:nvPr/>
          </p:nvSpPr>
          <p:spPr>
            <a:xfrm>
              <a:off x="4343400" y="480060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29200" y="480060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657600" y="48006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05520" y="601992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49528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正在鸣叫的知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61722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站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905120" y="2362320"/>
            <a:ext cx="617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森 林 服 装 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4800600" y="56386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城北完小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蒋玉秀改编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6567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09480" y="152280"/>
            <a:ext cx="8077320" cy="6577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990720" y="127080"/>
            <a:ext cx="716256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33920" cy="2798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666880" y="2286000"/>
            <a:ext cx="3657600" cy="2978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943600" y="3917880"/>
            <a:ext cx="320040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62120" y="4952880"/>
            <a:ext cx="8915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家好，欢迎光临森林服装店！这里的服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各式各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有                       ，有                        ， 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                     。相信您一定能买到满意的服装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48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943600" y="60958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0958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670572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4214880"/>
            <a:ext cx="1600200" cy="14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495680" y="1752480"/>
            <a:ext cx="1295640" cy="9590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 flipH="1">
            <a:off x="-2438640" y="3733920"/>
            <a:ext cx="1995480" cy="2214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C 0.00278 0.06597 0.01094 0.15833 0.0408 0.15694 C 0.08299 0.15694 0.08629 -0.15209 0.13716 -0.15278 C 0.18264 -0.15278 0.15834 0.11689 0.20243 0.11574 C 0.24844 0.11574 0.22414 -0.07987 0.27309 -0.07987 C 0.31719 -0.07987 0.29306 0.05231 0.33195 0.05231 C 0.3698 0.05231 0.35035 -0.04885 0.38473 -0.04885 C 0.40452 -0.04885 0.40591 -0.0213 0.40834 4.44444E-006 E">
                                      <p:cBhvr>
                                        <p:cTn id="208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6000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狐狸太太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问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这有我能穿的衣服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②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狐狸太太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看我又矮又胖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这有适合我穿的衣服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③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狐狸太太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这有肥点的衣服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④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狐狸太太您这有没有宽松一点的衣服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 rot="21333600">
            <a:off x="5030640" y="2592000"/>
            <a:ext cx="1882800" cy="2092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577 0.03287 C -0.08872 0.02754 -0.09185 0.02407 -0.09428 0.01898 C -0.10018 0.0074 -0.0941 0.01388 -0.1 0.00509 C -0.10226 0.00115 -0.10799 -0.00602 -0.10799 -0.00579 C -0.10886 -0.00903 -0.10938 -0.01274 -0.11077 -0.01459 C -0.11337 -0.0176 -0.11893 -0.01945 -0.11893 -0.01922 C -0.1382 -0.01852 -0.15209 -0.01945 -0.1691 -0.00903 C -0.17865 0.02037 -0.17344 -0.00139 -0.17605 0.04652 C -0.17639 0.05324 -0.17917 0.06875 -0.18004 0.07407 C -0.18056 0.07708 -0.18143 0.0824 -0.18143 0.08263 C -0.18438 0.16875 -0.17292 0.14976 -0.1882 0.17083 C -0.19428 0.16689 -0.19862 0.1581 -0.20469 0.15439 C -0.21407 0.13518 -0.20955 0.14189 -0.21685 0.13194 C -0.21771 0.12939 -0.21841 0.12592 -0.21945 0.12384 C -0.22066 0.12129 -0.22257 0.1206 -0.22362 0.11828 C -0.2257 0.11319 -0.22744 0.10717 -0.229 0.10162 C -0.23073 0.09652 -0.23403 0.09537 -0.23612 0.09074 C -0.24115 0.078 -0.2474 0.06805 -0.25487 0.06296 C -0.2625 0.06412 -0.28212 0.06203 -0.29028 0.07129 C -0.29497 0.07662 -0.30139 0.09004 -0.30678 0.09375 C -0.30938 0.0956 -0.31476 0.09884 -0.31476 0.09907 C -0.31841 0.1199 -0.31337 0.09467 -0.32032 0.1125 C -0.32223 0.11713 -0.32223 0.12384 -0.3231 0.12939 C -0.32344 0.1449 -0.32344 0.16064 -0.32431 0.17615 C -0.32518 0.19074 -0.32813 0.19814 -0.32813 0.21273 E">
                                      <p:cBhvr>
                                        <p:cTn id="216" dur="1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" dur="6000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55640" y="907920"/>
            <a:ext cx="182880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创设情境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1981080"/>
            <a:ext cx="63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同学们，百花园今天又为我们敞开了大门，快进来看看。老师知道，认真观察、善于思考问题的同学，总能收获到很多的知识，老师期待着大家的精彩表现。来吧，咱们先到语海中畅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495680" y="1752480"/>
            <a:ext cx="1311480" cy="936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62120" y="685800"/>
            <a:ext cx="3276360" cy="1600200"/>
          </a:xfrm>
          <a:prstGeom prst="cloudCallout">
            <a:avLst>
              <a:gd name="adj1" fmla="val 59546"/>
              <a:gd name="adj2" fmla="val 563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8380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猜一猜，还有谁也在森林服装店买了什么服装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62120" y="2666880"/>
            <a:ext cx="2400120" cy="34862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495680" y="1752480"/>
            <a:ext cx="1311480" cy="936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895480" y="2971800"/>
            <a:ext cx="14130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斑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梅花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青蛙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08240" y="479520"/>
            <a:ext cx="306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2209680"/>
            <a:ext cx="181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黑白相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22560" y="4495680"/>
            <a:ext cx="21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  <a:ea typeface="楷体_GB2312"/>
              </a:rPr>
              <a:t>绿色黑条纹的外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97840" y="33526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  <a:ea typeface="楷体_GB2312"/>
              </a:rPr>
              <a:t>棕黄色小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6320" y="644400"/>
            <a:ext cx="87627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狐狸先生给青蛙哥哥挑选了一件（     ）的衣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152280" y="2362320"/>
            <a:ext cx="914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狐狸先生给（     ）的斑马叔叔挑选的是一件（     ）的西装。他穿上这件西装，就像（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152280" y="4226040"/>
            <a:ext cx="9144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      ）的梅花鹿小姐买到了一条（      ）的（      ），穿上真像（      ），她的心里（       ）。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95280" y="1784880"/>
            <a:ext cx="6782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选择你喜欢的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一种动物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把它买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服的故事写下来。把句子写通顺，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清楚，根据需要用上   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，。？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8120" y="160020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6480">
                  <a:solidFill>
                    <a:srgbClr val="ffcc99"/>
                  </a:solidFill>
                  <a:miter/>
                </a:ln>
                <a:gradFill rotWithShape="0">
                  <a:gsLst>
                    <a:gs pos="0">
                      <a:srgbClr val="000082">
                        <a:alpha val="95294"/>
                      </a:srgbClr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明确要求：</a:t>
            </a:r>
            <a:endParaRPr b="0" i="1" lang="en-US" sz="1800" spc="1" strike="noStrike">
              <a:ln w="6480">
                <a:solidFill>
                  <a:srgbClr val="ffcc99"/>
                </a:solidFill>
                <a:miter/>
              </a:ln>
              <a:gradFill rotWithShape="0">
                <a:gsLst>
                  <a:gs pos="0">
                    <a:srgbClr val="000082">
                      <a:alpha val="95294"/>
                    </a:srgbClr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170496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4640400" cy="60958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85800" y="546120"/>
            <a:ext cx="2286000" cy="549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7238880" y="4038480"/>
            <a:ext cx="1131840" cy="2438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4800600" y="3657600"/>
            <a:ext cx="2057400" cy="28004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>
            <a:lum bright="6000"/>
          </a:blip>
          <a:srcRect l="0" t="0" r="30006" b="1957"/>
          <a:stretch/>
        </p:blipFill>
        <p:spPr>
          <a:xfrm>
            <a:off x="2286000" y="2514600"/>
            <a:ext cx="588960" cy="6094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4648320" y="457200"/>
            <a:ext cx="4267080" cy="31431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7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312843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14400" y="609480"/>
            <a:ext cx="723888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狐狸大婶在森林里开了一家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服装店里的服装各式各样：有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有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还有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听说了这件事，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地来到服装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狐狸大婶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地说：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地说：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买到了一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衣服                  地离开了 。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403848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449568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95288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00400" y="5334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52880" y="53341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5334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5334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（谁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53020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（什么样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52680" y="8380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森 林 服 装 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19320" y="350532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谁 怎么样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52880" y="5334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（怎么样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170496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森林服装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  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青蛙听说伙伴们在林中的森林服装店都买到了满意的服装，它也决定去看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 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青蛙一蹦一跳地来到了森林服装店。店主是狐狸大婶，青蛙一进门，狐狸大婶就迎上去说：“欢迎光临，请问你需要什么？”青蛙说：“我想挑一件和我肤色一样的衣裳。”狐狸大婶挑了一件黑绿相间的休闲装，说：“你看这件还满意吗？”青蛙试了试，正好合身，又在镜子跟前转了几圈，便高兴地说：“好，就买这件！能打折吗？”狐狸大婶：“我的新店开张，八折优惠！我给你包上吧！”青蛙说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“我穿上吧。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  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青蛙刚出门，梅花鹿和斑马就进了门，梅花鹿挑了件金黄色的衬衣，斑马则买了一套带黑色条纹的白西装。好友们听了青蛙、梅花鹿和斑马的介绍，也决定去森林服装店看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天，狐狸大婶又迎来了一批新顾客，森林服装店的生意更加红火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60948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森林服装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森林里有一个森林服装店，里面的衣服各式各样，店主是性格温和、热情的狐狸太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晨，梅花鹿小姐来到森林服装店买衣服，店主狐狸太太面带笑容地接待了梅花鹿小姐：“您好，梅花鹿小姐，您要买什么样的衣服呢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要买棕黄色带花朵的衣服，今天晚上我和别人有约会。”梅花鹿小姐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的，”狐狸太太说，“我帮您挑几件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狐狸太太挑了几件漂亮的衣服，对梅花鹿小姐说：“这是今年最流行最时尚的几件衣服了，您看看您喜欢哪件衣服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梅花鹿小姐看了看说：“就这件吧，让我穿穿试试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87631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狐狸太太帮梅花鹿小姐穿上衣服，梅花鹿小姐说：“不错，不大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小正合适，您说呢狐狸太太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狐狸太太说：“梅花鹿小姐您穿上简直是个大美女！您是我今天第一个客人，便宜一点卖给您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梅花鹿小姐说：“谢谢，我一定会向大家告诉您这份热情的，再见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梅花鹿小姐刚走了，斑马先生和可爱的小青蛙也来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斑马先生买的是黑白相间的衣服，他穿上像一个很有风度的绅士呢！而小青蛙呢，他买到的是绿色带   黑条纹的衣服，他穿上就更可爱，更潇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他们都买到了自己喜欢的衣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                                        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读一读，比一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点    一块      针眼       火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320040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一点儿  一块儿  针眼儿  火星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95280" y="838440"/>
            <a:ext cx="640872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ǔ tōnɡ huà zhōnɡ yǒu xǔ duō cí huì de z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普 通 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中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许多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汇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yīn yùn mǔ yīn juǎn shé dònɡ zuò ér fā shēnɡ yī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音 韵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因 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舌 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作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而发 生  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iàn xiàn xiànɡ zhè zhǒnɡ xiàn xiànɡ jiù jiào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zu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变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象，这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种  现  象 就 叫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ér huà   ér huà le de yùn mǔ jiù jiào   ér hu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儿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化。儿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化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韵 母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就 叫“儿 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yùn      qí biāo zhì shì zài yùn mǔ hòu miɑn ji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韵”，其 标 志 是 在 韵母 后 面 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 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r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19320" y="684360"/>
            <a:ext cx="6912000" cy="55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zài pǔ tōnɡ huà zhōnɡ ér huà jù yǒu qū bi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 普 通  话  中，儿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化 具 有 区 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í yì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qū fēn cí xìnɡ de ɡōnɡ nénɡ rú     yì</a:t>
            </a:r>
            <a:r>
              <a:rPr b="0" lang="zh-CN" sz="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iǎ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词义、区 分 词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性 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功  能，如 “一 点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hì zhǐ shí jiān    yì diǎn er    shì shǎo liàn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 指  时 间，“ 一 点 儿” 是“少  量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hǎo xǔ   de yì si  hái yǒu yí lèi ér huà shìbiǎ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少 许”的意 思。还 有 一 类 儿 化 是 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hì xǐ ài  qīn qiè de ɡǎn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qínɡ</a:t>
            </a:r>
            <a:r>
              <a:rPr b="0" lang="zh-CN" sz="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ǎi  rú  liǎn dà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示 喜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爱、亲 切 的 感 情 色 彩。如：脸 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r   huā er  xiǎo hái 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儿、花 儿、小  孩 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iǎo shì shǎo xiǎo qīnɡ děnɡ zhuànɡ tài h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 示  少、小、 轻  等   状  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态 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xìnɡ zhì yě chánɡ chánɡ yònɡ dào ér huà  rú   mǐ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性 质，也  常  常   用 到 儿 化。如：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ì er  mén fènɡ er  dàn huánɡ 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粒儿、门  缝 儿、蛋  黄 儿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76520" y="1066680"/>
            <a:ext cx="55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ǐ  yi  bǐ      xiě yi xi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比一比，写一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93880" y="2205000"/>
            <a:ext cx="155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chá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68400" y="3429000"/>
            <a:ext cx="155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zh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2421000"/>
            <a:ext cx="482436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朝代   唐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朝霞   朝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发                                    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没                                   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137160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81080" y="1219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出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44197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没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3733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淹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19810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理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373392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380988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144792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19920" y="21337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空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43600" y="1371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天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19920" y="46483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落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4038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落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9920" y="3505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丢三落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1295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发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3581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落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0" y="4648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落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没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3733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出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34320" y="4038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着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21337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空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34320" y="1371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空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2057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发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55640" y="836640"/>
            <a:ext cx="59770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jù  zi   yònɡ dài diǎn de  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读句子，用带 点 的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yǔ zào j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语造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826920" y="2887560"/>
            <a:ext cx="590580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站在沙滩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看到一望无际的的大海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绿油油的田野上，一望无际的麦苗在向我们招手，充满生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秋天来了，金黄的田野一望无际，今年又是大丰收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春晚的魔术表演非常神奇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06-11T01:43:37Z</dcterms:modified>
  <cp:revision>3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