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1.png" ContentType="image/png"/>
  <Override PartName="/ppt/media/image8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EC70-BB80-4D6B-B900-07CCDF64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29B9-910B-4EB8-B1D8-2B7EAB5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8CF7-3A1F-453A-9AC8-C938E3DC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E1F-82F0-422F-B7C3-6F205A21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3FA-90CC-4705-AE4A-7F316533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78C-F824-462F-97CD-5DF898AF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C366-61E1-4781-B9EF-35AF6A35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DA9-9554-47CF-84C6-6C256981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C0AB-980C-400F-9899-AED6159F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0C6-68A3-437D-8056-53DCA35E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AF10-6283-4297-BCBB-5905C919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AAD-F45F-48B1-BA0C-4A7FBA93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6DD0-BAD3-4A47-99F7-2D880F25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9.jpeg"/><Relationship Id="rId3" Type="http://schemas.openxmlformats.org/officeDocument/2006/relationships/hyperlink" Target="http://dlzxx.nhedu.net/computer2/upload/2011-03/11032209021933.jpg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0" y="126828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564000" y="476280"/>
            <a:ext cx="2448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蚕姑娘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3456000" cy="3200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81080" y="3718080"/>
            <a:ext cx="4537080" cy="30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494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148360" y="1844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蚕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98040" y="3213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幼蚕（蚁蚕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5877000"/>
            <a:ext cx="56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又黑又小的蚕姑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87280" y="69228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1651" t="58406" r="9109" b="15350"/>
          <a:stretch/>
        </p:blipFill>
        <p:spPr>
          <a:xfrm>
            <a:off x="1042920" y="260280"/>
            <a:ext cx="6985080" cy="268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69800" y="3726000"/>
            <a:ext cx="35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又黄又瘦的蚕姑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点击在新窗口查看全图&#10;CTRL+鼠标滚轮放大或缩小"/>
          <p:cNvPicPr/>
          <p:nvPr/>
        </p:nvPicPr>
        <p:blipFill>
          <a:blip r:embed="rId2"/>
          <a:stretch/>
        </p:blipFill>
        <p:spPr>
          <a:xfrm>
            <a:off x="4356000" y="3068640"/>
            <a:ext cx="4332240" cy="3654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24000" y="3294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971640" y="189000"/>
            <a:ext cx="7129080" cy="3600000"/>
            <a:chOff x="971640" y="189000"/>
            <a:chExt cx="7129080" cy="3600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rcRect l="22508" t="84656" r="7569" b="7984"/>
            <a:stretch/>
          </p:blipFill>
          <p:spPr>
            <a:xfrm>
              <a:off x="971640" y="189000"/>
              <a:ext cx="7129080" cy="81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rcRect l="9109" t="9053" r="10111" b="63660"/>
            <a:stretch/>
          </p:blipFill>
          <p:spPr>
            <a:xfrm>
              <a:off x="971640" y="957600"/>
              <a:ext cx="7129080" cy="283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324000" y="3332160"/>
            <a:ext cx="7848000" cy="3525840"/>
            <a:chOff x="324000" y="3332160"/>
            <a:chExt cx="7848000" cy="3525840"/>
          </a:xfrm>
        </p:grpSpPr>
        <p:pic>
          <p:nvPicPr>
            <p:cNvPr id="117" name="" descr="点击在新窗口查看全图&#10;CTRL+鼠标滚轮放大或缩小"/>
            <p:cNvPicPr/>
            <p:nvPr/>
          </p:nvPicPr>
          <p:blipFill>
            <a:blip r:embed="rId3"/>
            <a:stretch/>
          </p:blipFill>
          <p:spPr>
            <a:xfrm>
              <a:off x="3995640" y="3332160"/>
              <a:ext cx="4176360" cy="35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4000" y="4581360"/>
              <a:ext cx="3671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又白又嫩的蚕姑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300720" y="1052640"/>
            <a:ext cx="2843280" cy="3095640"/>
            <a:chOff x="6300720" y="1052640"/>
            <a:chExt cx="2843280" cy="3095640"/>
          </a:xfrm>
        </p:grpSpPr>
        <p:grpSp>
          <p:nvGrpSpPr>
            <p:cNvPr id="120" name=""/>
            <p:cNvGrpSpPr/>
            <p:nvPr/>
          </p:nvGrpSpPr>
          <p:grpSpPr>
            <a:xfrm>
              <a:off x="6300720" y="1413000"/>
              <a:ext cx="2592360" cy="2735280"/>
              <a:chOff x="6300720" y="1413000"/>
              <a:chExt cx="2592360" cy="2735280"/>
            </a:xfrm>
          </p:grpSpPr>
          <p:sp>
            <p:nvSpPr>
              <p:cNvPr id="121" name=""/>
              <p:cNvSpPr/>
              <p:nvPr/>
            </p:nvSpPr>
            <p:spPr>
              <a:xfrm>
                <a:off x="6300720" y="1413000"/>
                <a:ext cx="2592360" cy="27352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00720" y="278100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96000" y="1413000"/>
                <a:ext cx="0" cy="267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443640" y="1052640"/>
              <a:ext cx="27003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胖</a:t>
              </a:r>
              <a:endParaRPr b="0" lang="en-US" sz="1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50920" y="1268280"/>
            <a:ext cx="2987640" cy="2989440"/>
            <a:chOff x="250920" y="1268280"/>
            <a:chExt cx="2987640" cy="2989440"/>
          </a:xfrm>
        </p:grpSpPr>
        <p:grpSp>
          <p:nvGrpSpPr>
            <p:cNvPr id="126" name=""/>
            <p:cNvGrpSpPr/>
            <p:nvPr/>
          </p:nvGrpSpPr>
          <p:grpSpPr>
            <a:xfrm>
              <a:off x="250920" y="1412640"/>
              <a:ext cx="2617920" cy="2808360"/>
              <a:chOff x="250920" y="1412640"/>
              <a:chExt cx="2617920" cy="2808360"/>
            </a:xfrm>
          </p:grpSpPr>
          <p:sp>
            <p:nvSpPr>
              <p:cNvPr id="127" name=""/>
              <p:cNvSpPr/>
              <p:nvPr/>
            </p:nvSpPr>
            <p:spPr>
              <a:xfrm>
                <a:off x="250920" y="1412640"/>
                <a:ext cx="2617920" cy="280836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0920" y="2817360"/>
                <a:ext cx="261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559160" y="1412640"/>
                <a:ext cx="0" cy="27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50920" y="1268280"/>
              <a:ext cx="298764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旧</a:t>
              </a:r>
              <a:endParaRPr b="0" lang="en-US" sz="1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132000" y="1197000"/>
            <a:ext cx="3681360" cy="2989440"/>
            <a:chOff x="3132000" y="1197000"/>
            <a:chExt cx="3681360" cy="2989440"/>
          </a:xfrm>
        </p:grpSpPr>
        <p:grpSp>
          <p:nvGrpSpPr>
            <p:cNvPr id="132" name=""/>
            <p:cNvGrpSpPr/>
            <p:nvPr/>
          </p:nvGrpSpPr>
          <p:grpSpPr>
            <a:xfrm>
              <a:off x="3132000" y="1403280"/>
              <a:ext cx="2870280" cy="2746440"/>
              <a:chOff x="3132000" y="1403280"/>
              <a:chExt cx="2870280" cy="2746440"/>
            </a:xfrm>
          </p:grpSpPr>
          <p:sp>
            <p:nvSpPr>
              <p:cNvPr id="133" name=""/>
              <p:cNvSpPr/>
              <p:nvPr/>
            </p:nvSpPr>
            <p:spPr>
              <a:xfrm>
                <a:off x="3132000" y="1403280"/>
                <a:ext cx="2870280" cy="27464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32000" y="2777040"/>
                <a:ext cx="28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6240" y="1403280"/>
                <a:ext cx="0" cy="268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3274920" y="1197000"/>
              <a:ext cx="353844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换</a:t>
              </a:r>
              <a:endParaRPr b="0" lang="en-US" sz="1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jiù   huàn  pàn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4437000"/>
            <a:ext cx="158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旧时新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443700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24360" y="4508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交换替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77080" y="4365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长胖发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116000" y="189000"/>
            <a:ext cx="6768720" cy="2707560"/>
            <a:chOff x="1116000" y="189000"/>
            <a:chExt cx="6768720" cy="270756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rcRect l="10857" t="35304" r="3666" b="37409"/>
            <a:stretch/>
          </p:blipFill>
          <p:spPr>
            <a:xfrm>
              <a:off x="1235520" y="189000"/>
              <a:ext cx="6648840" cy="20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"/>
            <a:srcRect l="10970" t="9445" r="1181" b="82159"/>
            <a:stretch/>
          </p:blipFill>
          <p:spPr>
            <a:xfrm>
              <a:off x="1116000" y="2252160"/>
              <a:ext cx="6768720" cy="64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3529080" cy="2663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280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8618" t="16413" r="5084" b="56300"/>
          <a:stretch/>
        </p:blipFill>
        <p:spPr>
          <a:xfrm>
            <a:off x="900000" y="117360"/>
            <a:ext cx="720108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611280" y="3141720"/>
            <a:ext cx="7991280" cy="3283560"/>
            <a:chOff x="611280" y="3141720"/>
            <a:chExt cx="7991280" cy="328356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755280" y="3284640"/>
              <a:ext cx="2914560" cy="234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4643280" y="3141720"/>
              <a:ext cx="3636360" cy="24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11280" y="5661000"/>
              <a:ext cx="799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用草扎成的，或用油菜秆做成的“</a:t>
              </a:r>
              <a:r>
                <a:rPr b="0" lang="zh-CN" sz="44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蚕山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”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76360" y="1125360"/>
            <a:ext cx="66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点击在新窗口查看全图&#10;CTRL+鼠标滚轮放大或缩小"/>
          <p:cNvPicPr/>
          <p:nvPr/>
        </p:nvPicPr>
        <p:blipFill>
          <a:blip r:embed="rId1"/>
          <a:stretch/>
        </p:blipFill>
        <p:spPr>
          <a:xfrm>
            <a:off x="539640" y="189000"/>
            <a:ext cx="2087640" cy="216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点击在新窗口查看全图&#10;CTRL+鼠标滚轮放大或缩小"/>
          <p:cNvPicPr/>
          <p:nvPr/>
        </p:nvPicPr>
        <p:blipFill>
          <a:blip r:embed="rId2"/>
          <a:stretch/>
        </p:blipFill>
        <p:spPr>
          <a:xfrm>
            <a:off x="2843280" y="189000"/>
            <a:ext cx="2232000" cy="2160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点击在新窗口查看全图&#10;CTRL+鼠标滚轮放大或缩小"/>
          <p:cNvPicPr/>
          <p:nvPr/>
        </p:nvPicPr>
        <p:blipFill>
          <a:blip r:embed="rId3"/>
          <a:srcRect l="27293" t="5666" r="13698" b="14825"/>
          <a:stretch/>
        </p:blipFill>
        <p:spPr>
          <a:xfrm>
            <a:off x="-1440" y="3129120"/>
            <a:ext cx="2809800" cy="2604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rcRect l="1207" t="0" r="0" b="4068"/>
          <a:stretch/>
        </p:blipFill>
        <p:spPr>
          <a:xfrm>
            <a:off x="3022560" y="3933720"/>
            <a:ext cx="2917800" cy="2516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156360" y="3933720"/>
            <a:ext cx="2952720" cy="2724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148360" y="47628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吐出丝儿来，要盖新的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2997360"/>
            <a:ext cx="201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茧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2565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j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826920" y="1341360"/>
            <a:ext cx="2987640" cy="2989440"/>
            <a:chOff x="826920" y="1341360"/>
            <a:chExt cx="2987640" cy="2989440"/>
          </a:xfrm>
        </p:grpSpPr>
        <p:grpSp>
          <p:nvGrpSpPr>
            <p:cNvPr id="162" name=""/>
            <p:cNvGrpSpPr/>
            <p:nvPr/>
          </p:nvGrpSpPr>
          <p:grpSpPr>
            <a:xfrm>
              <a:off x="826920" y="1485720"/>
              <a:ext cx="2617920" cy="2808360"/>
              <a:chOff x="826920" y="1485720"/>
              <a:chExt cx="2617920" cy="2808360"/>
            </a:xfrm>
          </p:grpSpPr>
          <p:sp>
            <p:nvSpPr>
              <p:cNvPr id="163" name=""/>
              <p:cNvSpPr/>
              <p:nvPr/>
            </p:nvSpPr>
            <p:spPr>
              <a:xfrm>
                <a:off x="826920" y="1485720"/>
                <a:ext cx="2617920" cy="280836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6920" y="2890440"/>
                <a:ext cx="261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35160" y="1485720"/>
                <a:ext cx="0" cy="27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826920" y="1341360"/>
              <a:ext cx="298764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盖</a:t>
              </a:r>
              <a:endParaRPr b="0" lang="en-US" sz="1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03640" y="1268280"/>
            <a:ext cx="3681360" cy="2989440"/>
            <a:chOff x="5003640" y="1268280"/>
            <a:chExt cx="3681360" cy="2989440"/>
          </a:xfrm>
        </p:grpSpPr>
        <p:grpSp>
          <p:nvGrpSpPr>
            <p:cNvPr id="168" name=""/>
            <p:cNvGrpSpPr/>
            <p:nvPr/>
          </p:nvGrpSpPr>
          <p:grpSpPr>
            <a:xfrm>
              <a:off x="5003640" y="1474560"/>
              <a:ext cx="2870280" cy="2746440"/>
              <a:chOff x="5003640" y="1474560"/>
              <a:chExt cx="2870280" cy="2746440"/>
            </a:xfrm>
          </p:grpSpPr>
          <p:sp>
            <p:nvSpPr>
              <p:cNvPr id="169" name=""/>
              <p:cNvSpPr/>
              <p:nvPr/>
            </p:nvSpPr>
            <p:spPr>
              <a:xfrm>
                <a:off x="5003640" y="1474560"/>
                <a:ext cx="2870280" cy="27464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03640" y="2848320"/>
                <a:ext cx="28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437880" y="1474560"/>
                <a:ext cx="0" cy="268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146560" y="1268280"/>
              <a:ext cx="353844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响</a:t>
              </a:r>
              <a:endParaRPr b="0" lang="en-US" sz="1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ɡài    xiǎn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19280" y="4508640"/>
            <a:ext cx="15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盖子盖上盖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9640" y="443700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96000" y="45086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响声响亮音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42644" r="6643" b="30050"/>
          <a:stretch/>
        </p:blipFill>
        <p:spPr>
          <a:xfrm>
            <a:off x="971640" y="189000"/>
            <a:ext cx="7416720" cy="324144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179280" y="3716280"/>
            <a:ext cx="8964720" cy="3141720"/>
            <a:chOff x="179280" y="3716280"/>
            <a:chExt cx="8964720" cy="314172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5256000" y="3941640"/>
              <a:ext cx="3888000" cy="29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179280" y="4581360"/>
              <a:ext cx="280836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924360" y="3716280"/>
              <a:ext cx="115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58920" y="4149720"/>
              <a:ext cx="201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蚕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189000"/>
            <a:ext cx="3529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再认一认生字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628640"/>
            <a:ext cx="755964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蚕姑娘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吃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桑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叶  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换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衣</a:t>
            </a: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裳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长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胖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盖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房    一声不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响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旧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衣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</a:t>
            </a: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卵</a:t>
            </a:r>
            <a:r>
              <a:rPr b="0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瘦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</a:t>
            </a: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茧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</a:t>
            </a:r>
            <a:r>
              <a:rPr b="0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蛾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姑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6560" y="404640"/>
            <a:ext cx="8209080" cy="6062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25334" r="0" b="26783"/>
          <a:stretch/>
        </p:blipFill>
        <p:spPr>
          <a:xfrm>
            <a:off x="7164360" y="5229360"/>
            <a:ext cx="1731960" cy="1172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84360" y="2421000"/>
            <a:ext cx="34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2565360"/>
            <a:ext cx="2233800" cy="16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Arial"/>
                <a:ea typeface="楷体_GB2312"/>
              </a:rPr>
              <a:t>蚕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844640"/>
            <a:ext cx="187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4360" y="2924280"/>
            <a:ext cx="576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70717" t="0" r="0" b="80445"/>
          <a:stretch/>
        </p:blipFill>
        <p:spPr>
          <a:xfrm>
            <a:off x="6804000" y="333360"/>
            <a:ext cx="2087640" cy="2063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春天天气暖洋洋，蚕卵里钻出蚕姑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3695760" cy="1842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24210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547640" y="1890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暖洋洋（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BB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式叠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1125360"/>
            <a:ext cx="7561440" cy="5273280"/>
          </a:xfrm>
          <a:prstGeom prst="rect">
            <a:avLst/>
          </a:prstGeom>
          <a:solidFill>
            <a:srgbClr val="99cc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油油   白花花   红彤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黑乎乎   蓝湛湛   粉嫩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冷冰冰   热乎乎   乐呵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飘飘   沉甸甸   笑眯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苦巴巴   急匆匆   慢吞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26920" y="189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又黑又小的蚕姑娘，吃了几天桑叶，就睡在蚕床上，不吃也不动，脱下黑衣裳。醒了，醒了，变成黄姑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256536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又黄又瘦的蚕姑娘，吃了几天桑叶，又睡在蚕床上，不吃也不动，脱下黄衣裳。醒了，醒了，变成白姑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4653000"/>
            <a:ext cx="820764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比较：这两段有什么相同之处和不同之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19280" y="189000"/>
            <a:ext cx="201600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19280" y="2565360"/>
            <a:ext cx="2016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1341360"/>
            <a:ext cx="143964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58920" y="3716280"/>
            <a:ext cx="1440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77080" y="134136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04000" y="3716280"/>
            <a:ext cx="144000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4830" t="7021" r="54075" b="74129"/>
          <a:stretch/>
        </p:blipFill>
        <p:spPr>
          <a:xfrm>
            <a:off x="6659640" y="5445000"/>
            <a:ext cx="1800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00000" y="260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又白又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蚕姑娘，吃了几天桑叶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睡在蚕床上，不吃也不动，脱下旧衣裳，换上新衣裳。醒了，醒了，从此一天天发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2637000"/>
            <a:ext cx="770436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”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53511" t="37623" r="3964" b="41284"/>
          <a:stretch/>
        </p:blipFill>
        <p:spPr>
          <a:xfrm>
            <a:off x="611280" y="4221000"/>
            <a:ext cx="2232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11280" y="476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又白又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蚕姑娘，吃了几天桑叶，又睡在蚕床上，不吃也不动，脱下旧衣裳，换上新衣裳。醒了，醒了，从此一天天发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2997360"/>
            <a:ext cx="8496000" cy="86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把蚕姑娘的四次变化在脑子里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4076640"/>
            <a:ext cx="1656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又黑又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4076640"/>
            <a:ext cx="1656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又黄又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4076640"/>
            <a:ext cx="1656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又白又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4000" y="4076640"/>
            <a:ext cx="1656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又白又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4076640"/>
            <a:ext cx="165564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渐渐发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95640" y="5013360"/>
            <a:ext cx="4895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试着背诵写蚕变化的这四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5640" y="476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睡了四回的蚕姑娘，吃了几天的桑叶，就爬到蚕山上，吐出丝儿来，要盖新的房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成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成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茧子真漂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724560" cy="23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4211640" cy="2232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124000" y="4869000"/>
            <a:ext cx="4465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rcRect l="10466" t="38253" r="54070" b="40189"/>
          <a:stretch/>
        </p:blipFill>
        <p:spPr>
          <a:xfrm>
            <a:off x="2556000" y="5481720"/>
            <a:ext cx="1512720" cy="1376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55640" y="260280"/>
            <a:ext cx="7920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茧子里面的蚕姑娘一声也不响，过了好几天，茧子开了窗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变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变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蛾姑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680000" cy="3495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395280" y="2997360"/>
            <a:ext cx="28814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274160" cy="666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132000" y="2781360"/>
            <a:ext cx="230364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278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蚕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573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又黑又小的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797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又黄又瘦的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5084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又白又嫩的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00720" y="580536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又白又胖的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236000" y="2565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渐渐发亮的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27640" y="981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蚕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26920" y="1052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蚕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1341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茧子里的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3080" y="2708280"/>
            <a:ext cx="367344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看图练习背诵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4000" y="260280"/>
            <a:ext cx="1726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小百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907920"/>
            <a:ext cx="864216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蚕的一生经过蚕卵—蚁蚕—熟蚕—蚕茧—蚕蛾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共五十多天的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2133720"/>
            <a:ext cx="8642160" cy="23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2205000"/>
            <a:ext cx="835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蚕宝宝脱皮时约有一天的时间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一样不吃不动，叫“休眠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一次皮就算增加一岁，幼虫共要脱皮四次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为五龄幼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4653000"/>
            <a:ext cx="856908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蚕蛾不能飞，只是用于产卵以繁殖后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5661000"/>
            <a:ext cx="367200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84600" y="5734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雄蚕吐丝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7165" t="10053" r="55822" b="4283"/>
          <a:stretch/>
        </p:blipFill>
        <p:spPr>
          <a:xfrm>
            <a:off x="468360" y="5445000"/>
            <a:ext cx="1287360" cy="1413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rcRect l="59559" t="19778" r="7004" b="7168"/>
          <a:stretch/>
        </p:blipFill>
        <p:spPr>
          <a:xfrm>
            <a:off x="7451640" y="5373720"/>
            <a:ext cx="125100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50920" y="69228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（    ）里钻出来的又（  ）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的蚕姑娘，一共睡了（ ）次，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醒来都变了样。第一次变得又（ ）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；第二次变得又（  ）又（  ）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次变得又（  ）又（  ）；第四次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一天天（    ）。它爬到（    ）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吐出（   ）来，结出（    ），最后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了（  ）姑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56000" y="69228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蚕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64360" y="69228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126828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56360" y="1268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20000" y="1844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2349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64000" y="23493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93080" y="234936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19640" y="292428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19640" y="2852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84360" y="342900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发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7640" y="35002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蚕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19280" y="400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丝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6720" y="4005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茧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92360" y="4508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rcRect l="19621" t="17611" r="16038" b="19778"/>
          <a:stretch/>
        </p:blipFill>
        <p:spPr>
          <a:xfrm>
            <a:off x="5724360" y="4797360"/>
            <a:ext cx="2592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1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1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1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9001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1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001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2001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1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6001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7001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9001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63640" y="907920"/>
            <a:ext cx="6193080" cy="3241800"/>
          </a:xfrm>
          <a:prstGeom prst="cloudCallout">
            <a:avLst>
              <a:gd name="adj1" fmla="val -44050"/>
              <a:gd name="adj2" fmla="val 686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字形看，蚕是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天下一条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，那它究竟能发挥什么作用呢？你了解哪些关于蚕的知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5334" r="0" b="26783"/>
          <a:stretch/>
        </p:blipFill>
        <p:spPr>
          <a:xfrm>
            <a:off x="7236000" y="5424480"/>
            <a:ext cx="1731960" cy="117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8186" t="12220" r="8186" b="4661"/>
          <a:stretch/>
        </p:blipFill>
        <p:spPr>
          <a:xfrm>
            <a:off x="684360" y="5229360"/>
            <a:ext cx="2736720" cy="12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rcRect l="3126" t="11531" r="3126" b="11053"/>
          <a:stretch/>
        </p:blipFill>
        <p:spPr>
          <a:xfrm>
            <a:off x="5364000" y="5086440"/>
            <a:ext cx="3024360" cy="1771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00000" y="328464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能把两句话并成一句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蚕姑娘脱下旧衣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蚕姑娘换上新衣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蚕姑娘吐出丝儿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蚕姑娘要盖新的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189000"/>
            <a:ext cx="24112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26920" y="90792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仿照例子说一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又黑又小            又黄又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又（ ）又（ ）     又（ ）又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抱着一个又（  ）又（  ）的西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rcRect l="10161" t="0" r="11847" b="0"/>
          <a:stretch/>
        </p:blipFill>
        <p:spPr>
          <a:xfrm>
            <a:off x="6372360" y="4508640"/>
            <a:ext cx="2305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1701720"/>
            <a:ext cx="83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养蚕起源于中国。中国有数千年的养蚕历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们亲切地把蚕称为“蚕宝宝”。课文把它称为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2720" y="2997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蚕姑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83664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过山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唐】王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里鸡鸣一两家， 竹溪村路板桥斜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妇姑相唤</a:t>
            </a:r>
            <a:r>
              <a:rPr b="1" lang="zh-CN" sz="4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浴蚕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， 闲着中庭栀子花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古诗中也有和养蚕有关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8720" y="3789360"/>
            <a:ext cx="79185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6300720" y="1052640"/>
            <a:ext cx="2843280" cy="3095640"/>
            <a:chOff x="6300720" y="1052640"/>
            <a:chExt cx="2843280" cy="3095640"/>
          </a:xfrm>
        </p:grpSpPr>
        <p:grpSp>
          <p:nvGrpSpPr>
            <p:cNvPr id="58" name=""/>
            <p:cNvGrpSpPr/>
            <p:nvPr/>
          </p:nvGrpSpPr>
          <p:grpSpPr>
            <a:xfrm>
              <a:off x="6300720" y="1413000"/>
              <a:ext cx="2592360" cy="2735280"/>
              <a:chOff x="6300720" y="1413000"/>
              <a:chExt cx="2592360" cy="2735280"/>
            </a:xfrm>
          </p:grpSpPr>
          <p:sp>
            <p:nvSpPr>
              <p:cNvPr id="59" name=""/>
              <p:cNvSpPr/>
              <p:nvPr/>
            </p:nvSpPr>
            <p:spPr>
              <a:xfrm>
                <a:off x="6300720" y="1413000"/>
                <a:ext cx="2592360" cy="273528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00720" y="2781000"/>
                <a:ext cx="25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596000" y="1413000"/>
                <a:ext cx="0" cy="267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6443640" y="1052640"/>
              <a:ext cx="270036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娘</a:t>
              </a:r>
              <a:endParaRPr b="0" lang="en-US" sz="1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50920" y="1268280"/>
            <a:ext cx="2987640" cy="2989440"/>
            <a:chOff x="250920" y="1268280"/>
            <a:chExt cx="2987640" cy="2989440"/>
          </a:xfrm>
        </p:grpSpPr>
        <p:grpSp>
          <p:nvGrpSpPr>
            <p:cNvPr id="64" name=""/>
            <p:cNvGrpSpPr/>
            <p:nvPr/>
          </p:nvGrpSpPr>
          <p:grpSpPr>
            <a:xfrm>
              <a:off x="250920" y="1412640"/>
              <a:ext cx="2617920" cy="2808360"/>
              <a:chOff x="250920" y="1412640"/>
              <a:chExt cx="2617920" cy="2808360"/>
            </a:xfrm>
          </p:grpSpPr>
          <p:sp>
            <p:nvSpPr>
              <p:cNvPr id="65" name=""/>
              <p:cNvSpPr/>
              <p:nvPr/>
            </p:nvSpPr>
            <p:spPr>
              <a:xfrm>
                <a:off x="250920" y="1412640"/>
                <a:ext cx="2617920" cy="280836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0920" y="2817360"/>
                <a:ext cx="261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59160" y="1412640"/>
                <a:ext cx="0" cy="27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250920" y="1268280"/>
              <a:ext cx="298764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蚕</a:t>
              </a:r>
              <a:endParaRPr b="0" lang="en-US" sz="1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132000" y="1197000"/>
            <a:ext cx="3681360" cy="2989440"/>
            <a:chOff x="3132000" y="1197000"/>
            <a:chExt cx="3681360" cy="2989440"/>
          </a:xfrm>
        </p:grpSpPr>
        <p:grpSp>
          <p:nvGrpSpPr>
            <p:cNvPr id="70" name=""/>
            <p:cNvGrpSpPr/>
            <p:nvPr/>
          </p:nvGrpSpPr>
          <p:grpSpPr>
            <a:xfrm>
              <a:off x="3132000" y="1403280"/>
              <a:ext cx="2870280" cy="2746440"/>
              <a:chOff x="3132000" y="1403280"/>
              <a:chExt cx="2870280" cy="2746440"/>
            </a:xfrm>
          </p:grpSpPr>
          <p:sp>
            <p:nvSpPr>
              <p:cNvPr id="71" name=""/>
              <p:cNvSpPr/>
              <p:nvPr/>
            </p:nvSpPr>
            <p:spPr>
              <a:xfrm>
                <a:off x="3132000" y="1403280"/>
                <a:ext cx="2870280" cy="2746440"/>
              </a:xfrm>
              <a:prstGeom prst="rect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32000" y="2777040"/>
                <a:ext cx="28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66240" y="1403280"/>
                <a:ext cx="0" cy="268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3274920" y="1197000"/>
              <a:ext cx="3538440" cy="29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姑</a:t>
              </a:r>
              <a:endParaRPr b="0" lang="en-US" sz="1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8000" spc="-1" strike="noStrike">
                <a:solidFill>
                  <a:srgbClr val="000000"/>
                </a:solidFill>
                <a:latin typeface="宋体"/>
              </a:rPr>
              <a:t>cán  ɡū   nián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437000"/>
            <a:ext cx="158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春蚕蚕丝蚕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443700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67280" y="4221000"/>
            <a:ext cx="15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姑娘姑姑姑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422100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大娘姑娘娘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9640" y="115920"/>
            <a:ext cx="20876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3440" y="1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初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1197000"/>
            <a:ext cx="7561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遍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大声读课文，标出自然段号，圈出生字，生字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遍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合作，按自然段轮读，指出对方读得错误或不流利的地方，并练习改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遍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好朋友一起读一遍，互评（读得正确、流利的打★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8186" t="12220" r="8186" b="4661"/>
          <a:stretch/>
        </p:blipFill>
        <p:spPr>
          <a:xfrm>
            <a:off x="250920" y="5877000"/>
            <a:ext cx="172728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11651" t="18499" r="9109" b="66808"/>
          <a:stretch/>
        </p:blipFill>
        <p:spPr>
          <a:xfrm>
            <a:off x="1042920" y="189000"/>
            <a:ext cx="7345440" cy="2017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03640" y="2637000"/>
            <a:ext cx="3527280" cy="368136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755640" y="3068640"/>
            <a:ext cx="2521080" cy="1531080"/>
            <a:chOff x="755640" y="3068640"/>
            <a:chExt cx="2521080" cy="1531080"/>
          </a:xfrm>
        </p:grpSpPr>
        <p:sp>
          <p:nvSpPr>
            <p:cNvPr id="87" name=""/>
            <p:cNvSpPr/>
            <p:nvPr/>
          </p:nvSpPr>
          <p:spPr>
            <a:xfrm>
              <a:off x="900000" y="3500280"/>
              <a:ext cx="2376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蚕卵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5640" y="3068640"/>
              <a:ext cx="25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cán luǎ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11651" t="32155" r="9109" b="41601"/>
          <a:stretch/>
        </p:blipFill>
        <p:spPr>
          <a:xfrm>
            <a:off x="826920" y="189000"/>
            <a:ext cx="7632720" cy="2303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1914480" cy="249732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611280" y="2565360"/>
            <a:ext cx="2376360" cy="1440000"/>
            <a:chOff x="611280" y="2565360"/>
            <a:chExt cx="2376360" cy="1440000"/>
          </a:xfrm>
        </p:grpSpPr>
        <p:sp>
          <p:nvSpPr>
            <p:cNvPr id="92" name=""/>
            <p:cNvSpPr/>
            <p:nvPr/>
          </p:nvSpPr>
          <p:spPr>
            <a:xfrm>
              <a:off x="611280" y="2565360"/>
              <a:ext cx="23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sānɡ y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4360" y="2997000"/>
              <a:ext cx="2232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桑 叶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844720" y="2997360"/>
            <a:ext cx="3240000" cy="2952360"/>
            <a:chOff x="2844720" y="2997360"/>
            <a:chExt cx="3240000" cy="2952360"/>
          </a:xfrm>
        </p:grpSpPr>
        <p:sp>
          <p:nvSpPr>
            <p:cNvPr id="95" name=""/>
            <p:cNvSpPr/>
            <p:nvPr/>
          </p:nvSpPr>
          <p:spPr>
            <a:xfrm>
              <a:off x="3416040" y="2997360"/>
              <a:ext cx="2413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cán chuán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2844720" y="4055400"/>
              <a:ext cx="3240000" cy="18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479040" y="3343320"/>
              <a:ext cx="2540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蚕 床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659640" y="2565360"/>
            <a:ext cx="2305080" cy="1440000"/>
            <a:chOff x="6659640" y="2565360"/>
            <a:chExt cx="2305080" cy="1440000"/>
          </a:xfrm>
        </p:grpSpPr>
        <p:sp>
          <p:nvSpPr>
            <p:cNvPr id="99" name=""/>
            <p:cNvSpPr/>
            <p:nvPr/>
          </p:nvSpPr>
          <p:spPr>
            <a:xfrm>
              <a:off x="6659640" y="256536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yī shɑn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59640" y="2997000"/>
              <a:ext cx="2305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衣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3:17:15Z</dcterms:created>
  <dc:creator>Administrator</dc:creator>
  <dc:description/>
  <dc:language>en-US</dc:language>
  <cp:lastModifiedBy/>
  <dcterms:modified xsi:type="dcterms:W3CDTF">2016-04-19T03:17:4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