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gif" ContentType="image/gif"/>
  <Override PartName="/ppt/media/image8.wmf" ContentType="image/x-wmf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3.gif" ContentType="image/gif"/>
  <Override PartName="/ppt/media/image5.jpeg" ContentType="image/jpeg"/>
  <Override PartName="/ppt/media/image22.png" ContentType="image/png"/>
  <Override PartName="/ppt/media/image21.wmf" ContentType="image/x-wmf"/>
  <Override PartName="/ppt/media/image20.jpeg" ContentType="image/jpeg"/>
  <Override PartName="/ppt/media/image18.gif" ContentType="image/gif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7.png" ContentType="image/png"/>
  <Override PartName="/ppt/media/image4.jpeg" ContentType="image/jpeg"/>
  <Override PartName="/ppt/media/image2.png" ContentType="image/png"/>
  <Override PartName="/ppt/media/image16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21560" y="0"/>
            <a:ext cx="622440" cy="487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852156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4253040"/>
            <a:ext cx="9144000" cy="1523880"/>
          </a:xfrm>
          <a:prstGeom prst="rect">
            <a:avLst/>
          </a:prstGeom>
          <a:solidFill>
            <a:srgbClr val="cc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258920" y="4221000"/>
            <a:ext cx="64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00b5b"/>
                </a:solidFill>
                <a:latin typeface="黑体"/>
                <a:ea typeface="黑体"/>
              </a:rPr>
              <a:t>第</a:t>
            </a:r>
            <a:r>
              <a:rPr b="1" lang="en-US" sz="4800" spc="-1" strike="noStrike">
                <a:solidFill>
                  <a:srgbClr val="200b5b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200b5b"/>
                </a:solidFill>
                <a:latin typeface="黑体"/>
                <a:ea typeface="黑体"/>
              </a:rPr>
              <a:t>课  曹冲称象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5116680"/>
            <a:ext cx="5904000" cy="0"/>
          </a:xfrm>
          <a:prstGeom prst="line">
            <a:avLst/>
          </a:prstGeom>
          <a:ln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7280" y="1068480"/>
            <a:ext cx="3313440" cy="3190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74920" y="1192320"/>
            <a:ext cx="2736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9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柱</a:t>
            </a:r>
            <a:endParaRPr b="0" lang="en-US" sz="18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24360" y="62064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zh</a:t>
            </a:r>
            <a:r>
              <a:rPr b="1" lang="en-US" sz="8000" spc="-1" strike="noStrike">
                <a:solidFill>
                  <a:srgbClr val="eaeaea"/>
                </a:solidFill>
                <a:latin typeface="宋体"/>
              </a:rPr>
              <a:t>ù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2004840"/>
            <a:ext cx="2361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水柱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支柱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44928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音乐给喷泉    入了活力，大大小小的水    随着音乐跳起了舞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87520" y="4476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注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87520" y="5197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柱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87280" y="1068480"/>
            <a:ext cx="3313440" cy="3190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74920" y="1192320"/>
            <a:ext cx="2736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9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官</a:t>
            </a:r>
            <a:endParaRPr b="0" lang="en-US" sz="18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62064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g</a:t>
            </a:r>
            <a:r>
              <a:rPr b="1" lang="en-US" sz="8000" spc="-1" strike="noStrike">
                <a:solidFill>
                  <a:srgbClr val="6600ff"/>
                </a:solidFill>
                <a:latin typeface="宋体"/>
              </a:rPr>
              <a:t>u</a:t>
            </a:r>
            <a:r>
              <a:rPr b="1" lang="en-US" sz="8000" spc="-1" strike="noStrike">
                <a:solidFill>
                  <a:srgbClr val="eaeaea"/>
                </a:solidFill>
                <a:latin typeface="宋体"/>
              </a:rPr>
              <a:t>ān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2004840"/>
            <a:ext cx="2361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官员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官兵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449280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古代皇    里保护皇上的    兵可多了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68200" y="443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宫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56240" y="443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官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87280" y="1068480"/>
            <a:ext cx="3313440" cy="3190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74920" y="1192320"/>
            <a:ext cx="2736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9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岁</a:t>
            </a:r>
            <a:endParaRPr b="0" lang="en-US" sz="18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620640"/>
            <a:ext cx="32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s</a:t>
            </a:r>
            <a:r>
              <a:rPr b="1" lang="en-US" sz="8000" spc="-1" strike="noStrike">
                <a:solidFill>
                  <a:srgbClr val="6600ff"/>
                </a:solidFill>
                <a:latin typeface="宋体"/>
              </a:rPr>
              <a:t>u</a:t>
            </a:r>
            <a:r>
              <a:rPr b="1" lang="en-US" sz="8000" spc="-1" strike="noStrike">
                <a:solidFill>
                  <a:srgbClr val="eaeaea"/>
                </a:solidFill>
                <a:latin typeface="宋体"/>
              </a:rPr>
              <a:t>ì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2004840"/>
            <a:ext cx="2361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岁月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岁数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44928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今年除    ，我们全家一起守    到天明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68920" y="4476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岁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25640" y="4476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夕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1068480"/>
            <a:ext cx="3313440" cy="3190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74920" y="1192320"/>
            <a:ext cx="2736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9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造</a:t>
            </a:r>
            <a:endParaRPr b="0" lang="en-US" sz="18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64000" y="620640"/>
            <a:ext cx="32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z</a:t>
            </a:r>
            <a:r>
              <a:rPr b="1" lang="en-US" sz="8000" spc="-1" strike="noStrike">
                <a:solidFill>
                  <a:srgbClr val="eaeaea"/>
                </a:solidFill>
                <a:latin typeface="宋体"/>
              </a:rPr>
              <a:t>ào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2004840"/>
            <a:ext cx="2361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制造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创造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44928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老师    诉我们，多植树    林会让世界变成绿色的海洋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56240" y="4476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造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93640" y="4476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告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00000" y="2781360"/>
            <a:ext cx="79930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曹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姓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称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重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官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员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操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心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柱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子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秤杆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宰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杀        切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割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艘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船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舷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19033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7680" y="1123920"/>
            <a:ext cx="3240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称  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chē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    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chè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7680" y="2708280"/>
            <a:ext cx="3959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杆  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gā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    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gǎ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4370400"/>
            <a:ext cx="4105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倒  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dǎ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    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dà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16400" y="1125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称呼  称赞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18446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对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56000" y="27162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旗杆  桅杆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16400" y="3500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笔杆  枪杆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44496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倒霉  摔倒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95960" y="5235480"/>
            <a:ext cx="35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倒水  倒茶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0"/>
            <a:ext cx="264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宋体"/>
              </a:rPr>
              <a:t>多音字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4788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　　</a:t>
            </a:r>
            <a:r>
              <a:rPr b="1" lang="zh-CN" sz="3600" spc="-1" strike="noStrike">
                <a:solidFill>
                  <a:srgbClr val="200b5b"/>
                </a:solidFill>
                <a:latin typeface="Times New Roman"/>
                <a:ea typeface="宋体"/>
              </a:rPr>
              <a:t>有感情地朗读课文，先标出课文有几个自然段，然后一边读，一边想，课文中讲了一件什么事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508720" y="2637000"/>
            <a:ext cx="3166920" cy="3528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260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5d8357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整体感知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87280" y="1773360"/>
            <a:ext cx="720108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黑体"/>
              </a:rPr>
              <a:t>想一想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"/>
              </a:rPr>
              <a:t>课文中有几个人提出了称象的办法？你认为谁的称象办法最好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60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5d8357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深入探究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4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4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4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1125360"/>
            <a:ext cx="46083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第一个大臣的称象办法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1125360"/>
            <a:ext cx="12240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造大秤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1773360"/>
            <a:ext cx="26640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可行的原因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1844640"/>
            <a:ext cx="3851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谁也没有那么大的力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3068640"/>
            <a:ext cx="46083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第二个大臣的称象办法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3860640"/>
            <a:ext cx="2663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可行的原因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4653000"/>
            <a:ext cx="2737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曹操的态度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03640" y="3068640"/>
            <a:ext cx="3095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把象割成几块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03640" y="3860640"/>
            <a:ext cx="2089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大象死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4724280"/>
            <a:ext cx="1657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直摇头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907920"/>
            <a:ext cx="75452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       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  <a:ea typeface="宋体"/>
              </a:rPr>
              <a:t>大象又高又大，身子像堵墙，腿像四根柱子。官员们一边看一边议论，象这么大，到底有多重呢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457200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黑体"/>
              </a:rPr>
              <a:t>重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92360" y="486900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cc"/>
                </a:solidFill>
                <a:latin typeface="Times New Roman"/>
              </a:rPr>
              <a:t>多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7037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</a:rPr>
              <a:t>？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651640" y="359568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 flipH="1">
            <a:off x="5219640" y="5013360"/>
            <a:ext cx="2160720" cy="1596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16000" y="1293120"/>
            <a:ext cx="7058160" cy="28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谜 语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四腿如柱子，身子像面墙，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两耳像蒲扇，鼻子弯又长。</a:t>
            </a:r>
            <a:r>
              <a:rPr b="1" lang="zh-CN" sz="4000" spc="-1" strike="noStrike">
                <a:solidFill>
                  <a:srgbClr val="eaeaea"/>
                </a:solidFill>
                <a:latin typeface="幼圆"/>
                <a:ea typeface="幼圆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60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5d8357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新课导入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9800" y="450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谜底：大象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66680" y="1066680"/>
            <a:ext cx="7620120" cy="27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aea"/>
                </a:solidFill>
                <a:latin typeface="Times New Roman"/>
              </a:rPr>
              <a:t>　</a:t>
            </a:r>
            <a:r>
              <a:rPr b="0" lang="zh-CN" sz="5400" spc="-1" strike="noStrike">
                <a:solidFill>
                  <a:srgbClr val="9900ff"/>
                </a:solidFill>
                <a:latin typeface="Times New Roman"/>
              </a:rPr>
              <a:t>比较句子：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3366"/>
                </a:solidFill>
                <a:latin typeface="Times New Roman"/>
              </a:rPr>
              <a:t>“</a:t>
            </a:r>
            <a:r>
              <a:rPr b="0" lang="zh-CN" sz="5400" spc="-1" strike="noStrike">
                <a:solidFill>
                  <a:srgbClr val="993366"/>
                </a:solidFill>
                <a:latin typeface="Times New Roman"/>
              </a:rPr>
              <a:t>大象有多重呢？”</a:t>
            </a:r>
            <a:br>
              <a:rPr sz="5400"/>
            </a:br>
            <a:r>
              <a:rPr b="0" lang="zh-CN" sz="5400" spc="-1" strike="noStrike">
                <a:solidFill>
                  <a:srgbClr val="993366"/>
                </a:solidFill>
                <a:latin typeface="Times New Roman"/>
              </a:rPr>
              <a:t>“大象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到底</a:t>
            </a:r>
            <a:r>
              <a:rPr b="0" lang="zh-CN" sz="5400" spc="-1" strike="noStrike">
                <a:solidFill>
                  <a:srgbClr val="993366"/>
                </a:solidFill>
                <a:latin typeface="Times New Roman"/>
              </a:rPr>
              <a:t>有多重呢？</a:t>
            </a:r>
            <a:r>
              <a:rPr b="0" lang="zh-CN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90720" y="836640"/>
            <a:ext cx="77724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曹操问：“谁有办法把这头大象称一称？”有的说：“得造一杆大秤，砍一棵大树做秤杆。”有的说：“有了大秤也不成啊，谁有那么大的力气提得起这杆大呢？”也有的说：“办法倒有一个，就是把大象宰了，割成一块一块 的再称。”曹操听了直摇头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63760" y="558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Times New Roman"/>
                <a:ea typeface="黑体"/>
              </a:rPr>
              <a:t>秤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27360" y="560556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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提不动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13360" y="5605560"/>
            <a:ext cx="22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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宰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2160" y="5551560"/>
            <a:ext cx="20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Wingdings"/>
                <a:ea typeface="Wingdings"/>
              </a:rPr>
              <a:t></a:t>
            </a:r>
            <a:r>
              <a:rPr b="0" lang="zh-CN" sz="4000" spc="-1" strike="noStrike">
                <a:solidFill>
                  <a:srgbClr val="ff33cc"/>
                </a:solidFill>
                <a:latin typeface="黑体"/>
                <a:ea typeface="黑体"/>
              </a:rPr>
              <a:t>不行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3184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348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35120" y="98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476280"/>
            <a:ext cx="82090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读一读，比较每组中的两句话意思有什么不同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曹操听了摇头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曹操听了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楷体"/>
                <a:ea typeface="楷体"/>
              </a:rPr>
              <a:t>直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摇头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860640"/>
            <a:ext cx="70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37720" y="4141800"/>
            <a:ext cx="4569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曹操的儿子曹冲七岁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曹操的儿子曹冲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楷体"/>
                <a:ea typeface="楷体"/>
              </a:rPr>
              <a:t>才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七岁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rcRect l="17707" t="26898" r="52365" b="6945"/>
          <a:stretch/>
        </p:blipFill>
        <p:spPr>
          <a:xfrm>
            <a:off x="1692360" y="1989000"/>
            <a:ext cx="2736720" cy="4537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038480" y="380880"/>
            <a:ext cx="4648320" cy="2514600"/>
          </a:xfrm>
          <a:prstGeom prst="cloudCallout">
            <a:avLst>
              <a:gd name="adj1" fmla="val -54097"/>
              <a:gd name="adj2" fmla="val 57763"/>
            </a:avLst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哦！我有办法啦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5640" y="836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听到称大象的方法，曹冲想：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292428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听到宰大象的方法，曹冲想：                      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1628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（用船当大称）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371628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（用石头代替大象，可以一块一块地称）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479736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我是曹冲，还会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             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56360" cy="62247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300720" y="4149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05000" y="1566720"/>
            <a:ext cx="473400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43160" y="1590840"/>
            <a:ext cx="46576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24080" y="1581120"/>
            <a:ext cx="46958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09680" y="1609560"/>
            <a:ext cx="472464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9047" t="19562" r="13767" b="5901"/>
          <a:stretch/>
        </p:blipFill>
        <p:spPr>
          <a:xfrm>
            <a:off x="0" y="-2700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54000" y="833400"/>
            <a:ext cx="165492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10800" bIns="10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cc0099"/>
                </a:solidFill>
                <a:latin typeface="Times New Roman"/>
                <a:ea typeface="楷体"/>
              </a:rPr>
              <a:t>大 象</a:t>
            </a:r>
            <a:endParaRPr b="0" lang="en-US" sz="7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19400" y="1581120"/>
            <a:ext cx="47052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 rot="20440800">
            <a:off x="3200400" y="3505320"/>
            <a:ext cx="228600" cy="609480"/>
          </a:xfrm>
          <a:prstGeom prst="pentagon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3581280"/>
            <a:ext cx="380880" cy="457200"/>
          </a:xfrm>
          <a:prstGeom prst="pentagon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36576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657600"/>
            <a:ext cx="304920" cy="304920"/>
          </a:xfrm>
          <a:prstGeom prst="pentagon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04560" y="22356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0b5b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200b5b"/>
                </a:solidFill>
                <a:latin typeface="Times New Roman"/>
                <a:ea typeface="黑体"/>
              </a:rPr>
              <a:t>二、曹冲称象的启示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当船中放入石头时：</a:t>
            </a:r>
            <a:r>
              <a:rPr b="0" lang="zh-CN" sz="2800" spc="-1" strike="noStrike">
                <a:solidFill>
                  <a:srgbClr val="200b5b"/>
                </a:solidFill>
                <a:latin typeface="Times New Roman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当大象进入船中时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505320"/>
            <a:ext cx="2895480" cy="838080"/>
          </a:xfrm>
          <a:custGeom>
            <a:avLst/>
            <a:gdLst/>
            <a:ahLst/>
            <a:rect l="l" t="t" r="r" b="b"/>
            <a:pathLst>
              <a:path w="1824" h="528">
                <a:moveTo>
                  <a:pt x="0" y="0"/>
                </a:moveTo>
                <a:lnTo>
                  <a:pt x="384" y="528"/>
                </a:lnTo>
                <a:lnTo>
                  <a:pt x="1488" y="528"/>
                </a:lnTo>
                <a:lnTo>
                  <a:pt x="1824" y="0"/>
                </a:lnTo>
                <a:lnTo>
                  <a:pt x="1680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200b5b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3581280"/>
            <a:ext cx="228600" cy="228600"/>
          </a:xfrm>
          <a:prstGeom prst="pentagon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396252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024600" y="2773440"/>
            <a:ext cx="1371600" cy="11682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257800" y="3429000"/>
            <a:ext cx="2590920" cy="914400"/>
          </a:xfrm>
          <a:custGeom>
            <a:avLst/>
            <a:gdLst/>
            <a:ahLst/>
            <a:rect l="l" t="t" r="r" b="b"/>
            <a:pathLst>
              <a:path w="1632" h="480">
                <a:moveTo>
                  <a:pt x="0" y="0"/>
                </a:moveTo>
                <a:lnTo>
                  <a:pt x="240" y="480"/>
                </a:lnTo>
                <a:lnTo>
                  <a:pt x="1440" y="480"/>
                </a:lnTo>
                <a:lnTo>
                  <a:pt x="1632" y="0"/>
                </a:lnTo>
                <a:lnTo>
                  <a:pt x="1488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200b5b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396252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4191120"/>
            <a:ext cx="3200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4572000"/>
            <a:ext cx="3200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4952880"/>
            <a:ext cx="3124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4267080"/>
            <a:ext cx="3124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4572000"/>
            <a:ext cx="3200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4876920"/>
            <a:ext cx="3200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26828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6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  <a:ea typeface="宋体"/>
              </a:rPr>
              <a:t>石头的重量就等于大象的重量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55640" y="3284640"/>
            <a:ext cx="3119400" cy="206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0" t="0" r="3037" b="6655"/>
          <a:stretch/>
        </p:blipFill>
        <p:spPr>
          <a:xfrm>
            <a:off x="5003640" y="306864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625640" y="3716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0" y="175680"/>
            <a:ext cx="9144000" cy="59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176040"/>
            <a:ext cx="86043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先把大象（           ）一艘大船上，看船身下沉多少，就（            ）水面，在船舷上（           ）。再把大象（              ），往船上（              ）。等船下沉到画线的地方，（              ）船上的石头。这样，就称出了大象的重量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68720" y="39528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  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32720" y="130176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沿  着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223668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画  线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3130560"/>
            <a:ext cx="18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上岸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72360" y="30592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装石头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32720" y="39956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称一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00000" y="1628640"/>
            <a:ext cx="7417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        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  <a:ea typeface="宋体"/>
              </a:rPr>
              <a:t>曹操微笑着点点头。他叫人照曹冲说的办法去做，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果然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  <a:ea typeface="宋体"/>
              </a:rPr>
              <a:t>称出了大象的重量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8100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曹操一日好心情，众人观象真高兴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个问题提出来，大象到底有多重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砍树造杆大秤用，秤大没人提得动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分宰再割分成块，大象活活要送命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曹操有子叫曹冲，小小年纪很聪明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议论声中站出来，我有主意大家听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艘大船水中停，大象稳稳站船中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船舷上面刻记号，再换石头容易称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石头多重象多重，智慧解题传美名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们立志学文化，中华少年出英雄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19240"/>
            <a:ext cx="2209680" cy="76176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1760"/>
              <a:gd name="textAreaBottom" fmla="*/ 672120 h 761760"/>
            </a:gdLst>
            <a:ahLst/>
            <a:rect l="textAreaLeft" t="textAreaTop" r="textAreaRight" b="textAreaBottom"/>
            <a:pathLst>
              <a:path w="6263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37" y="21600"/>
                </a:lnTo>
                <a:arcTo wR="3600" hR="3600" stAng="10800000" swAng="5400000"/>
                <a:lnTo>
                  <a:pt x="62637" y="3600"/>
                </a:lnTo>
                <a:arcTo wR="3600" hR="3600" stAng="5400000" swAng="5400000"/>
                <a:close/>
              </a:path>
            </a:pathLst>
          </a:custGeom>
          <a:solidFill>
            <a:srgbClr val="5d8357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巧记课文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788000" y="1268280"/>
            <a:ext cx="3384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-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1280" y="3068280"/>
            <a:ext cx="684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宋体"/>
              </a:rPr>
              <a:t>说说曹冲称象的办法好在哪里？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260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5d8357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思维拓展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3810240" cy="20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宋体"/>
              </a:rPr>
              <a:t>我们应向曹冲学习些什么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3792600" cy="3184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379880" y="692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思考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27080" y="4892760"/>
            <a:ext cx="22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00b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0b5b"/>
                </a:solidFill>
                <a:latin typeface="Times New Roman"/>
                <a:ea typeface="楷体_GB2312"/>
              </a:rPr>
              <a:t>多观察日常生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42400" y="5562720"/>
            <a:ext cx="14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00b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0b5b"/>
                </a:solidFill>
                <a:latin typeface="Times New Roman"/>
                <a:ea typeface="楷体_GB2312"/>
              </a:rPr>
              <a:t>多动脑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4000" y="3141720"/>
            <a:ext cx="73436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）曹冲的办法好吗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）如果现在让你们去称这头象的重量，你们有什么方法？</a:t>
            </a:r>
            <a:r>
              <a:rPr b="0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2016000" cy="3549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547640" y="1341360"/>
            <a:ext cx="2087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讨论：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229600" cy="30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认识本课生字，掌握多音字“得”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、流利的朗读课文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课文内容，知道曹冲是怎样称象的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60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5d8357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学习目标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260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5d8357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字词积累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3313440" cy="3191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74920" y="1752480"/>
            <a:ext cx="2736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9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冲</a:t>
            </a:r>
            <a:endParaRPr b="0" lang="en-US" sz="18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48360" y="1181160"/>
            <a:ext cx="34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ch</a:t>
            </a:r>
            <a:r>
              <a:rPr b="1" lang="en-US" sz="8000" spc="-1" strike="noStrike">
                <a:solidFill>
                  <a:srgbClr val="eaeaea"/>
                </a:solidFill>
                <a:latin typeface="宋体"/>
              </a:rPr>
              <a:t>ōng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2565360"/>
            <a:ext cx="2361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冲动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冲刺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505296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激烈的比赛    ，选手们正在做最后的    刺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87520" y="5013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44560" y="57340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冲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3313440" cy="3190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4920" y="1176480"/>
            <a:ext cx="2736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9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议</a:t>
            </a:r>
            <a:endParaRPr b="0" lang="en-US" sz="18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76280"/>
            <a:ext cx="19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y</a:t>
            </a:r>
            <a:r>
              <a:rPr b="1" lang="en-US" sz="8000" spc="-1" strike="noStrike">
                <a:solidFill>
                  <a:srgbClr val="eaeaea"/>
                </a:solidFill>
                <a:latin typeface="宋体"/>
              </a:rPr>
              <a:t>ì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1989000"/>
            <a:ext cx="2361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会议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议论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447660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大家都认为班级会    开得很有意    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93640" y="5157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义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65640" y="443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议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87280" y="969840"/>
            <a:ext cx="3313440" cy="3191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74920" y="1093680"/>
            <a:ext cx="2736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9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论</a:t>
            </a:r>
            <a:endParaRPr b="0" lang="en-US" sz="18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24360" y="522360"/>
            <a:ext cx="34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l</a:t>
            </a:r>
            <a:r>
              <a:rPr b="1" lang="en-US" sz="8000" spc="-1" strike="noStrike">
                <a:solidFill>
                  <a:srgbClr val="eaeaea"/>
                </a:solidFill>
                <a:latin typeface="宋体"/>
              </a:rPr>
              <a:t>ùn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906560"/>
            <a:ext cx="2361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讨论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谈论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439416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大家    流发言，谈    自己最喜欢的一本书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20560" y="4334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轮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32240" y="4365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论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3313440" cy="3191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74920" y="1104840"/>
            <a:ext cx="2736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9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杆</a:t>
            </a:r>
            <a:endParaRPr b="0" lang="en-US" sz="18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80000" y="54936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g</a:t>
            </a:r>
            <a:r>
              <a:rPr b="1" lang="en-US" sz="8000" spc="-1" strike="noStrike">
                <a:solidFill>
                  <a:srgbClr val="eaeaea"/>
                </a:solidFill>
                <a:latin typeface="宋体"/>
              </a:rPr>
              <a:t>ǎn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51640" y="1917720"/>
            <a:ext cx="2361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枪杆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笔杆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44053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老师为了    着帮我们批改作业，丝毫没有注意到笔    上沾满了墨水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44560" y="4365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赶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84960" y="5084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杆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0T05:24:00Z</dcterms:created>
  <dc:creator>Administrator</dc:creator>
  <dc:description/>
  <dc:language>en-US</dc:language>
  <cp:lastModifiedBy/>
  <dcterms:modified xsi:type="dcterms:W3CDTF">2016-03-29T07:19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  <property fmtid="{D5CDD505-2E9C-101B-9397-08002B2CF9AE}" pid="3" name="Version">
    <vt:r8>1</vt:r8>
  </property>
</Properties>
</file>