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210D-3827-4828-B28F-A6DD00BC2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912-4BB8-46E2-909E-A2106027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08C-9F3C-4991-B8B4-C60A84C6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BAE3-49E3-4329-8C7B-697B075C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688-FEEF-4356-B602-60B546A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37D9-DD3A-4ECB-B8B5-E8990542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C49-FAF8-49B2-B78C-C7BEE6AF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6D50-ED31-4431-96E6-1F6C6F14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AE5-2552-43F9-941A-5337BF25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F7E1-F79D-4D0A-9CE5-F84C968C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927-F2D1-4B12-8DE0-BC275C14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577-9F42-4F11-B234-70940785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0289-62AC-455F-A513-841485329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r_pi02"/>
          <p:cNvPicPr/>
          <p:nvPr/>
        </p:nvPicPr>
        <p:blipFill>
          <a:blip r:embed="rId1"/>
          <a:stretch/>
        </p:blipFill>
        <p:spPr>
          <a:xfrm>
            <a:off x="7524720" y="2781360"/>
            <a:ext cx="1584360" cy="1728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11280" y="1917720"/>
            <a:ext cx="6913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00"/>
                </a:solidFill>
                <a:latin typeface="Lucida Sans"/>
                <a:ea typeface="华文彩云"/>
              </a:rPr>
              <a:t>充气房子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776160" y="26028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54160" y="1197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633240" y="203184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050920" y="105264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砖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708360" y="1052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造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635280" y="1989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卡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050920" y="191628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材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340000" y="40053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各式各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5508720" y="1844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435640" y="292428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体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635280" y="299736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压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050920" y="292428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形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5435640" y="105264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一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交流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自己认为学得很好的那个生字教给其他小朋友，并说说自己使用什么好方法记住这个字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微笑的小女孩"/>
          <p:cNvPicPr/>
          <p:nvPr/>
        </p:nvPicPr>
        <p:blipFill>
          <a:blip r:embed="rId1"/>
          <a:stretch/>
        </p:blipFill>
        <p:spPr>
          <a:xfrm>
            <a:off x="6156360" y="1341360"/>
            <a:ext cx="180324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6560" y="2332080"/>
            <a:ext cx="54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充气房子有哪些优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们愿意帮助小叮当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小孩子"/>
          <p:cNvPicPr/>
          <p:nvPr/>
        </p:nvPicPr>
        <p:blipFill>
          <a:blip r:embed="rId1"/>
          <a:stretch/>
        </p:blipFill>
        <p:spPr>
          <a:xfrm>
            <a:off x="6012000" y="1916280"/>
            <a:ext cx="1304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466560" y="404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充气房子是新型的现代建筑，它具有很多优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u=313891862,4087490642&amp;fm=23&amp;gp=0"/>
          <p:cNvPicPr/>
          <p:nvPr/>
        </p:nvPicPr>
        <p:blipFill>
          <a:blip r:embed="rId1"/>
          <a:srcRect l="0" t="0" r="0" b="12717"/>
          <a:stretch/>
        </p:blipFill>
        <p:spPr>
          <a:xfrm>
            <a:off x="0" y="2060640"/>
            <a:ext cx="91440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2879640" cy="1917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2"/>
          <p:cNvPicPr/>
          <p:nvPr/>
        </p:nvPicPr>
        <p:blipFill>
          <a:blip r:embed="rId2"/>
          <a:stretch/>
        </p:blipFill>
        <p:spPr>
          <a:xfrm>
            <a:off x="2916360" y="44280"/>
            <a:ext cx="2625480" cy="2237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3"/>
          <p:cNvPicPr/>
          <p:nvPr/>
        </p:nvPicPr>
        <p:blipFill>
          <a:blip r:embed="rId3"/>
          <a:srcRect l="0" t="0" r="218" b="6904"/>
          <a:stretch/>
        </p:blipFill>
        <p:spPr>
          <a:xfrm>
            <a:off x="6084720" y="44280"/>
            <a:ext cx="2907000" cy="2013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4"/>
          <p:cNvPicPr/>
          <p:nvPr/>
        </p:nvPicPr>
        <p:blipFill>
          <a:blip r:embed="rId4"/>
          <a:srcRect l="0" t="0" r="1436" b="10776"/>
          <a:stretch/>
        </p:blipFill>
        <p:spPr>
          <a:xfrm>
            <a:off x="5148360" y="4581360"/>
            <a:ext cx="3690720" cy="1971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5"/>
          <p:cNvPicPr/>
          <p:nvPr/>
        </p:nvPicPr>
        <p:blipFill>
          <a:blip r:embed="rId5"/>
          <a:srcRect l="0" t="0" r="-1069" b="13998"/>
          <a:stretch/>
        </p:blipFill>
        <p:spPr>
          <a:xfrm>
            <a:off x="34920" y="4797360"/>
            <a:ext cx="4003560" cy="1755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7"/>
          <p:cNvSpPr/>
          <p:nvPr/>
        </p:nvSpPr>
        <p:spPr>
          <a:xfrm>
            <a:off x="250920" y="2060640"/>
            <a:ext cx="8496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砖瓦、木料、水泥、钢材造房子，需要大量的材料、人力和时间。可是，建造一座充气房子就方便多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u=313891862,4087490642&amp;fm=23&amp;gp=0"/>
          <p:cNvPicPr/>
          <p:nvPr/>
        </p:nvPicPr>
        <p:blipFill>
          <a:blip r:embed="rId1"/>
          <a:srcRect l="0" t="0" r="206" b="16299"/>
          <a:stretch/>
        </p:blipFill>
        <p:spPr>
          <a:xfrm>
            <a:off x="1332000" y="4191120"/>
            <a:ext cx="6897600" cy="2209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80880" y="0"/>
            <a:ext cx="8458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工厂里，人们根据图纸，用一种轻便、结实的材料做成各种形状的套子和管道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然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它们紧密连接起来，成为一个整体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一辆卡车把它拉到工地上，用空气压缩机把空气打进去。不一会儿，这些套子和管道就被“吹”得鼓起来，一座美丽的房子就耸立在人们的面前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80880" y="3657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80880" y="0"/>
            <a:ext cx="845820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工厂里，人们根据图纸，用一种轻便、结实的材料做成各种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形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套子和管道，然后把它们紧密连接起来，成为一个整体，再用一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辆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车把它拉到工地上，用空气压缩机把空气打进去。不一会儿，这些套子和管道就被“吹”得鼓起来，一座美丽的房子就耸立在人们的面前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80880" y="36576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04920" y="5303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砖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木料、水泥、钢材造房子，需要大量的材料、人力和时间。可是，建造一座充气房子就方便多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u=313891862,4087490642&amp;fm=23&amp;gp=0"/>
          <p:cNvPicPr/>
          <p:nvPr/>
        </p:nvPicPr>
        <p:blipFill>
          <a:blip r:embed="rId1"/>
          <a:srcRect l="0" t="0" r="0" b="15422"/>
          <a:stretch/>
        </p:blipFill>
        <p:spPr>
          <a:xfrm>
            <a:off x="2133720" y="3200400"/>
            <a:ext cx="480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533520" y="457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别看充气房子软，但可以建得很高很大。美国底特律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造了一座充气体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馆，有二十多层楼房那么高，能装下八万多名观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1573-561114"/>
          <p:cNvPicPr/>
          <p:nvPr/>
        </p:nvPicPr>
        <p:blipFill>
          <a:blip r:embed="rId1"/>
          <a:stretch/>
        </p:blipFill>
        <p:spPr>
          <a:xfrm>
            <a:off x="380880" y="2743200"/>
            <a:ext cx="4114800" cy="3581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24-33-434-33-514-38-20070106103735"/>
          <p:cNvPicPr/>
          <p:nvPr/>
        </p:nvPicPr>
        <p:blipFill>
          <a:blip r:embed="rId2"/>
          <a:srcRect l="0" t="0" r="0" b="12510"/>
          <a:stretch/>
        </p:blipFill>
        <p:spPr>
          <a:xfrm>
            <a:off x="5029200" y="2743200"/>
            <a:ext cx="3733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228600"/>
            <a:ext cx="83059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气房子搬运起来很方便。只需把它里面的空气放出去，折叠好，搬上汽车，就可以运到别的地方安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气房子造价很低。建造一座跟土木结构同等面积的充气房子，只花土木结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房子十五分之一的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相信，在不远的将来，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样的充气房子，会以非常奇妙的面目，出现在人们面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71741205905460262"/>
          <p:cNvPicPr/>
          <p:nvPr/>
        </p:nvPicPr>
        <p:blipFill>
          <a:blip r:embed="rId1"/>
          <a:srcRect l="0" t="0" r="9606" b="-175"/>
          <a:stretch/>
        </p:blipFill>
        <p:spPr>
          <a:xfrm>
            <a:off x="2266920" y="3502080"/>
            <a:ext cx="268596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466560" y="404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充气房子是新型的现代建筑，它具有很多优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u=313891862,4087490642&amp;fm=23&amp;gp=0"/>
          <p:cNvPicPr/>
          <p:nvPr/>
        </p:nvPicPr>
        <p:blipFill>
          <a:blip r:embed="rId1"/>
          <a:srcRect l="0" t="0" r="0" b="14293"/>
          <a:stretch/>
        </p:blipFill>
        <p:spPr>
          <a:xfrm>
            <a:off x="0" y="2060640"/>
            <a:ext cx="914400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6264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395280" y="1557360"/>
            <a:ext cx="151272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充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房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优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2268360" y="1197000"/>
            <a:ext cx="216000" cy="374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627280" y="1052640"/>
            <a:ext cx="65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节省材料、人力和时间，建造方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627280" y="2276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很软、很高、很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771640" y="3429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搬运方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771640" y="4508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造价很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8"/>
          <p:cNvGrpSpPr/>
          <p:nvPr/>
        </p:nvGrpSpPr>
        <p:grpSpPr>
          <a:xfrm>
            <a:off x="6516720" y="6165720"/>
            <a:ext cx="396720" cy="476280"/>
            <a:chOff x="6516720" y="6165720"/>
            <a:chExt cx="396720" cy="476280"/>
          </a:xfrm>
        </p:grpSpPr>
        <p:sp>
          <p:nvSpPr>
            <p:cNvPr id="104" name="Rectangle 9"/>
            <p:cNvSpPr/>
            <p:nvPr/>
          </p:nvSpPr>
          <p:spPr>
            <a:xfrm>
              <a:off x="6516720" y="6165720"/>
              <a:ext cx="396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6605640" y="6237000"/>
              <a:ext cx="1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7093080" y="6165720"/>
            <a:ext cx="396720" cy="476280"/>
            <a:chOff x="7093080" y="6165720"/>
            <a:chExt cx="396720" cy="476280"/>
          </a:xfrm>
        </p:grpSpPr>
        <p:sp>
          <p:nvSpPr>
            <p:cNvPr id="107" name="Rectangle 12"/>
            <p:cNvSpPr/>
            <p:nvPr/>
          </p:nvSpPr>
          <p:spPr>
            <a:xfrm>
              <a:off x="7093080" y="6165720"/>
              <a:ext cx="396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3"/>
            <p:cNvSpPr/>
            <p:nvPr/>
          </p:nvSpPr>
          <p:spPr>
            <a:xfrm>
              <a:off x="7182000" y="6237000"/>
              <a:ext cx="1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4"/>
          <p:cNvGrpSpPr/>
          <p:nvPr/>
        </p:nvGrpSpPr>
        <p:grpSpPr>
          <a:xfrm>
            <a:off x="7667640" y="6165720"/>
            <a:ext cx="396720" cy="476280"/>
            <a:chOff x="7667640" y="6165720"/>
            <a:chExt cx="396720" cy="476280"/>
          </a:xfrm>
        </p:grpSpPr>
        <p:sp>
          <p:nvSpPr>
            <p:cNvPr id="110" name="Rectangle 15"/>
            <p:cNvSpPr/>
            <p:nvPr/>
          </p:nvSpPr>
          <p:spPr>
            <a:xfrm>
              <a:off x="7667640" y="6165720"/>
              <a:ext cx="396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>
              <a:off x="7756560" y="6237000"/>
              <a:ext cx="1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7"/>
          <p:cNvGrpSpPr/>
          <p:nvPr/>
        </p:nvGrpSpPr>
        <p:grpSpPr>
          <a:xfrm>
            <a:off x="8244000" y="6165720"/>
            <a:ext cx="396720" cy="476280"/>
            <a:chOff x="8244000" y="6165720"/>
            <a:chExt cx="396720" cy="476280"/>
          </a:xfrm>
        </p:grpSpPr>
        <p:sp>
          <p:nvSpPr>
            <p:cNvPr id="113" name="Rectangle 18"/>
            <p:cNvSpPr/>
            <p:nvPr/>
          </p:nvSpPr>
          <p:spPr>
            <a:xfrm>
              <a:off x="8244000" y="6165720"/>
              <a:ext cx="396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9"/>
            <p:cNvSpPr/>
            <p:nvPr/>
          </p:nvSpPr>
          <p:spPr>
            <a:xfrm>
              <a:off x="8332920" y="6237000"/>
              <a:ext cx="1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11280" y="1890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充气房子的建筑过程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826920" y="907920"/>
            <a:ext cx="79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轻便、结实的材料制作各种形状的套子和通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843280" y="2997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紧密连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00000" y="4941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拉运到工地上，把空气打进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3104280" y="1773360"/>
            <a:ext cx="1397880" cy="1296720"/>
            <a:chOff x="3104280" y="1773360"/>
            <a:chExt cx="1397880" cy="1296720"/>
          </a:xfrm>
        </p:grpSpPr>
        <p:sp>
          <p:nvSpPr>
            <p:cNvPr id="120" name="AutoShape 7"/>
            <p:cNvSpPr/>
            <p:nvPr/>
          </p:nvSpPr>
          <p:spPr>
            <a:xfrm>
              <a:off x="3276720" y="1773360"/>
              <a:ext cx="1225440" cy="1296720"/>
            </a:xfrm>
            <a:prstGeom prst="downArrow">
              <a:avLst>
                <a:gd name="adj1" fmla="val 50000"/>
                <a:gd name="adj2" fmla="val 26454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8"/>
            <p:cNvSpPr/>
            <p:nvPr/>
          </p:nvSpPr>
          <p:spPr>
            <a:xfrm>
              <a:off x="3104280" y="1844280"/>
              <a:ext cx="1155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然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3276720" y="3789360"/>
            <a:ext cx="1296720" cy="1081080"/>
            <a:chOff x="3276720" y="3789360"/>
            <a:chExt cx="1296720" cy="1081080"/>
          </a:xfrm>
        </p:grpSpPr>
        <p:sp>
          <p:nvSpPr>
            <p:cNvPr id="123" name="AutoShape 10"/>
            <p:cNvSpPr/>
            <p:nvPr/>
          </p:nvSpPr>
          <p:spPr>
            <a:xfrm>
              <a:off x="3276720" y="3789360"/>
              <a:ext cx="1296720" cy="1081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3638520" y="3932280"/>
              <a:ext cx="667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12" descr="99058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u=595962495,223357734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u=1790035976,1777279973&amp;fm=23&amp;gp=0"/>
          <p:cNvPicPr/>
          <p:nvPr/>
        </p:nvPicPr>
        <p:blipFill>
          <a:blip r:embed="rId2"/>
          <a:srcRect l="0" t="0" r="22814" b="10256"/>
          <a:stretch/>
        </p:blipFill>
        <p:spPr>
          <a:xfrm>
            <a:off x="4495680" y="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u=3532183273,3349947119&amp;fm=23&amp;gp=0"/>
          <p:cNvPicPr/>
          <p:nvPr/>
        </p:nvPicPr>
        <p:blipFill>
          <a:blip r:embed="rId3"/>
          <a:srcRect l="0" t="0" r="0" b="17152"/>
          <a:stretch/>
        </p:blipFill>
        <p:spPr>
          <a:xfrm>
            <a:off x="4572000" y="4191120"/>
            <a:ext cx="4572000" cy="2209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2819520" y="32004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充   气   房   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设计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355640" y="2565360"/>
            <a:ext cx="4103640" cy="31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一画自己想象中的充气房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小恐龙"/>
          <p:cNvPicPr/>
          <p:nvPr/>
        </p:nvPicPr>
        <p:blipFill>
          <a:blip r:embed="rId1"/>
          <a:stretch/>
        </p:blipFill>
        <p:spPr>
          <a:xfrm>
            <a:off x="1116000" y="1773360"/>
            <a:ext cx="2668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u=595962495,223357734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u=1790035976,1777279973&amp;fm=23&amp;gp=0"/>
          <p:cNvPicPr/>
          <p:nvPr/>
        </p:nvPicPr>
        <p:blipFill>
          <a:blip r:embed="rId2"/>
          <a:srcRect l="0" t="0" r="21062" b="12816"/>
          <a:stretch/>
        </p:blipFill>
        <p:spPr>
          <a:xfrm>
            <a:off x="449568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u=3532183273,3349947119&amp;fm=23&amp;gp=0"/>
          <p:cNvPicPr/>
          <p:nvPr/>
        </p:nvPicPr>
        <p:blipFill>
          <a:blip r:embed="rId3"/>
          <a:srcRect l="0" t="0" r="0" b="17152"/>
          <a:stretch/>
        </p:blipFill>
        <p:spPr>
          <a:xfrm>
            <a:off x="4572000" y="4191120"/>
            <a:ext cx="4572000" cy="2209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819520" y="32004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充   气   房   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WordArt 2" descr=""/>
          <p:cNvPicPr/>
          <p:nvPr/>
        </p:nvPicPr>
        <p:blipFill>
          <a:blip r:embed="rId1"/>
          <a:stretch/>
        </p:blipFill>
        <p:spPr>
          <a:xfrm>
            <a:off x="1828800" y="2279520"/>
            <a:ext cx="5877000" cy="23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151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%E5%85%85%E6%B0%94%E6%88%BF%E5%AD%90"/>
          <p:cNvPicPr/>
          <p:nvPr/>
        </p:nvPicPr>
        <p:blipFill>
          <a:blip r:embed="rId1"/>
          <a:stretch/>
        </p:blipFill>
        <p:spPr>
          <a:xfrm>
            <a:off x="1692360" y="1052640"/>
            <a:ext cx="56163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2008820981839254"/>
          <p:cNvPicPr/>
          <p:nvPr/>
        </p:nvPicPr>
        <p:blipFill>
          <a:blip r:embed="rId1"/>
          <a:stretch/>
        </p:blipFill>
        <p:spPr>
          <a:xfrm>
            <a:off x="2147760" y="1595520"/>
            <a:ext cx="484848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u=595962495,2233577345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u=1790035976,1777279973&amp;fm=23&amp;gp=0"/>
          <p:cNvPicPr/>
          <p:nvPr/>
        </p:nvPicPr>
        <p:blipFill>
          <a:blip r:embed="rId2"/>
          <a:srcRect l="0" t="0" r="22814" b="12816"/>
          <a:stretch/>
        </p:blipFill>
        <p:spPr>
          <a:xfrm>
            <a:off x="4495680" y="0"/>
            <a:ext cx="3353040" cy="259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u=3237479674,2277284284&amp;fm=23&amp;gp=0"/>
          <p:cNvPicPr/>
          <p:nvPr/>
        </p:nvPicPr>
        <p:blipFill>
          <a:blip r:embed="rId3"/>
          <a:srcRect l="0" t="0" r="-1847" b="50016"/>
          <a:stretch/>
        </p:blipFill>
        <p:spPr>
          <a:xfrm>
            <a:off x="0" y="4114800"/>
            <a:ext cx="4191120" cy="137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u=3532183273,3349947119&amp;fm=23&amp;gp=0"/>
          <p:cNvPicPr/>
          <p:nvPr/>
        </p:nvPicPr>
        <p:blipFill>
          <a:blip r:embed="rId4"/>
          <a:srcRect l="0" t="0" r="0" b="17152"/>
          <a:stretch/>
        </p:blipFill>
        <p:spPr>
          <a:xfrm>
            <a:off x="4572000" y="4191120"/>
            <a:ext cx="4572000" cy="2209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2819520" y="32004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充   气   房   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601992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森 林 希 望 小 学    庹 建 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838080" y="685800"/>
            <a:ext cx="79250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瓦    材    形   状   辆   卡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压    市    育   价   构   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0" y="685800"/>
            <a:ext cx="8915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耸立     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结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缩机         体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馆        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样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底特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辆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车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2280" y="152280"/>
            <a:ext cx="8991720" cy="71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瓦    形   状   辆    压    育    构   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瓦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瓦片     砖瓦     瓦解     一砖一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圆形     形状     变形     形形色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形状     状态     告状      奖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车辆    一辆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压力     打压     压紧      压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教育     育儿     养育之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构造     结构     构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方式     算式     公式      一招一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User</cp:lastModifiedBy>
  <dcterms:modified xsi:type="dcterms:W3CDTF">2015-12-10T15:22:34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