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7333-4F9D-4A0F-832F-B3EF73B2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6237-3D3F-478A-9D82-F798CEA5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0DE-4E6C-428A-82CF-E937C9C5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749-F126-4E80-A632-8CD47366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260-F8CD-4967-82C0-6D194BF3A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581-1E3B-4095-A8AE-FC05938C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7689-C54A-4A0A-95EB-C3582D59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0E46-17EA-451D-BE4E-8D386BCD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3C3A-92F8-46EF-AD47-825F923B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508-53B6-4568-870E-B474CD10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051-F36C-4443-963A-6465684B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6AB-2005-4394-BC11-98A067BB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29C9-00F7-4EC9-8F27-618B27C5A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6A6-8941-4257-9E55-2C212351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32F-ABFE-44AD-8319-1571268F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8D4-A539-4B4B-8D1B-AF367230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B5D-E869-4D07-98F4-ECED041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173DD-8532-4CF7-A076-E824CE8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09F6E-3E15-4693-9904-B032A64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68568-3B5E-4E4D-B472-1BB6200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C00E6-B9B3-47C0-93D1-1135FEFD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62248-23DF-4B10-8C0C-96AA2CCB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F1B02-99FE-4E1C-8BDE-ACC30C8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D5B5F-4692-4A49-B0D3-71E5F1B3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3483E-C8BB-42AC-A639-86A6DDD4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25AA-9B5B-43AD-B8D8-8A3A07A6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EF1-FCA6-4AF0-BB39-1EAA49E6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BF6-F75F-4E66-A10E-55D50930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E326-0106-4BF4-8BEE-2B90A98C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2BE3-2D67-4068-9FA6-5B5C66F1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C79F-8470-4945-88C1-28569244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5DF3-6241-4FE6-89F8-472CFD1E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328A-0939-48D6-9DBE-1BD2DAF5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CE7-D5D4-471B-B26B-F010734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5E9-7343-43BE-A730-E3104B5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276-2D43-464A-983C-4963DFB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B1D5-8B3F-4C3D-ABE9-35308372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F85E-98F7-42CC-A30F-9B359CE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613C-48CB-4DE7-851C-EA12F462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2BE8-4617-40F4-90B6-EEBE9424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A853-890B-4B07-8FD0-9D7BA710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1AC4-FCB7-4902-A2C9-DF848B0B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8D52-011A-459C-9F27-3BB4081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DB66-B170-42D7-8868-C49C8BCE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4199-0DFB-4FA3-98E5-F22764A4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466E-B89A-40D4-A83A-64AE019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D20-3781-4591-88C2-6CAC261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3F0F-D619-4E95-9895-208D59D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2C24-7AAD-4618-AEE9-475C738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A204-14FC-4F84-8B3A-0C36A02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00E2-DB98-4198-B7BC-A182A9E3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3894-C089-48BD-A862-5FDF9B62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E59C-EFD9-4104-AAFD-BE4D5541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F686-B86F-4787-92BF-079B74FB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2D52-E3D2-480E-B125-402F7C78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5559-E26F-4C90-A62C-4BBD72B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01E4-8770-4A80-9075-C42C77CF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48D-6239-45C1-B0B0-45F8224C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9B53-40DE-4FAA-9F8B-38D7496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9DC9-6682-489B-8CA6-BA21A06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BDC8-CD77-4795-9E1B-9E49B9CE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18A03-260F-4499-B189-E500078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C48D-5139-4246-8AE5-26D81D0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FB43-9DD2-4D16-81FF-406B0A7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2F0E-80FB-43E4-AB96-24A61B6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7F32-CE4A-4279-80F6-245AEC45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9EBF-7A7B-489C-B8C3-1B08C91F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F395-31D5-46EA-9C70-16F6235A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DF9-B6FC-4EFF-87B6-96736DD4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6049-7941-4BEF-A810-75E3CB0F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E0285-5692-4A9C-97FF-59342C3E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47C2-47E0-4F35-8B30-FB56BC6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065EA-902E-42BF-B738-785026A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FBC6-1BC3-4C8C-8A0A-21C068D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B9EE-CD47-497D-BCC6-87A9836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5C72-30ED-4B80-96A8-932544E9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D9F0-F8F6-4875-9060-79E9544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3571-84DE-4BF9-8DA4-C4B305D8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4684-4D37-470D-9418-ECD6ACB1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7F3-4860-460C-967A-F404F696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B0765-53EE-4A8E-9918-9AC8887F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1B93-1486-4AD5-B743-C1ADF9DE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EAC7-067A-41AF-85B5-C5F8271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FE78-A720-4E3A-9290-77C430D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9629-3FBB-4BA1-95C7-8209147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A1DE-4B39-41E0-8553-3CBD34B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82A0-7AC9-4037-9865-D4206DC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4F0C0-698F-4276-AD13-E7BD87D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DABA-765D-4E81-9453-AE5CD1D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954C-547F-4D28-BD6D-4E76C7B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5AB-1660-4826-81AB-530DA67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4FE05-876F-4A7F-8E8C-4AEF2C5A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6B83-3E65-4D6F-A9A0-110F4F3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CB966-7D6D-4377-9A78-103BC190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3845-2A9B-4B6D-A571-BF93B9E6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E61C2-1621-4432-A0EF-A9F6599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0829A-3B5D-4EF0-9647-AF931E1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1CA8-E081-45B6-B143-04B10BB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DFBCA-BBE4-44BF-81B2-4F3F2AAD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5B02-395D-4B55-AC29-5476726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1019-6962-40D5-A1D5-432DE48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B90-AB41-44D8-AF1D-3494E8C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9939-A547-4FA7-98E3-0551D8CD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B701-FA09-40B9-AF1C-0610806B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B77B-9995-41F5-ACAD-B3ED461D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8EC4-9537-4AAB-8A39-8F1A9701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4AD1-4E07-4298-AA75-65358CB7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98EA-B3B9-4D19-BD5E-0E830DA6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B238-4317-45FD-80FB-CE0274D5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FD17-6854-490E-84D4-A30C6A36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237C-0BE5-49BD-8497-4028BF3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A151-F00C-4F21-AF5D-AB80867B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635-A130-43D7-9228-6F29C84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F8EAE-60BE-4BFA-AF6D-375E73F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995B-2328-4E9C-BC74-21D59D9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9ACB2-1DA2-4316-8CB5-A513245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FADE-2071-4ADF-B63D-7A0D1342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3144-5086-4532-8810-AB5C379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8C9C-919E-4683-966A-2D1F393B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229D-09C8-45AD-9021-EFB62F71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1DE99-F5E1-44A3-B2C8-E9F7E687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AE3DA-1E65-453C-B1DA-3020584C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6CB8D-D614-4651-8E3C-7577AC78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EDC1-054C-49DE-8488-C2153B0411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E40-FE97-4EBE-848D-EFACD2A5EC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5F9-19F1-4CF4-84F6-E471CEC237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6481-9B9A-40DA-8476-90E4B8668E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4704-A3D3-4DED-B9FD-0BCF28B65D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DB94-72E5-449C-AF96-054607633D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D2DE-2A73-45BC-A137-7A77EB92EB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B89-CB35-4F52-835D-9B6AC1BB8FE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1E1-F1A2-4652-BBE0-24B462077C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13360" y="981000"/>
            <a:ext cx="200916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宠物店里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d671cd7fe104e1190dd7da6d"/>
          <p:cNvPicPr/>
          <p:nvPr/>
        </p:nvPicPr>
        <p:blipFill>
          <a:blip r:embed="rId1"/>
          <a:srcRect l="0" t="0" r="-81" b="9666"/>
          <a:stretch/>
        </p:blipFill>
        <p:spPr>
          <a:xfrm>
            <a:off x="3059280" y="1125360"/>
            <a:ext cx="4968720" cy="51627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5"/>
          <p:cNvSpPr/>
          <p:nvPr/>
        </p:nvSpPr>
        <p:spPr>
          <a:xfrm>
            <a:off x="324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长春版二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373440" y="1371600"/>
            <a:ext cx="261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震惊世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526330289973111245"/>
          <p:cNvPicPr/>
          <p:nvPr/>
        </p:nvPicPr>
        <p:blipFill>
          <a:blip r:embed="rId1"/>
          <a:stretch/>
        </p:blipFill>
        <p:spPr>
          <a:xfrm>
            <a:off x="0" y="0"/>
            <a:ext cx="3238560" cy="311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8" name="Picture 4" descr="15_26_5700"/>
          <p:cNvPicPr/>
          <p:nvPr/>
        </p:nvPicPr>
        <p:blipFill>
          <a:blip r:embed="rId2"/>
          <a:stretch/>
        </p:blipFill>
        <p:spPr>
          <a:xfrm>
            <a:off x="6311880" y="3618000"/>
            <a:ext cx="2832120" cy="3240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9" name="Picture 5" descr="F2003120808345500000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556000" y="609480"/>
            <a:ext cx="4176720" cy="624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0" name="Text Box 6"/>
          <p:cNvSpPr/>
          <p:nvPr/>
        </p:nvSpPr>
        <p:spPr>
          <a:xfrm>
            <a:off x="0" y="393372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当代保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2173-7238"/>
          <p:cNvPicPr/>
          <p:nvPr/>
        </p:nvPicPr>
        <p:blipFill>
          <a:blip r:embed="rId1"/>
          <a:stretch/>
        </p:blipFill>
        <p:spPr>
          <a:xfrm>
            <a:off x="762120" y="1143000"/>
            <a:ext cx="3313080" cy="4513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2" name="Text Box 3"/>
          <p:cNvSpPr/>
          <p:nvPr/>
        </p:nvSpPr>
        <p:spPr>
          <a:xfrm>
            <a:off x="1258920" y="5877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贝多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ntr00602_pic"/>
          <p:cNvPicPr/>
          <p:nvPr/>
        </p:nvPicPr>
        <p:blipFill>
          <a:blip r:embed="rId2"/>
          <a:stretch/>
        </p:blipFill>
        <p:spPr>
          <a:xfrm>
            <a:off x="4716360" y="1989000"/>
            <a:ext cx="2613240" cy="324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4" name="Picture 5" descr="0077"/>
          <p:cNvPicPr/>
          <p:nvPr/>
        </p:nvPicPr>
        <p:blipFill>
          <a:blip r:embed="rId3"/>
          <a:srcRect l="0" t="0" r="17064" b="10007"/>
          <a:stretch/>
        </p:blipFill>
        <p:spPr>
          <a:xfrm>
            <a:off x="7612200" y="4687920"/>
            <a:ext cx="1531800" cy="20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5" name="Text Box 6"/>
          <p:cNvSpPr/>
          <p:nvPr/>
        </p:nvSpPr>
        <p:spPr>
          <a:xfrm>
            <a:off x="4730760" y="547056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史蒂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霍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762120" y="1522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音乐巨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705852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科学巨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539640" y="711360"/>
            <a:ext cx="3810240" cy="5238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3961080" cy="526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beec9">
                <a:alpha val="5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551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beec9">
                <a:alpha val="50000"/>
              </a:srgbClr>
            </a:outerShdw>
          </a:effectLst>
        </p:spPr>
      </p:pic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946320" cy="5543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beec9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762120" y="1989000"/>
            <a:ext cx="83818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1. 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对小男孩的评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2. 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对残疾人的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3. 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对残疾动物的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        </a:t>
            </a:r>
            <a:r>
              <a:rPr b="1" lang="en-US" sz="4800" spc="-1" strike="noStrike">
                <a:solidFill>
                  <a:srgbClr val="009900"/>
                </a:solidFill>
                <a:latin typeface="宋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276720" y="981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228600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松狮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image009—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"/>
          <p:cNvSpPr/>
          <p:nvPr/>
        </p:nvSpPr>
        <p:spPr>
          <a:xfrm>
            <a:off x="136440" y="4343400"/>
            <a:ext cx="1006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w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971640" y="213372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4e3b30"/>
                </a:solidFill>
                <a:latin typeface="楷体_GB2312"/>
                <a:ea typeface="楷体_GB2312"/>
              </a:rPr>
              <a:t>初读课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小男孩为什么坚持要用同样多的钱买一只小瘸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吧"/>
          <p:cNvPicPr/>
          <p:nvPr/>
        </p:nvPicPr>
        <p:blipFill>
          <a:blip r:embed="rId1"/>
          <a:stretch/>
        </p:blipFill>
        <p:spPr>
          <a:xfrm>
            <a:off x="5508720" y="1268280"/>
            <a:ext cx="251928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店主微笑着点了点头，然后吹了一声口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刻从店铺里面跑来了一只狗妈妈和五只毛茸茸的小狗。这五只小狗，前面四只像是会滚动的球，最后一只却是一跛一跛地往前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1258920" y="3068640"/>
            <a:ext cx="72388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微笑   点头   毛茸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狗  滚动的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最后一只  一跛一跛  往前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图片2"/>
          <p:cNvPicPr/>
          <p:nvPr/>
        </p:nvPicPr>
        <p:blipFill>
          <a:blip r:embed="rId1"/>
          <a:stretch/>
        </p:blipFill>
        <p:spPr>
          <a:xfrm>
            <a:off x="5292720" y="5157720"/>
            <a:ext cx="204624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90520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PENPAPER"/>
          <p:cNvPicPr/>
          <p:nvPr/>
        </p:nvPicPr>
        <p:blipFill>
          <a:blip r:embed="rId1"/>
          <a:stretch/>
        </p:blipFill>
        <p:spPr>
          <a:xfrm>
            <a:off x="7904160" y="5597640"/>
            <a:ext cx="1087560" cy="11080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508720" y="1341360"/>
            <a:ext cx="2303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4356000" y="2637000"/>
            <a:ext cx="16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2195640" y="458136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1619280" y="3213000"/>
            <a:ext cx="50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5651640" y="198900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914400" y="4572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小男孩为什么要买一只小瘸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2590920" y="56386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内心世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4876920" y="3124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3972600" y="3018960"/>
            <a:ext cx="360720" cy="2038680"/>
          </a:xfrm>
          <a:prstGeom prst="downArrow">
            <a:avLst>
              <a:gd name="adj1" fmla="val 50000"/>
              <a:gd name="adj2" fmla="val 141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4038480" y="3429000"/>
            <a:ext cx="486000" cy="2449440"/>
          </a:xfrm>
          <a:prstGeom prst="downArrow">
            <a:avLst>
              <a:gd name="adj1" fmla="val 50000"/>
              <a:gd name="adj2" fmla="val 126000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057400" y="321480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644e"/>
                </a:solidFill>
                <a:latin typeface="Times New Roman"/>
                <a:ea typeface="楷体_GB2312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1676520" y="2362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语言 动作 神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0:29:37Z</dcterms:created>
  <dc:creator/>
  <dc:description/>
  <dc:language>en-US</dc:language>
  <cp:lastModifiedBy>User</cp:lastModifiedBy>
  <dcterms:modified xsi:type="dcterms:W3CDTF">2015-05-13T02:26:45Z</dcterms:modified>
  <cp:revision>4</cp:revision>
  <dc:subject/>
  <dc:title/>
</cp:coreProperties>
</file>