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37E-2A52-4D6A-AFB1-89FFA723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541-FB18-4901-BA44-0A67BE63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8AC-1651-462E-984A-ED9876AE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0E4-6400-4D73-A534-18A984D5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964-A858-445E-B85A-46E258C2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789-CC59-4E62-9FC4-BC3C60AD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7B2-85A3-4925-A7AE-41829DF1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FC8-2077-446E-BCC2-307AA9A4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C7F-195F-4E80-AE24-465FB9A2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BC4-6A3B-44F9-9438-FDC2FB7C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C84-9C6D-412F-9FDB-EA211C6F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621-B5D0-4C38-B272-06C3362F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59EE-A4D4-4C03-AF7A-2F5EBB15D1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116000" y="2133720"/>
            <a:ext cx="697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楷体"/>
              </a:rPr>
              <a:t>春风带我去散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5389401379079613605"/>
          <p:cNvPicPr/>
          <p:nvPr/>
        </p:nvPicPr>
        <p:blipFill>
          <a:blip r:embed="rId1"/>
          <a:stretch/>
        </p:blipFill>
        <p:spPr>
          <a:xfrm>
            <a:off x="468360" y="477720"/>
            <a:ext cx="4373640" cy="355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20080729165515696"/>
          <p:cNvPicPr/>
          <p:nvPr/>
        </p:nvPicPr>
        <p:blipFill>
          <a:blip r:embed="rId2"/>
          <a:srcRect l="5879" t="10837" r="43706" b="18175"/>
          <a:stretch/>
        </p:blipFill>
        <p:spPr>
          <a:xfrm>
            <a:off x="5435640" y="530280"/>
            <a:ext cx="3097080" cy="3456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79280" y="45100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们走进树林。啊，那一棵棵 高大笔直的白桦树，睁着大大的眼睛。这春天的眼睛格外明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443a80ae7e699"/>
          <p:cNvPicPr/>
          <p:nvPr/>
        </p:nvPicPr>
        <p:blipFill>
          <a:blip r:embed="rId1"/>
          <a:srcRect l="0" t="0" r="0" b="7679"/>
          <a:stretch/>
        </p:blipFill>
        <p:spPr>
          <a:xfrm>
            <a:off x="3132000" y="909720"/>
            <a:ext cx="2833920" cy="2593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784080" y="214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我们走进花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2_249883_80255923e9f4d7c"/>
          <p:cNvPicPr/>
          <p:nvPr/>
        </p:nvPicPr>
        <p:blipFill>
          <a:blip r:embed="rId2"/>
          <a:stretch/>
        </p:blipFill>
        <p:spPr>
          <a:xfrm>
            <a:off x="324000" y="909720"/>
            <a:ext cx="2681280" cy="2592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091520" y="3502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雪白的梨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971160" y="3573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粉红的杏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8125317464"/>
          <p:cNvPicPr/>
          <p:nvPr/>
        </p:nvPicPr>
        <p:blipFill>
          <a:blip r:embed="rId3"/>
          <a:stretch/>
        </p:blipFill>
        <p:spPr>
          <a:xfrm>
            <a:off x="6084720" y="909720"/>
            <a:ext cx="2880000" cy="2592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6995880" y="3573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粉红的桃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20092261247831920"/>
          <p:cNvPicPr/>
          <p:nvPr/>
        </p:nvPicPr>
        <p:blipFill>
          <a:blip r:embed="rId4"/>
          <a:srcRect l="5931" t="10559" r="4867" b="10559"/>
          <a:stretch/>
        </p:blipFill>
        <p:spPr>
          <a:xfrm>
            <a:off x="324000" y="4078440"/>
            <a:ext cx="2735280" cy="223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956880" y="6310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金黄的迎春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200841514394189158"/>
          <p:cNvPicPr/>
          <p:nvPr/>
        </p:nvPicPr>
        <p:blipFill>
          <a:blip r:embed="rId5"/>
          <a:stretch/>
        </p:blipFill>
        <p:spPr>
          <a:xfrm>
            <a:off x="3203640" y="4078440"/>
            <a:ext cx="2736720" cy="2232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971160" y="6238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火红的杜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118aa5f35b2"/>
          <p:cNvPicPr/>
          <p:nvPr/>
        </p:nvPicPr>
        <p:blipFill>
          <a:blip r:embed="rId6"/>
          <a:stretch/>
        </p:blipFill>
        <p:spPr>
          <a:xfrm>
            <a:off x="6086520" y="4078440"/>
            <a:ext cx="2778120" cy="2232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4"/>
          <p:cNvSpPr/>
          <p:nvPr/>
        </p:nvSpPr>
        <p:spPr>
          <a:xfrm>
            <a:off x="6923880" y="6238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成串的紫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b6bcf"/>
                </a:solidFill>
                <a:latin typeface="Arial"/>
                <a:ea typeface="华文楷体"/>
              </a:rPr>
              <a:t>读一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2720" y="1628280"/>
            <a:ext cx="78580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今天，窗外的风铃摇得格外好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我拉着春风温暖的手，我们去散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春风告诉我：这是第一个迎接春天的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这春天的眼睛格外明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PPT2"/>
          <p:cNvPicPr/>
          <p:nvPr/>
        </p:nvPicPr>
        <p:blipFill>
          <a:blip r:embed="rId1"/>
          <a:stretch/>
        </p:blipFill>
        <p:spPr>
          <a:xfrm>
            <a:off x="3240" y="-25560"/>
            <a:ext cx="9178920" cy="691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2340000" y="2565360"/>
            <a:ext cx="580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楷体"/>
              </a:rPr>
              <a:t>同学们再见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857680" y="857160"/>
            <a:ext cx="389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b6bcf"/>
                </a:solidFill>
                <a:latin typeface="Arial"/>
                <a:ea typeface="华文楷体"/>
              </a:rPr>
              <a:t>课堂导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714240" y="228600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学们，你们喜欢春天吗？说说你印象中的春天是什么样的？今天我们就要和春风一起，去看看春天的美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700360" y="477720"/>
            <a:ext cx="372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b6bcf"/>
                </a:solidFill>
                <a:latin typeface="Arial"/>
                <a:ea typeface="华文楷体"/>
              </a:rPr>
              <a:t>风筝简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19640" y="2060640"/>
            <a:ext cx="53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风筝的起源可能与木鸟有关，它也起源于中国。风筝又名纸鸢、风鸢，中国古籍当中有关风筝的史料比木鸟丰富。唐朝的《事物纪原》记载了汉初的韩信是风筝的发明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zh2"/>
          <p:cNvPicPr/>
          <p:nvPr/>
        </p:nvPicPr>
        <p:blipFill>
          <a:blip r:embed="rId1"/>
          <a:stretch/>
        </p:blipFill>
        <p:spPr>
          <a:xfrm>
            <a:off x="179280" y="3860640"/>
            <a:ext cx="3097440" cy="197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zh18"/>
          <p:cNvPicPr/>
          <p:nvPr/>
        </p:nvPicPr>
        <p:blipFill>
          <a:blip r:embed="rId2"/>
          <a:stretch/>
        </p:blipFill>
        <p:spPr>
          <a:xfrm>
            <a:off x="539640" y="2133720"/>
            <a:ext cx="2232000" cy="14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zh6"/>
          <p:cNvPicPr/>
          <p:nvPr/>
        </p:nvPicPr>
        <p:blipFill>
          <a:blip r:embed="rId3"/>
          <a:stretch/>
        </p:blipFill>
        <p:spPr>
          <a:xfrm>
            <a:off x="6804000" y="477720"/>
            <a:ext cx="1981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F2004021609522300000"/>
          <p:cNvPicPr/>
          <p:nvPr/>
        </p:nvPicPr>
        <p:blipFill>
          <a:blip r:embed="rId1"/>
          <a:stretch/>
        </p:blipFill>
        <p:spPr>
          <a:xfrm>
            <a:off x="900000" y="1557360"/>
            <a:ext cx="7632720" cy="5076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348000" y="260280"/>
            <a:ext cx="317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b6bcf"/>
                </a:solidFill>
                <a:latin typeface="Arial"/>
                <a:ea typeface="华文楷体"/>
              </a:rPr>
              <a:t>放风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0200" y="1071720"/>
            <a:ext cx="51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b6bcf"/>
                </a:solidFill>
                <a:latin typeface="Arial"/>
                <a:ea typeface="华文楷体"/>
              </a:rPr>
              <a:t>词语积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857240" y="2500200"/>
            <a:ext cx="66978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8c93"/>
                </a:solidFill>
                <a:latin typeface="Arial"/>
                <a:ea typeface="华文楷体"/>
              </a:rPr>
              <a:t>格格不入   脱口而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8c93"/>
                </a:solidFill>
                <a:latin typeface="Arial"/>
                <a:ea typeface="华文楷体"/>
              </a:rPr>
              <a:t>天高云淡   心中有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5"/>
          <p:cNvSpPr/>
          <p:nvPr/>
        </p:nvSpPr>
        <p:spPr>
          <a:xfrm>
            <a:off x="2562120" y="3292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706840" y="358128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sh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2562120" y="343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362480" y="26449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华文楷体"/>
              </a:rPr>
              <a:t>数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362480" y="364968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楷体"/>
              </a:rPr>
              <a:t>数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华文楷体"/>
              </a:rPr>
              <a:t>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6091200" y="264492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华文楷体"/>
              </a:rPr>
              <a:t>心中有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276960" y="361476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华文楷体"/>
              </a:rPr>
              <a:t>数星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 flipV="1">
            <a:off x="1482840" y="30765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1482840" y="3579840"/>
            <a:ext cx="934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690480" y="314784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华文楷体"/>
              </a:rPr>
              <a:t>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000160" y="85716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99"/>
                </a:solidFill>
                <a:latin typeface="Arial"/>
                <a:ea typeface="华文楷体"/>
              </a:rPr>
              <a:t>多音字学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706840" y="260676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sh</a:t>
            </a: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脱掉厚衣服"/>
          <p:cNvPicPr/>
          <p:nvPr/>
        </p:nvPicPr>
        <p:blipFill>
          <a:blip r:embed="rId1"/>
          <a:stretch/>
        </p:blipFill>
        <p:spPr>
          <a:xfrm>
            <a:off x="928800" y="1500120"/>
            <a:ext cx="7773840" cy="3175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14240" y="485784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楷体"/>
              </a:rPr>
              <a:t>我脱掉了厚重的棉衣、棉帽。我连手套也脱掉了。我拉着春风温暖的手，我们去散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3000240" y="214200"/>
            <a:ext cx="392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c8c93"/>
                </a:solidFill>
                <a:latin typeface="华文楷体"/>
                <a:ea typeface="华文楷体"/>
              </a:rPr>
              <a:t>课文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071720" y="7142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走到山下，我发现了一丛丛淡紫色的二月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dc922ddc5dba28c677c6381a"/>
          <p:cNvPicPr/>
          <p:nvPr/>
        </p:nvPicPr>
        <p:blipFill>
          <a:blip r:embed="rId1"/>
          <a:stretch/>
        </p:blipFill>
        <p:spPr>
          <a:xfrm>
            <a:off x="2143080" y="2286000"/>
            <a:ext cx="5029200" cy="3000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0" y="5572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春风告诉我：这是第一个迎接春天的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903160927b6a3f59d9d37106a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4537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95280" y="5084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楷体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楷体"/>
              </a:rPr>
              <a:t>我看着脚下的草地，小草正在变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4:30:08Z</dcterms:created>
  <dc:creator/>
  <dc:description/>
  <cp:keywords/>
  <dc:language>en-US</dc:language>
  <cp:lastModifiedBy/>
  <dcterms:modified xsi:type="dcterms:W3CDTF">2015-01-19T01:43:23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