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0777-82AA-42E8-B1CF-8FFD81EB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7BC-0410-4147-A0FF-1251C6B9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4B0A-7421-4AB3-9E42-1335D320E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D5D-6DF8-4E3E-A03E-7043D1CC2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092A-A224-4695-A4F8-705F3E21D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C19C-47E7-4D4D-87B4-A17ED335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D30B-FE05-4DC0-924F-50B508C8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26F4-A158-4B4F-BB40-C08EAC0E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AA85-D1DA-4D3D-BD09-6DDB8B7B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7990-C658-43D2-9785-42A79543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A85C-4B6F-48F8-B23C-C56BDCB6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6A6-1129-4E00-8012-01D0853D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27D9-5CB6-409E-97DF-C9495E58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9E17-25BE-4C9E-8D6F-610F9409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1A38-1CA0-4173-8799-0100CC79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4349-25CA-4594-8561-355C73B0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072C-A1BD-4884-98FC-8F078B31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721-E290-411A-8797-4F8E8A50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FE3-A21D-4D2A-B4D1-AF9B464D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355-239A-4E47-82C6-D49CB895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98AE-9E13-4426-B255-48C75FAD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24C-659A-4C6B-A298-BACAAE6C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F17-BC14-4614-9107-68FF747A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696-26A6-4530-B757-1AF77C0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3288-3F81-474C-B7EF-D94D2DAF6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956B-83E3-48A3-B6DD-83D36B5EEF77}" type="slidenum">
              <a:rPr b="0" lang="en-US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pic.yc55.com/pic/22118.htm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130120"/>
            <a:ext cx="8496000" cy="30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99cc"/>
                </a:solidFill>
                <a:latin typeface="Arial"/>
                <a:ea typeface="华文楷体"/>
              </a:rPr>
              <a:t>春天的小雨</a:t>
            </a:r>
            <a:endParaRPr b="0" lang="en-US" sz="11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cc0066"/>
                </a:solidFill>
                <a:latin typeface="Arial"/>
                <a:ea typeface="华文楷体"/>
              </a:rPr>
              <a:t>顺</a:t>
            </a: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利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cc0066"/>
                </a:solidFill>
                <a:latin typeface="Arial"/>
                <a:ea typeface="华文楷体"/>
              </a:rPr>
              <a:t>森</a:t>
            </a: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林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cc0066"/>
                </a:solidFill>
                <a:latin typeface="Arial"/>
                <a:ea typeface="华文楷体"/>
              </a:rPr>
              <a:t>演</a:t>
            </a: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变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cc0066"/>
                </a:solidFill>
                <a:latin typeface="Arial"/>
                <a:ea typeface="华文楷体"/>
              </a:rPr>
              <a:t>哗</a:t>
            </a:r>
            <a:r>
              <a:rPr b="0" lang="zh-CN" sz="20800" spc="-1" strike="noStrike">
                <a:solidFill>
                  <a:srgbClr val="000000"/>
                </a:solidFill>
                <a:latin typeface="Arial"/>
                <a:ea typeface="华文楷体"/>
              </a:rPr>
              <a:t>啦啦</a:t>
            </a:r>
            <a:endParaRPr b="0" lang="en-US" sz="208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推</a:t>
            </a: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门而入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嘀嘀嗒嗒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淅淅沥沥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叮叮咚咚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7572"/>
                </a:solidFill>
                <a:latin typeface="Arial"/>
                <a:ea typeface="华文楷体"/>
              </a:rPr>
              <a:t>各种各样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顺</a:t>
            </a: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流而下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cc0066"/>
                </a:solidFill>
                <a:latin typeface="Arial"/>
                <a:ea typeface="华文楷体"/>
              </a:rPr>
              <a:t>沟</a:t>
            </a: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通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百依百</a:t>
            </a:r>
            <a:r>
              <a:rPr b="1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顺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顺</a:t>
            </a: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手牵羊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风调雨</a:t>
            </a: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顺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顺</a:t>
            </a: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理成章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天</a:t>
            </a: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经</a:t>
            </a: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地义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经</a:t>
            </a: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年累月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漫不</a:t>
            </a:r>
            <a:r>
              <a:rPr b="0" lang="zh-CN" sz="15600" spc="-1" strike="noStrike">
                <a:solidFill>
                  <a:srgbClr val="cc0066"/>
                </a:solidFill>
                <a:latin typeface="Arial"/>
                <a:ea typeface="华文楷体"/>
              </a:rPr>
              <a:t>经</a:t>
            </a:r>
            <a:r>
              <a:rPr b="0" lang="zh-CN" sz="15600" spc="-1" strike="noStrike">
                <a:solidFill>
                  <a:srgbClr val="000000"/>
                </a:solidFill>
                <a:latin typeface="Arial"/>
                <a:ea typeface="华文楷体"/>
              </a:rPr>
              <a:t>心</a:t>
            </a:r>
            <a:endParaRPr b="0" lang="en-US" sz="156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96000" cy="302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3399"/>
                </a:solidFill>
                <a:latin typeface="Arial"/>
                <a:ea typeface="华文楷体"/>
              </a:rPr>
              <a:t>春天的小雨</a:t>
            </a:r>
            <a:endParaRPr b="0" lang="en-US" sz="11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620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     </a:t>
            </a:r>
            <a:r>
              <a:rPr b="0" lang="zh-CN" sz="8800" spc="-1" strike="noStrike">
                <a:solidFill>
                  <a:srgbClr val="0033cc"/>
                </a:solidFill>
                <a:latin typeface="Arial"/>
                <a:ea typeface="楷体_GB2312"/>
              </a:rPr>
              <a:t>雨，不大，却淅淅沥沥的下个不停。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2"/>
          <p:cNvSpPr/>
          <p:nvPr/>
        </p:nvSpPr>
        <p:spPr>
          <a:xfrm>
            <a:off x="250920" y="62064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雨不大，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像</a:t>
            </a:r>
            <a:r>
              <a:rPr b="0" lang="zh-CN" sz="7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0" lang="zh-CN" sz="7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，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179280" y="3141720"/>
            <a:ext cx="854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像</a:t>
            </a:r>
            <a:r>
              <a:rPr b="0" lang="zh-CN" sz="7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0" lang="zh-CN" sz="7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，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95280" y="443700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像</a:t>
            </a:r>
            <a:r>
              <a:rPr b="0" lang="zh-CN" sz="7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0" lang="zh-CN" sz="7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，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清泉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50920" y="620640"/>
            <a:ext cx="854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雨不大，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像</a:t>
            </a:r>
            <a:r>
              <a:rPr b="0" lang="zh-CN" sz="7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</a:t>
            </a:r>
            <a:r>
              <a:rPr b="0" lang="zh-CN" sz="7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，</a:t>
            </a: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像</a:t>
            </a:r>
            <a:r>
              <a:rPr b="0" lang="zh-CN" sz="7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      </a:t>
            </a:r>
            <a:r>
              <a:rPr b="0" lang="zh-CN" sz="7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，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0" lang="zh-CN" sz="7200" spc="-1" strike="noStrike">
                <a:solidFill>
                  <a:srgbClr val="0000ff"/>
                </a:solidFill>
                <a:latin typeface="Arial"/>
                <a:ea typeface="楷体_GB2312"/>
              </a:rPr>
              <a:t>像</a:t>
            </a:r>
            <a:r>
              <a:rPr b="0" lang="zh-CN" sz="72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</a:t>
            </a:r>
            <a:r>
              <a:rPr b="0" lang="zh-CN" sz="7200" spc="-1" strike="noStrike" u="sng">
                <a:solidFill>
                  <a:srgbClr val="0033cc"/>
                </a:solidFill>
                <a:uFillTx/>
                <a:latin typeface="Arial"/>
                <a:ea typeface="楷体_GB2312"/>
              </a:rPr>
              <a:t>            </a:t>
            </a: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楷体_GB2312"/>
              </a:rPr>
              <a:t>轻轻落下。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213720" y="17002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细线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63440" y="30686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无数根针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997720" y="4221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牛毛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08" descr="http://pic.yc55.com/yc55com/28440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60280"/>
            <a:ext cx="7488360" cy="60501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2" descr="http://img.3721.com/mms/color/99/1/vf2ph2oq1094.gif"/>
          <p:cNvPicPr/>
          <p:nvPr/>
        </p:nvPicPr>
        <p:blipFill>
          <a:blip r:embed="rId1"/>
          <a:stretch/>
        </p:blipFill>
        <p:spPr>
          <a:xfrm>
            <a:off x="611280" y="476280"/>
            <a:ext cx="7705800" cy="5832360"/>
          </a:xfrm>
          <a:prstGeom prst="rect">
            <a:avLst/>
          </a:prstGeom>
          <a:ln w="0">
            <a:noFill/>
          </a:ln>
        </p:spPr>
      </p:pic>
      <p:pic>
        <p:nvPicPr>
          <p:cNvPr id="121" name="纯雨声.wma" descr=""/>
          <p:cNvPicPr/>
          <p:nvPr/>
        </p:nvPicPr>
        <p:blipFill>
          <a:blip r:embed="rId2"/>
          <a:stretch/>
        </p:blipFill>
        <p:spPr>
          <a:xfrm>
            <a:off x="759636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13823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哗啦哗啦的水声，像一股清泉，从地底下涌出来，高兴的哗啦哗啦你推我挤似的。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打开一朵红色的花伞，走在林间的小路上，听雨滴打在树上，淅沥淅沥，啪啦啪啦，哗啦啦，哗啦啦，发出各种不同的声响，整个森林就像一座音乐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小雨滴在树叶上集合起来，成为一棵大水珠，顺着叶脉滑下来，打小鼓似的：啪！嗵嗵嗵！咚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咚咚咚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哗啦哗啦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的水声，像一股清泉，从地底下涌出来，高兴的哗啦哗啦你推我挤似的。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打开一朵红色的花伞，走在林间的小路上，听雨滴打在树上，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淅沥淅沥，啪啦啪啦，哗啦啦，哗啦啦，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发出各种不同的声响，整个森林就像一座音乐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小雨滴在树叶上集合起来，成为一棵大水珠，顺着叶脉滑下来，打小鼓似的：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啪！嗵嗵嗵！咚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——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咚咚咚</a:t>
            </a:r>
            <a:r>
              <a:rPr b="0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6" name="Picture 4" descr="178_385354_c6558b051cc01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集合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叶</a:t>
            </a:r>
            <a:r>
              <a:rPr b="0" lang="zh-CN" sz="27700" spc="-1" strike="noStrike">
                <a:solidFill>
                  <a:srgbClr val="cc0066"/>
                </a:solidFill>
                <a:latin typeface="Arial"/>
                <a:ea typeface="华文楷体"/>
              </a:rPr>
              <a:t>脉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已</a:t>
            </a:r>
            <a:r>
              <a:rPr b="0" lang="zh-CN" sz="27700" spc="-1" strike="noStrike">
                <a:solidFill>
                  <a:srgbClr val="cc0066"/>
                </a:solidFill>
                <a:latin typeface="Arial"/>
                <a:ea typeface="华文楷体"/>
              </a:rPr>
              <a:t>经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cc0066"/>
                </a:solidFill>
                <a:latin typeface="Arial"/>
                <a:ea typeface="华文楷体"/>
              </a:rPr>
              <a:t>经</a:t>
            </a: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过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阳</a:t>
            </a:r>
            <a:r>
              <a:rPr b="0" lang="zh-CN" sz="27700" spc="-1" strike="noStrike">
                <a:solidFill>
                  <a:srgbClr val="cc0066"/>
                </a:solidFill>
                <a:latin typeface="Arial"/>
                <a:ea typeface="华文楷体"/>
              </a:rPr>
              <a:t>伞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64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700" spc="-1" strike="noStrike">
                <a:solidFill>
                  <a:srgbClr val="000000"/>
                </a:solidFill>
                <a:latin typeface="Arial"/>
                <a:ea typeface="华文楷体"/>
              </a:rPr>
              <a:t>雨</a:t>
            </a:r>
            <a:r>
              <a:rPr b="0" lang="zh-CN" sz="27700" spc="-1" strike="noStrike">
                <a:solidFill>
                  <a:srgbClr val="cc0066"/>
                </a:solidFill>
                <a:latin typeface="Arial"/>
                <a:ea typeface="华文楷体"/>
              </a:rPr>
              <a:t>伞</a:t>
            </a:r>
            <a:endParaRPr b="0" lang="en-US" sz="277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4:53:18Z</dcterms:created>
  <dc:creator/>
  <dc:description/>
  <dc:language>en-US</dc:language>
  <cp:lastModifiedBy>微软用户</cp:lastModifiedBy>
  <dcterms:modified xsi:type="dcterms:W3CDTF">2015-06-01T07:03:20Z</dcterms:modified>
  <cp:revision>5</cp:revision>
  <dc:subject/>
  <dc:title>春天的小雨</dc:title>
</cp:coreProperties>
</file>