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F1C-A1A5-4E0E-9C97-58ABC752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C24-DBA6-4332-99DB-B49F9F16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57F-1595-4180-8393-F1BA604B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AEF-37FA-4715-B213-50F3F15E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03CF-DA80-4361-8462-BF152909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0373-E51A-41E3-9912-8D325182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FA4-EFF3-472C-B87B-A3096DEF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BCD7-42D0-4B01-8603-F407F125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5BD-FBCE-43E5-9D88-E683D22A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634-BC23-4DC5-903C-5CBA93EC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80AB-473F-448C-AC10-A1E43F72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292-38F7-4836-B76D-82CD2510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3521-5712-4FC6-BB9C-9B587AAE1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982800" y="144792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9600" spc="-1" strike="noStrike">
                <a:solidFill>
                  <a:srgbClr val="000000"/>
                </a:solidFill>
                <a:latin typeface="黑体"/>
                <a:ea typeface="黑体"/>
              </a:rPr>
              <a:t>地 动 仪</a:t>
            </a:r>
            <a:r>
              <a:rPr b="0" lang="en-US" sz="9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340000" y="256536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</a:rPr>
              <a:t>谢谢指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1219320" y="914400"/>
            <a:ext cx="73152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仪   武   拜   皇   横   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派   慰   臣   焦   铜   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152280" y="457200"/>
            <a:ext cx="87631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拜    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必定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报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设计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口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著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问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臣    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震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屋倒塌        亲朋好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百官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速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官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0" y="0"/>
            <a:ext cx="88390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臣     武     拜    皇     派     速      慰      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臣    臣子     忠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武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武    武术     武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拜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参拜    拜见     拜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皇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皇上    皇宫     皇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派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派    派人     派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速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    快速     飞速    速战速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慰问    安慰      欣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焦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焦急    烧焦     焦头烂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80880" y="673200"/>
            <a:ext cx="4343400" cy="557532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5334120" y="14158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张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78-139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字平子，南阳西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河南南阳县石桥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。他是我国东汉时期伟大的天文学家，为我国天文学的发展作出了不可磨灭的贡献；在数学、地理、绘画和文学等方面，张衡也表现出了非凡的才能和广博的学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u=2496463841,556123579&amp;fm=23&amp;gp=0"/>
          <p:cNvPicPr/>
          <p:nvPr/>
        </p:nvPicPr>
        <p:blipFill>
          <a:blip r:embed="rId1"/>
          <a:stretch/>
        </p:blipFill>
        <p:spPr>
          <a:xfrm>
            <a:off x="19080" y="533520"/>
            <a:ext cx="4172040" cy="5029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4624560" y="380880"/>
            <a:ext cx="42670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是一件铜铸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器物，模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酒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面铸着八条龙，龙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着东、南、西、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八个方向。龙嘴是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，每个嘴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一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铜球。每个龙头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只张嘴大蛤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u=2496463841,556123579&amp;fm=23&amp;gp=0"/>
          <p:cNvPicPr/>
          <p:nvPr/>
        </p:nvPicPr>
        <p:blipFill>
          <a:blip r:embed="rId1"/>
          <a:stretch/>
        </p:blipFill>
        <p:spPr>
          <a:xfrm>
            <a:off x="1905120" y="755640"/>
            <a:ext cx="6324480" cy="53402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4624560" y="3808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342720" y="1633680"/>
            <a:ext cx="1003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地   动   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u=2496463841,556123579&amp;fm=23&amp;gp=0"/>
          <p:cNvPicPr/>
          <p:nvPr/>
        </p:nvPicPr>
        <p:blipFill>
          <a:blip r:embed="rId1"/>
          <a:stretch/>
        </p:blipFill>
        <p:spPr>
          <a:xfrm>
            <a:off x="95400" y="1125360"/>
            <a:ext cx="4324320" cy="4724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4648320" y="9144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648320" y="1417680"/>
            <a:ext cx="41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动仪可以测八个方向的地动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只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远处大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震动，所对的那条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会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报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04920" y="152280"/>
            <a:ext cx="84582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启禀皇上，京都正西方向发生了地动，现在那里一定是房屋倒塌，江河横溢，请皇上速派官员去慰问。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位六十多岁的大臣用焦急的口吻对皇帝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顺帝问张衡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你说西方地动，有什么根据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张衡说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我用地动仪测到的，三日内必定有人来报告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天，果然有人前来报告，陇西发生了大地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u=448446987,485096743&amp;fm=21&amp;gp=0"/>
          <p:cNvPicPr/>
          <p:nvPr/>
        </p:nvPicPr>
        <p:blipFill>
          <a:blip r:embed="rId1"/>
          <a:stretch/>
        </p:blipFill>
        <p:spPr>
          <a:xfrm>
            <a:off x="228600" y="1676520"/>
            <a:ext cx="403848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u=2998016199,4222788402&amp;fm=23&amp;gp=0"/>
          <p:cNvPicPr/>
          <p:nvPr/>
        </p:nvPicPr>
        <p:blipFill>
          <a:blip r:embed="rId2"/>
          <a:stretch/>
        </p:blipFill>
        <p:spPr>
          <a:xfrm>
            <a:off x="4800600" y="1600200"/>
            <a:ext cx="39625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419720" y="858960"/>
            <a:ext cx="449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张衡发明的这架地动仪，是世界上最早的测报地震的仪器，比欧洲人发明的仪器早了一千七百多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u=2496463841,556123579&amp;fm=23&amp;gp=0"/>
          <p:cNvPicPr/>
          <p:nvPr/>
        </p:nvPicPr>
        <p:blipFill>
          <a:blip r:embed="rId1"/>
          <a:stretch/>
        </p:blipFill>
        <p:spPr>
          <a:xfrm>
            <a:off x="28440" y="552600"/>
            <a:ext cx="423864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" y="22860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522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知道中国古代的四大发明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u=3423351027,4133964914&amp;fm=23&amp;gp=0"/>
          <p:cNvPicPr/>
          <p:nvPr/>
        </p:nvPicPr>
        <p:blipFill>
          <a:blip r:embed="rId1"/>
          <a:srcRect l="0" t="0" r="0" b="6937"/>
          <a:stretch/>
        </p:blipFill>
        <p:spPr>
          <a:xfrm>
            <a:off x="228600" y="1371600"/>
            <a:ext cx="86868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7273777_112337564301_2"/>
          <p:cNvPicPr/>
          <p:nvPr/>
        </p:nvPicPr>
        <p:blipFill>
          <a:blip r:embed="rId1"/>
          <a:srcRect l="0" t="0" r="0" b="5558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User</cp:lastModifiedBy>
  <dcterms:modified xsi:type="dcterms:W3CDTF">2015-12-10T15:17:30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