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16.png" ContentType="image/png"/>
  <Override PartName="/ppt/media/chimes.wav" ContentType="audio/x-wav"/>
  <Override PartName="/ppt/media/image6.jpeg" ContentType="image/jpeg"/>
  <Override PartName="/ppt/media/image2.jpeg" ContentType="image/jpeg"/>
  <Override PartName="/ppt/media/image12.jpeg" ContentType="image/jpeg"/>
  <Override PartName="/ppt/media/cashreg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13FD-6D72-464C-AFCE-6B480D9E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F290-C748-453E-B84A-F21BFBA8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06E33-76F1-49A2-A2A2-6D54184C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F5D2A-985D-41D5-A90A-89887DF7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2ECA2-0B27-47EB-AB53-993F5012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ABD8A-496E-431A-AC92-C6FB3D96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8D803-D3FE-4CD5-AF30-E94D8AF2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72215-64B0-4F06-9815-21D143FD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350A0-619A-4257-9842-84D4B2C1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40E8D-EC1A-4796-9743-D646DF2F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48DE6-772D-4D49-A255-8F1EF672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E88AC-1516-4079-9567-A949D177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6C90-CD25-4C23-9ACC-2FE4C097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27D63-ACAB-47B9-ABF7-5503B0F4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11509-DF11-4CE7-9C04-A04AC6E7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F9558-0132-415B-8B3C-6770E5AE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B4E03-D790-4567-8662-04F55CF7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CA7AB-1961-4049-AFEF-13258133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81A51-1635-41AE-8EED-48FA0132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21251-BD66-4FBE-B96B-543DB4A3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E3B35-E22C-461F-8EB4-929B7CA2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D63C9-B2C8-4D22-B6BD-7A941D5A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80588-87CE-401A-AEDC-EFB30D9A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3026-69B2-436C-9020-B8FA447D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56708-1A6D-4C01-A6AD-B41F5B8D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AD7F7-8779-4F2A-9D9C-30BB4176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443BB-0FBC-4679-BB85-3FE16CBE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2A1CA-02AB-4994-B713-4A7ABF6C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DA25E-2697-4B62-BDE4-7FF516D5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E3B2B-D222-417C-80C1-B927675A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0AC69-7B34-480E-9504-0E49822E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07C98-F5D0-453D-8A35-58210752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2C775-C51A-40D8-A7AF-1354FBCC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CDF96-73CF-4E40-B69B-E28A6401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8071-2E26-4DC6-8E67-7077E152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6803D-4C70-4538-A1AB-37AB3722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0D0D1-4E19-4421-823B-7822A767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8397F-D067-40B6-BB3D-E815D5EC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FA5E8-44FA-487C-848F-B8D38892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B6189-E992-49E7-8116-D2DDF2BE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9898A-7FA9-41D2-BCE9-AA603FEA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CCF5D-E7E3-4C5B-9FD6-C64B4A8B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C3F34-D074-4A25-A47F-4F16F85F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ACB06-65C6-4778-8D34-B52FE766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F18A2-2894-4590-BF4D-2EBA28FF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17F4-2956-4D08-9950-37D94825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A256A-7C8A-4176-8E8A-5B6C52CA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EEBC1-CE67-4E39-A60F-BCFA6DF3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E73C5-9852-4102-B7F4-44D529B6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38E0B-A5F7-4CBB-B54F-EF390897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73D48-C838-4D04-8F8B-F7DFD39A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F146-DEFB-4747-8DA0-F8A11B3F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24D4-7E03-411F-B403-23ACB1F1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2267-241D-48CC-BC72-4ED15945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69B1-047D-4AAB-B1E6-C44926D2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F96F-1353-4482-9E2A-EBA97D2F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C28F-9166-481F-9994-A59495B0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87D7-2BC0-4DF3-9767-9E25E435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EEB9-565F-4DF2-8AEE-6D97A914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88E0-85B9-4FCC-A77F-9C1FCB5C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8C5E-0FD2-4680-B3B3-48389FC3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237C-7C04-4C4A-ADF0-3B4B820E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D926C-DDF1-49E8-933E-74B14069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A71E4-6800-4C37-BB29-307AC00C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65470-1A72-4C6C-8ACD-BD0A9F92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21BA1-BBB8-44FC-AAC1-E66E236A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C71B5-3569-47E9-8BCE-F434AEC8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2E3-084F-4F9E-9C1F-7BE16ACE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DB67F-9A51-4B41-8A4B-5D6AB27D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6BD56-1D47-4213-8C3D-072DF9DE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08B26-A389-4BB9-8F95-F615FC02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13A1A-9F51-424A-950E-04758FB8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76857-992D-4AEE-AFAD-FB3B437C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FE4F9-F2BC-4417-A3A2-EEB6D84C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45AE4-09D7-4E6E-8ABE-5128855E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00827-193C-4C18-AF33-C556B161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A30ED-2EC0-469B-997F-6151D680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90F30-4766-49D1-B7EC-E16A4587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7112-E8F8-49C2-B232-068EDDAC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948BA-6FD6-4EC9-B8E5-0AA91ADA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2F53C-0BFF-4112-89F2-81B0469D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2D92A-3A1D-4A0F-8A54-9E349573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DFB07-BA78-4560-83BD-9F20B895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7CE6A-D2F2-4E2B-ABA4-2C1E9708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81BD1-63E2-4EF7-A339-1DE9C828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43BBD-1745-47A9-981E-F1155F93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9E8D8-A0E4-48E0-BBA1-9F8E3343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EF5C7-5FBE-4C54-8BB8-087BAE6F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81BB6-AE36-4132-BFE1-0FDC578A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5A0C-21D9-49F1-B0C7-EE6CE2F2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21240-594B-48C4-A116-08870C08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E3368-9ECE-4BD4-BB5B-FC56A31F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43229-49AD-43EF-9392-72857583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4C1DB-7E82-4FE7-B46B-7E4F1547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2AEE0-4807-4DD5-9EDA-735FF902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68798-2B51-4E16-838F-8C9739DD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3B3D6-2990-4636-B5B1-0CECCFA2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517DD-DD8C-4AB6-A83F-25F25B8E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6FFDC-F4AF-4CEA-A8C3-DB672326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BB863-9C51-40D1-A320-F8BE7A41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B767-1169-4D95-AA21-E839A624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F361A-0529-4F65-9115-54518E62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B4215-85CA-4CE8-B67B-D29DC162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AD140-CC81-4EC5-92E2-104D594C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BB926-4D0F-492C-A2D8-90ED1578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61158-2090-492B-8F74-3C0362A9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5D18F-FAD5-4886-BD80-B5C1ECCE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65308-CF8B-458B-90B1-8085ED97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99920-6446-4689-B107-15E1EC5D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86A72-B6D3-488F-945C-3BEC312D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1043E-1726-4FA3-9A81-565474CC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645B-0264-4E2F-9056-C43C68D2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2289D-FFD6-4D8B-9647-AF92DCDA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4FC78-E77A-4B1B-9ACA-CCD6E90B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BA401-1C68-4D0D-9388-68CEB686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DC536-34FA-446C-8447-6CB36514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FB264-B989-480A-81E1-16567B87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DE177-D1C1-492C-8B3A-D0A099E7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52A2B-BA97-4F06-A185-D1B00DC3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94265-7F06-4EEC-9060-C12E1FDB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9BA87-7817-4F7E-8CB3-A3BB9676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A87C7-A295-4D41-B245-B6EC5142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D97-58B5-47C6-A0A8-0FE3A41E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9E0C5-B050-4852-8813-24EAC8DE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41557-02BC-4934-99CC-542238BE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64BA2-14CE-4D78-9157-544F7719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82009-F052-4BE4-8FA7-AB53A3D8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8BD06-0425-4E60-A5BC-AEF20AAD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C0B95-3A29-473B-B4EE-4E19A684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9AFE5-F684-4C48-90B8-18E22CFA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E6899-5705-41C4-B5B2-906637A3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A4503-2EA1-48EC-877B-2D67E164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E40E8-0325-40E5-916B-5B39F8F9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534A-F3A1-4D1C-8E41-74402174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0B08A-5BB0-4361-B10E-3AD73A92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B8FB8-539C-4A81-B8B4-4E3AD5A7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76EFA-8BDD-4656-A26E-C3042018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6AB9C-A13A-46DC-92DA-E049DEB4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A7258-EDC5-41C7-A493-5E6E3BED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69711-617E-4B4C-BA4F-9BC5FD55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C98CB-403E-4790-AF34-4C6EDAE9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1E0BD-E0E9-4FF6-B414-A4292511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976EB-80DF-4CAB-9710-A9B5EF4C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11B72-C025-4E84-94A2-8AA6A38C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3748-C302-4ACA-A7E9-DF7361648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EB86-8ED8-4B68-825C-1A085C9F2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F2DD-8E46-450D-964E-1C6EBB863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8694-4A93-4E42-8ECB-09AE4458F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C608-0E35-41B5-8429-96367D71F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E153-B11D-4AB1-B297-934332BE9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9B4A-A03B-4614-8225-AE687FF85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BD66-4035-4116-ACCD-23C0C0A65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1BDD-31F3-4146-BD5C-E0A2E18BE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0106-6BCC-4C7E-9BAA-52929145C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66FB-904B-48D8-979C-4F9EF892F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1DE6-0606-429A-B13B-10070CCD6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yl_yong.exe" TargetMode="External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WordArt 10" descr=""/>
          <p:cNvPicPr/>
          <p:nvPr/>
        </p:nvPicPr>
        <p:blipFill>
          <a:blip r:embed="rId1"/>
          <a:stretch/>
        </p:blipFill>
        <p:spPr>
          <a:xfrm>
            <a:off x="1523880" y="3276720"/>
            <a:ext cx="6248520" cy="144756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6" descr="20097811255646"/>
          <p:cNvPicPr/>
          <p:nvPr/>
        </p:nvPicPr>
        <p:blipFill>
          <a:blip r:embed="rId1"/>
          <a:stretch/>
        </p:blipFill>
        <p:spPr>
          <a:xfrm>
            <a:off x="0" y="0"/>
            <a:ext cx="8077320" cy="4705200"/>
          </a:xfrm>
          <a:prstGeom prst="rect">
            <a:avLst/>
          </a:prstGeom>
          <a:ln w="0">
            <a:noFill/>
          </a:ln>
        </p:spPr>
      </p:pic>
      <p:sp>
        <p:nvSpPr>
          <p:cNvPr id="547" name="AutoShape 7"/>
          <p:cNvSpPr/>
          <p:nvPr/>
        </p:nvSpPr>
        <p:spPr>
          <a:xfrm>
            <a:off x="228600" y="4419720"/>
            <a:ext cx="8610480" cy="144756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碧 玉 妆 成  一 树 高，万 条 垂 下  绿 丝 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 知 细 叶  谁 裁 出，二 月 春 风  似 剪 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1676520" y="4718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2796480" y="4718160"/>
            <a:ext cx="2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0"/>
          <p:cNvSpPr/>
          <p:nvPr/>
        </p:nvSpPr>
        <p:spPr>
          <a:xfrm>
            <a:off x="5181480" y="4718160"/>
            <a:ext cx="6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1"/>
          <p:cNvSpPr/>
          <p:nvPr/>
        </p:nvSpPr>
        <p:spPr>
          <a:xfrm>
            <a:off x="6095880" y="47181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2"/>
          <p:cNvSpPr/>
          <p:nvPr/>
        </p:nvSpPr>
        <p:spPr>
          <a:xfrm>
            <a:off x="1676520" y="50990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3"/>
          <p:cNvSpPr/>
          <p:nvPr/>
        </p:nvSpPr>
        <p:spPr>
          <a:xfrm>
            <a:off x="2590920" y="5121360"/>
            <a:ext cx="6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4"/>
          <p:cNvSpPr/>
          <p:nvPr/>
        </p:nvSpPr>
        <p:spPr>
          <a:xfrm>
            <a:off x="5181480" y="5121360"/>
            <a:ext cx="6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5"/>
          <p:cNvSpPr/>
          <p:nvPr/>
        </p:nvSpPr>
        <p:spPr>
          <a:xfrm>
            <a:off x="6301800" y="5175360"/>
            <a:ext cx="2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380880" y="586116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8"/>
          <p:cNvSpPr/>
          <p:nvPr/>
        </p:nvSpPr>
        <p:spPr>
          <a:xfrm>
            <a:off x="0" y="5708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高高的柳树好像用碧绿的玉石打扮起来的一样，无数条柳枝低垂摇荡，好像根根丝织的带子。不知道这纤细的叶片是谁用心裁剪出来的，大概是二月的春风这把神奇的大剪刀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4"/>
          <p:cNvSpPr/>
          <p:nvPr/>
        </p:nvSpPr>
        <p:spPr>
          <a:xfrm>
            <a:off x="7772400" y="6318360"/>
            <a:ext cx="1295280" cy="380880"/>
          </a:xfrm>
          <a:custGeom>
            <a:avLst/>
            <a:gdLst>
              <a:gd name="textAreaLeft" fmla="*/ 24480 w 1295280"/>
              <a:gd name="textAreaRight" fmla="*/ 1270800 w 1295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07" h="21600">
                <a:moveTo>
                  <a:pt x="0" y="0"/>
                </a:moveTo>
                <a:lnTo>
                  <a:pt x="73407" y="0"/>
                </a:lnTo>
                <a:lnTo>
                  <a:pt x="73407" y="21600"/>
                </a:lnTo>
                <a:lnTo>
                  <a:pt x="0" y="21600"/>
                </a:lnTo>
                <a:close/>
              </a:path>
              <a:path fill="lightenLess" w="73407" h="21600">
                <a:moveTo>
                  <a:pt x="0" y="0"/>
                </a:moveTo>
                <a:lnTo>
                  <a:pt x="73407" y="0"/>
                </a:lnTo>
                <a:lnTo>
                  <a:pt x="72007" y="1400"/>
                </a:lnTo>
                <a:lnTo>
                  <a:pt x="1400" y="1400"/>
                </a:lnTo>
                <a:close/>
              </a:path>
              <a:path fill="darken" w="73407" h="21600">
                <a:moveTo>
                  <a:pt x="73407" y="0"/>
                </a:moveTo>
                <a:lnTo>
                  <a:pt x="73407" y="21600"/>
                </a:lnTo>
                <a:lnTo>
                  <a:pt x="72007" y="20200"/>
                </a:lnTo>
                <a:lnTo>
                  <a:pt x="72007" y="1400"/>
                </a:lnTo>
                <a:close/>
              </a:path>
              <a:path fill="darkenLess" w="73407" h="21600">
                <a:moveTo>
                  <a:pt x="734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07" y="20200"/>
                </a:lnTo>
                <a:close/>
              </a:path>
              <a:path fill="lighten" w="734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07" h="21600">
                <a:moveTo>
                  <a:pt x="29697" y="10800"/>
                </a:moveTo>
                <a:lnTo>
                  <a:pt x="43710" y="3794"/>
                </a:lnTo>
                <a:lnTo>
                  <a:pt x="4371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柳1"/>
          <p:cNvPicPr/>
          <p:nvPr/>
        </p:nvPicPr>
        <p:blipFill>
          <a:blip r:embed="rId1"/>
          <a:stretch/>
        </p:blipFill>
        <p:spPr>
          <a:xfrm>
            <a:off x="1258920" y="1557360"/>
            <a:ext cx="6629400" cy="452916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3"/>
          <p:cNvSpPr/>
          <p:nvPr/>
        </p:nvSpPr>
        <p:spPr>
          <a:xfrm>
            <a:off x="1260360" y="1039680"/>
            <a:ext cx="15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8e82c"/>
                </a:solidFill>
                <a:latin typeface="Arial"/>
              </a:rPr>
              <a:t>诗境体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柳2"/>
          <p:cNvPicPr/>
          <p:nvPr/>
        </p:nvPicPr>
        <p:blipFill>
          <a:blip r:embed="rId1"/>
          <a:stretch/>
        </p:blipFill>
        <p:spPr>
          <a:xfrm>
            <a:off x="1403280" y="1557360"/>
            <a:ext cx="6400800" cy="458784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3"/>
          <p:cNvSpPr/>
          <p:nvPr/>
        </p:nvSpPr>
        <p:spPr>
          <a:xfrm>
            <a:off x="1143000" y="990720"/>
            <a:ext cx="155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8e82c"/>
                </a:solidFill>
                <a:latin typeface="Arial"/>
              </a:rPr>
              <a:t>诗境体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柳3"/>
          <p:cNvPicPr/>
          <p:nvPr/>
        </p:nvPicPr>
        <p:blipFill>
          <a:blip r:embed="rId1"/>
          <a:stretch/>
        </p:blipFill>
        <p:spPr>
          <a:xfrm>
            <a:off x="1619280" y="1557360"/>
            <a:ext cx="6172200" cy="461808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1260360" y="1039680"/>
            <a:ext cx="15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8e82c"/>
                </a:solidFill>
                <a:latin typeface="Arial"/>
              </a:rPr>
              <a:t>诗境体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柳4"/>
          <p:cNvPicPr/>
          <p:nvPr/>
        </p:nvPicPr>
        <p:blipFill>
          <a:blip r:embed="rId1"/>
          <a:srcRect l="0" t="0" r="0" b="10112"/>
          <a:stretch/>
        </p:blipFill>
        <p:spPr>
          <a:xfrm>
            <a:off x="990720" y="1800360"/>
            <a:ext cx="7315200" cy="383832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3"/>
          <p:cNvSpPr/>
          <p:nvPr/>
        </p:nvSpPr>
        <p:spPr>
          <a:xfrm>
            <a:off x="1260360" y="1039680"/>
            <a:ext cx="15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8e82c"/>
                </a:solidFill>
                <a:latin typeface="Arial"/>
              </a:rPr>
              <a:t>诗境体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柳5"/>
          <p:cNvPicPr/>
          <p:nvPr/>
        </p:nvPicPr>
        <p:blipFill>
          <a:blip r:embed="rId1"/>
          <a:stretch/>
        </p:blipFill>
        <p:spPr>
          <a:xfrm>
            <a:off x="2916360" y="981000"/>
            <a:ext cx="4286160" cy="511200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3"/>
          <p:cNvSpPr/>
          <p:nvPr/>
        </p:nvSpPr>
        <p:spPr>
          <a:xfrm>
            <a:off x="1260360" y="1039680"/>
            <a:ext cx="15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8e82c"/>
                </a:solidFill>
                <a:latin typeface="Arial"/>
              </a:rPr>
              <a:t>诗境体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4"/>
          <p:cNvSpPr/>
          <p:nvPr/>
        </p:nvSpPr>
        <p:spPr>
          <a:xfrm>
            <a:off x="8229600" y="6326280"/>
            <a:ext cx="914400" cy="531720"/>
          </a:xfrm>
          <a:custGeom>
            <a:avLst/>
            <a:gdLst>
              <a:gd name="textAreaLeft" fmla="*/ 34200 w 914400"/>
              <a:gd name="textAreaRight" fmla="*/ 880200 w 914400"/>
              <a:gd name="textAreaTop" fmla="*/ 34200 h 531720"/>
              <a:gd name="textAreaBottom" fmla="*/ 497520 h 531720"/>
            </a:gdLst>
            <a:ahLst/>
            <a:rect l="textAreaLeft" t="textAreaTop" r="textAreaRight" b="textAreaBottom"/>
            <a:pathLst>
              <a:path w="37135" h="21600">
                <a:moveTo>
                  <a:pt x="0" y="0"/>
                </a:moveTo>
                <a:lnTo>
                  <a:pt x="37135" y="0"/>
                </a:lnTo>
                <a:lnTo>
                  <a:pt x="37135" y="21600"/>
                </a:lnTo>
                <a:lnTo>
                  <a:pt x="0" y="21600"/>
                </a:lnTo>
                <a:close/>
              </a:path>
              <a:path fill="lightenLess" w="37135" h="21600">
                <a:moveTo>
                  <a:pt x="0" y="0"/>
                </a:moveTo>
                <a:lnTo>
                  <a:pt x="37135" y="0"/>
                </a:lnTo>
                <a:lnTo>
                  <a:pt x="35735" y="1400"/>
                </a:lnTo>
                <a:lnTo>
                  <a:pt x="1400" y="1400"/>
                </a:lnTo>
                <a:close/>
              </a:path>
              <a:path fill="darken" w="37135" h="21600">
                <a:moveTo>
                  <a:pt x="37135" y="0"/>
                </a:moveTo>
                <a:lnTo>
                  <a:pt x="37135" y="21600"/>
                </a:lnTo>
                <a:lnTo>
                  <a:pt x="35735" y="20200"/>
                </a:lnTo>
                <a:lnTo>
                  <a:pt x="35735" y="1400"/>
                </a:lnTo>
                <a:close/>
              </a:path>
              <a:path fill="darkenLess" w="37135" h="21600">
                <a:moveTo>
                  <a:pt x="37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35" y="20200"/>
                </a:lnTo>
                <a:close/>
              </a:path>
              <a:path fill="lighten" w="37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135" h="21600">
                <a:moveTo>
                  <a:pt x="11561" y="10800"/>
                </a:moveTo>
                <a:lnTo>
                  <a:pt x="25574" y="3794"/>
                </a:lnTo>
                <a:lnTo>
                  <a:pt x="2557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小学语文(古诗词)04"/>
          <p:cNvPicPr/>
          <p:nvPr/>
        </p:nvPicPr>
        <p:blipFill>
          <a:blip r:embed="rId1"/>
          <a:stretch/>
        </p:blipFill>
        <p:spPr>
          <a:xfrm>
            <a:off x="900000" y="98100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3"/>
          <p:cNvSpPr/>
          <p:nvPr/>
        </p:nvSpPr>
        <p:spPr>
          <a:xfrm>
            <a:off x="755640" y="1197000"/>
            <a:ext cx="74563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☆诗人用古诗赞美了柳树。你能用自己的话来赞美柳树吗？把你想到的写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☆背诵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咏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4" descr="咏柳"/>
          <p:cNvPicPr/>
          <p:nvPr/>
        </p:nvPicPr>
        <p:blipFill>
          <a:blip r:embed="rId2"/>
          <a:stretch/>
        </p:blipFill>
        <p:spPr>
          <a:xfrm>
            <a:off x="4356000" y="3284640"/>
            <a:ext cx="365760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609480" y="2574720"/>
            <a:ext cx="70866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10f6"/>
                </a:solidFill>
                <a:latin typeface="Arial"/>
              </a:rPr>
              <a:t>春日</a:t>
            </a:r>
            <a:r>
              <a:rPr b="1" lang="zh-CN" sz="2800" spc="-1" strike="noStrike">
                <a:solidFill>
                  <a:srgbClr val="0a10f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宋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朱 熹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a10f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a10f6"/>
                </a:solidFill>
                <a:latin typeface="Arial"/>
              </a:rPr>
              <a:t>胜日寻芳泗水滨， 无边光景一时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a10f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a10f6"/>
                </a:solidFill>
                <a:latin typeface="Arial"/>
              </a:rPr>
              <a:t>等闲识得东风面， 万紫千红总是春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3"/>
          <p:cNvSpPr/>
          <p:nvPr/>
        </p:nvSpPr>
        <p:spPr>
          <a:xfrm>
            <a:off x="7467480" y="6248520"/>
            <a:ext cx="1676520" cy="533160"/>
          </a:xfrm>
          <a:custGeom>
            <a:avLst/>
            <a:gdLst>
              <a:gd name="textAreaLeft" fmla="*/ 34560 w 1676520"/>
              <a:gd name="textAreaRight" fmla="*/ 1641960 w 1676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67890" h="21600">
                <a:moveTo>
                  <a:pt x="0" y="0"/>
                </a:moveTo>
                <a:lnTo>
                  <a:pt x="67890" y="0"/>
                </a:lnTo>
                <a:lnTo>
                  <a:pt x="67890" y="21600"/>
                </a:lnTo>
                <a:lnTo>
                  <a:pt x="0" y="21600"/>
                </a:lnTo>
                <a:close/>
              </a:path>
              <a:path fill="lightenLess" w="67890" h="21600">
                <a:moveTo>
                  <a:pt x="0" y="0"/>
                </a:moveTo>
                <a:lnTo>
                  <a:pt x="67890" y="0"/>
                </a:lnTo>
                <a:lnTo>
                  <a:pt x="66490" y="1400"/>
                </a:lnTo>
                <a:lnTo>
                  <a:pt x="1400" y="1400"/>
                </a:lnTo>
                <a:close/>
              </a:path>
              <a:path fill="darken" w="67890" h="21600">
                <a:moveTo>
                  <a:pt x="67890" y="0"/>
                </a:moveTo>
                <a:lnTo>
                  <a:pt x="67890" y="21600"/>
                </a:lnTo>
                <a:lnTo>
                  <a:pt x="66490" y="20200"/>
                </a:lnTo>
                <a:lnTo>
                  <a:pt x="66490" y="1400"/>
                </a:lnTo>
                <a:close/>
              </a:path>
              <a:path fill="darkenLess" w="67890" h="21600">
                <a:moveTo>
                  <a:pt x="67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90" y="20200"/>
                </a:lnTo>
                <a:close/>
              </a:path>
              <a:path fill="lighten" w="67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890" h="21600">
                <a:moveTo>
                  <a:pt x="26938" y="10800"/>
                </a:moveTo>
                <a:lnTo>
                  <a:pt x="40951" y="3794"/>
                </a:lnTo>
                <a:lnTo>
                  <a:pt x="4095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chimes.wav"/>
      </p:stSnd>
    </p:sndAc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WordArt 6"/>
          <p:cNvSpPr txBox="1"/>
          <p:nvPr/>
        </p:nvSpPr>
        <p:spPr>
          <a:xfrm rot="720000">
            <a:off x="2971440" y="2133720"/>
            <a:ext cx="5095800" cy="23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521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68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华文新魏"/>
              </a:rPr>
              <a:t>谢谢！</a:t>
            </a:r>
            <a:endParaRPr b="0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68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0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250" autoRev="1" fill="hold"/>
                                        <p:tgtEl>
                                          <p:spTgt spid="5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5"/>
          <p:cNvSpPr/>
          <p:nvPr/>
        </p:nvSpPr>
        <p:spPr>
          <a:xfrm>
            <a:off x="5410080" y="6858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咏    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5791320" y="3049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ǒng     li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6019920" y="1295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贺知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4876920" y="18288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碧 玉 妆 成 一 树 高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 flipH="1">
            <a:off x="5637960" y="16002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huā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5105520" y="25146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 条 垂 下 绿 丝 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7467480" y="22096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ī   tā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5105520" y="32004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 知 细 叶 谁 裁 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5181480" y="38098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 月 春 风 似 剪 刀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5"/>
          <p:cNvSpPr/>
          <p:nvPr/>
        </p:nvSpPr>
        <p:spPr>
          <a:xfrm>
            <a:off x="1523880" y="6400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9"/>
          <p:cNvSpPr/>
          <p:nvPr/>
        </p:nvSpPr>
        <p:spPr>
          <a:xfrm>
            <a:off x="1905120" y="5791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0"/>
          <p:cNvSpPr/>
          <p:nvPr/>
        </p:nvSpPr>
        <p:spPr>
          <a:xfrm>
            <a:off x="3962520" y="5791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  <p:sndAc>
      <p:stSnd>
        <p:snd r:embed="rId1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3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80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2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19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74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133"/>
          <p:cNvPicPr/>
          <p:nvPr/>
        </p:nvPicPr>
        <p:blipFill>
          <a:blip r:embed="rId1"/>
          <a:stretch/>
        </p:blipFill>
        <p:spPr>
          <a:xfrm>
            <a:off x="4952880" y="152280"/>
            <a:ext cx="3962520" cy="655344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3"/>
          <p:cNvSpPr/>
          <p:nvPr/>
        </p:nvSpPr>
        <p:spPr>
          <a:xfrm>
            <a:off x="1600200" y="1905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咏    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1371600" y="1523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yǒng      li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685800" y="32767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歌颂赞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685800" y="388620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柳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柳树，落叶乔木或灌木，叶子狭长，种类很多。本诗描写的是垂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1955160" y="2590920"/>
            <a:ext cx="9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贺知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5"/>
          <p:cNvSpPr/>
          <p:nvPr/>
        </p:nvSpPr>
        <p:spPr>
          <a:xfrm flipH="1">
            <a:off x="3635280" y="228600"/>
            <a:ext cx="268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6"/>
          <p:cNvSpPr/>
          <p:nvPr/>
        </p:nvSpPr>
        <p:spPr>
          <a:xfrm>
            <a:off x="2133720" y="76320"/>
            <a:ext cx="4572000" cy="1600200"/>
          </a:xfrm>
          <a:prstGeom prst="wedgeRoundRectCallout">
            <a:avLst>
              <a:gd name="adj1" fmla="val -58648"/>
              <a:gd name="adj2" fmla="val 10237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1828800" y="45720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ff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ff66ff"/>
                </a:solidFill>
                <a:latin typeface="华文行楷"/>
                <a:ea typeface="华文行楷"/>
              </a:rPr>
              <a:t>作 者 简 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9" descr="贺知章的照片"/>
          <p:cNvPicPr/>
          <p:nvPr/>
        </p:nvPicPr>
        <p:blipFill>
          <a:blip r:embed="rId1"/>
          <a:stretch/>
        </p:blipFill>
        <p:spPr>
          <a:xfrm>
            <a:off x="6172200" y="1676520"/>
            <a:ext cx="2666880" cy="373356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11"/>
          <p:cNvSpPr/>
          <p:nvPr/>
        </p:nvSpPr>
        <p:spPr>
          <a:xfrm>
            <a:off x="152280" y="2362320"/>
            <a:ext cx="5867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贺知章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59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4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唐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诗人、书法家，会稽永兴（浙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省萧山）人。少年就以文章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9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进士，做过礼部侍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官。今存诗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首，除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咏柳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外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采莲诗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回乡偶书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很有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7"/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ashreg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1187280" y="1197000"/>
            <a:ext cx="7010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放声朗读课文，结合拼音认读生字，同学间可互相交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小学语文(古诗词)01"/>
          <p:cNvPicPr/>
          <p:nvPr/>
        </p:nvPicPr>
        <p:blipFill>
          <a:blip r:embed="rId1"/>
          <a:stretch/>
        </p:blipFill>
        <p:spPr>
          <a:xfrm>
            <a:off x="1116000" y="90792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4"/>
          <p:cNvSpPr/>
          <p:nvPr/>
        </p:nvSpPr>
        <p:spPr>
          <a:xfrm>
            <a:off x="2700360" y="2352600"/>
            <a:ext cx="547200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咏　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贺知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碧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妆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 树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高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>
            <a:hlinkClick r:id="rId2"/>
          </p:cNvPr>
          <p:cNvSpPr/>
          <p:nvPr/>
        </p:nvSpPr>
        <p:spPr>
          <a:xfrm>
            <a:off x="4659480" y="1905120"/>
            <a:ext cx="97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ǒ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3203640" y="4257720"/>
            <a:ext cx="5141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万 条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垂 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丝 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 知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细 叶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裁 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二 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春 风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剪 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6417360" y="390060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AutoShape 6"/>
          <p:cNvSpPr/>
          <p:nvPr/>
        </p:nvSpPr>
        <p:spPr>
          <a:xfrm>
            <a:off x="1523880" y="5105520"/>
            <a:ext cx="6096240" cy="99036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碧 玉 妆 成 一 树 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7"/>
          <p:cNvSpPr/>
          <p:nvPr/>
        </p:nvSpPr>
        <p:spPr>
          <a:xfrm>
            <a:off x="1600200" y="594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碧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3505320" y="5943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这里是把柳树的枝叶比做碧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2209680" y="5943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绿色的玉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1523880" y="6324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一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2743200" y="61722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一，表示“满”“全”“整”的意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2362320" y="6324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满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9" descr="639762_9105347"/>
          <p:cNvPicPr/>
          <p:nvPr/>
        </p:nvPicPr>
        <p:blipFill>
          <a:blip r:embed="rId1"/>
          <a:stretch/>
        </p:blipFill>
        <p:spPr>
          <a:xfrm>
            <a:off x="838080" y="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  <p:sndAc>
      <p:stSnd>
        <p:snd r:embed="rId2" name="chimes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6" descr="bdbc6bb23fa8788bd8335ac2"/>
          <p:cNvPicPr/>
          <p:nvPr/>
        </p:nvPicPr>
        <p:blipFill>
          <a:blip r:embed="rId1"/>
          <a:stretch/>
        </p:blipFill>
        <p:spPr>
          <a:xfrm>
            <a:off x="914400" y="1440"/>
            <a:ext cx="7467480" cy="4875480"/>
          </a:xfrm>
          <a:prstGeom prst="rect">
            <a:avLst/>
          </a:prstGeom>
          <a:ln w="0">
            <a:noFill/>
          </a:ln>
        </p:spPr>
      </p:pic>
      <p:sp>
        <p:nvSpPr>
          <p:cNvPr id="532" name="AutoShape 7"/>
          <p:cNvSpPr/>
          <p:nvPr/>
        </p:nvSpPr>
        <p:spPr>
          <a:xfrm>
            <a:off x="1600200" y="5029200"/>
            <a:ext cx="6400800" cy="10666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万 条 垂 下 绿 丝 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182880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万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无数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3581280" y="5715000"/>
            <a:ext cx="42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3352680" y="59436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在这里不表示数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形容很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1828800" y="6324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丝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2"/>
          <p:cNvSpPr/>
          <p:nvPr/>
        </p:nvSpPr>
        <p:spPr>
          <a:xfrm>
            <a:off x="2590920" y="63244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用丝纺织成的带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4" descr="ae05bfca79bdc19bc91768c9"/>
          <p:cNvPicPr/>
          <p:nvPr/>
        </p:nvPicPr>
        <p:blipFill>
          <a:blip r:embed="rId1"/>
          <a:stretch/>
        </p:blipFill>
        <p:spPr>
          <a:xfrm>
            <a:off x="609480" y="0"/>
            <a:ext cx="7926480" cy="5359320"/>
          </a:xfrm>
          <a:prstGeom prst="rect">
            <a:avLst/>
          </a:prstGeom>
          <a:ln w="0">
            <a:noFill/>
          </a:ln>
        </p:spPr>
      </p:pic>
      <p:sp>
        <p:nvSpPr>
          <p:cNvPr id="539" name="AutoShape 6"/>
          <p:cNvSpPr/>
          <p:nvPr/>
        </p:nvSpPr>
        <p:spPr>
          <a:xfrm>
            <a:off x="1143000" y="5257800"/>
            <a:ext cx="6858000" cy="10666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 知 细 叶 谁 裁 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2514600" y="62485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裁剪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用刀或剪子把物体分成若干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2133720" y="6248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裁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" descr="3_1800_4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518148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5"/>
          <p:cNvSpPr/>
          <p:nvPr/>
        </p:nvSpPr>
        <p:spPr>
          <a:xfrm>
            <a:off x="1523880" y="5105520"/>
            <a:ext cx="617220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 月 春 风 似 剪 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2590920" y="64911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似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好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2438280" y="61722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二月：农历二月，正是初春时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User</cp:lastModifiedBy>
  <dcterms:modified xsi:type="dcterms:W3CDTF">2015-12-08T15:27:16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