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5.jpeg" ContentType="image/jpeg"/>
  <Override PartName="/ppt/media/image4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image11.png" ContentType="image/png"/>
  <Override PartName="/ppt/media/camera.wav" ContentType="audio/x-wav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7.jpeg" ContentType="image/jpeg"/>
  <Override PartName="/ppt/media/voltage.wav" ContentType="audio/x-wav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2C0-510F-44EA-89D1-98FF3F0E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2F7-E8E2-40AE-928F-F142BAB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8F3D-B342-467E-A7AA-4A4B719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F0FD0-3E2E-43F1-8CD7-BDBC2F5D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DD2B6-764B-411F-82D0-50D238E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A7245-B208-404E-B1E2-3A3A98C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D902A-A5EE-4B9D-902E-5CCE19F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46856-20A0-46A0-A79D-DFFFD4FF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D7805-464F-468A-8608-604F4767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1ACC9-2CDE-4AE6-8690-BCB084C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FA176-2D87-4729-A61B-3435E099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DC17-FFA8-4B7D-9DD2-E5A1B5EE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FC6-9789-4B01-9D93-9BD46603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E2D9-CF0A-42D7-8F9D-E519E81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15F92-3313-4C6B-8C3A-0A7A2E30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2E438-D92D-4A40-8573-A99F285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CBF77-B0D3-4741-A181-BD74D0F2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9ED1-64C3-4D86-90D3-D276813E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35077-12D2-400B-BA6D-29E99D42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4C05F-CE07-4ED8-B9EA-4F950F0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90A6D-C18B-47BA-9437-0209F78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48F5C-9D0F-4D62-AC2E-36D1DEA5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9DC98-6B2E-49AD-979B-3F96692F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BD7-382B-4FB4-A6D2-AF01B14B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1D374-621E-4D49-AB99-59534DCE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7D80E-280B-458D-8039-A3671E5E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5C21-894E-4A06-87BF-861129E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8BB1-9893-48B0-AFD3-B21DA2EC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8F28-40B5-4FA3-9375-AF7678A5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5094-18CB-4FED-813C-4BA9C568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44FE2-63C2-4431-9C7C-6960B1E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4BE6-0A2C-49C4-A855-FAB72C7A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64428-4931-45B6-B565-000AF79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6C521-0290-4780-84D0-3C0AFE5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3B2A-7DCF-4826-B895-A9548087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96D86-4AE7-4E6D-88BA-2B471422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4CE23-5ED7-4D79-8E13-E733AF6E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E684D-EECF-4274-951F-50F2D4B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4E062-4683-4551-8E95-EC7C16F7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0662A-3A33-4CFF-A314-B629EF1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4C9BE-BEC7-499F-95B4-E8DBAF7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8D950-5C76-487F-924B-CA63AE30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E95FC-534E-456C-9BFB-7E37574A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2761F-0C30-4737-B6E2-5966E52B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5DEE1-2565-45ED-84D6-CBCF1E8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3FB6-3965-4174-B560-203071F9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1C5FB-CA70-40B1-8454-EED9FC5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47956-DFE1-4DF0-8C49-395EB5B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EE238-9D27-4C88-9D0E-C3DA0D1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68A22-CA34-46F5-8AAB-B24B6CB8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F6E4E-0A9D-4173-A07E-B5FFDB4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CDDD-3432-4225-894E-1B9238A6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D368-6144-4BA4-A142-9CEC24D7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208-23D2-4500-BEE4-0E79F07E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3810-2C19-47F0-A3B8-5B041DCB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B91F-6AC2-4740-B9FD-CC7C568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C92-BDE1-45C6-AE80-7A7CA70C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D81F-3439-4FA3-A5A7-E61E389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37F4-48EC-4029-9FF4-0E11D732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B86-2F2E-493C-8EF8-FE809C7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94D-1EB6-45C3-A7E5-FEFF761E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394-D5FF-42ED-A3F0-76278AD8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CE37-F4D6-48A2-98E1-AD78559E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08F9-C087-4534-B45E-7882CAD8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7526-D237-436F-8AC7-46C9363F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6146-BAE5-4C01-9F41-837D21F8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BCA8-8053-4B71-9AFC-EE73A67A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D24-EDE2-46D2-A928-72A90B9B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77AC-6E46-45E3-9EA1-731DC50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28F0-4BFA-4831-979D-BCF1CEC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C23F-23AC-4A57-9936-0663938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B099-E1FB-48FB-9613-29B4B82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A032-4FBD-431E-95AD-CEA0F99D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A049-8182-4D5D-AFB6-CB8C1E90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AB84-8C3A-4298-B419-5A7C1824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3E150-C33F-44F3-A68D-7D92BB0A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2EED-9254-4103-A9A1-6AF9205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95A8-E97B-4BE7-996E-0F202872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70E-137B-4228-9620-221614E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8336-7F0D-4B34-883A-8F9A6DF6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8B69F-4C14-442A-B4FA-E78E988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77A8-3BCC-4C0D-8445-ABC46237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9076-099A-42E3-8228-92F4E36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0DE1-8DD5-4ABB-A0E3-7D0D1B1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473F-6EBB-4481-A892-E98BE0C9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39ED-847A-4FC5-9294-7B1C1C2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24A5-E041-4128-AE47-B6FA95E8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46DD-1B81-4037-8DC2-962D1119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3CB6-16F3-4B64-ADB8-77DAC12B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276-BCCC-40BF-8DF3-197C53D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177DE-5B97-493A-9F75-4304AB2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F648-6539-4438-9502-10F8F007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40C1-7F9F-4AC5-BC04-C793E43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26DF-386F-44F1-944E-0895BF81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A6E2-BA45-4633-904F-48963440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9F107-443D-40F4-8D63-6B094E7E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D0F8-A8CA-462C-963B-CEAAFE6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53BA-7F61-4FA9-859F-9C570BD7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01FF-C0E5-4FBD-BE63-34241CE4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2390-D5E6-468D-9E67-E29322EE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05F-285C-4984-8573-332FD472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38F4-8ACD-4CA8-B40D-1B4446E9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0658-6B82-4A4E-B43B-FCF3516A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4A08-507F-43A3-8635-7C7C72F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E494-A2C1-4FCE-A173-0B747C9E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F49D-2978-46FD-8720-2530F65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160F9-1B6D-4BA0-885F-6A18F005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61F0F-2684-4DCE-A33D-FEDE159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0A568-46A5-4FCC-A13E-DEA91FB6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28C8-E3EE-4645-9384-7D36FBE0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96AA-5F07-4D91-83BC-1985F6F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C15-A639-426A-86A6-6E80CDE9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91910-FDCF-42FE-A4AC-AAAE343D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365B9-9C57-4617-B04E-149FE89A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07A02-C0AC-4B56-A794-4F770DBC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8ECD-B00C-4A28-89D9-A4448A39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A95A-226B-4841-BF23-7511CB9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070D-FF5F-4943-9155-00B60D52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9BEB-F8B9-4789-8B7D-C7CD732C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ADF6-3612-483F-853C-B290516A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1C588-BB3B-4457-9EE6-2D140640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BBE7-6284-497D-A05A-0C4CB14E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4FD-0092-4E3F-86E6-21C8B4F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D0C9-B2E6-4BE8-B5BF-9025DAD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A974-37FA-40F3-88D3-3BBE294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C91DB-D516-4EA5-A6C1-B938F9C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F4128-1CC6-4D7D-8BBB-F22D4C03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72721-CDDD-4E69-90CB-1F350D61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A670-6FB2-4E0C-9120-46540019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24719-FDB3-4810-92BA-4FDB07C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F84BD-03B2-45B0-A642-95ECB4F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AA2A2-9136-41B4-B091-02AA64E2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DC8E-BA86-4FA9-9A32-C9BFF2F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712-BC5E-4C44-9EEA-B426A46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E32D-9DCD-44D4-8A15-1C9D550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8DB53-8F8A-4769-87E0-7AC621D2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9895-DBB6-4559-86F4-66849C7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C5C99-E416-41BB-9086-776AD749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0668-2C55-4D00-A205-AAFE823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2AB4-EE6C-4BAF-B7A7-94B88DF3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81DE1-537F-418C-A262-6A18123A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BA0DA-81DA-486B-AA43-FA4E49C3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0F61E-0B45-41E8-AA07-C35CC39C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7EE2-472B-4618-9ADF-46C97A8D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52D-4E32-4E78-B5A5-50B19CC2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1310-7941-4AE4-BFC3-FBD4E31EF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2DE0-6CDA-4AA6-ADB4-2B4B9D69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F34-7C39-4FD1-9AE1-23108B6D5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0483-5AEE-46D4-B6F9-EDECBA98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8EC-7A9D-4A79-B060-8513960A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0CE-5212-42DE-943A-23B390C0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2009-8F96-452F-85E4-972EAAB4F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FC8F-7393-4166-B43A-93DCBC28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A88-0E6C-4953-A86F-F8E820A60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A12C-4CEC-495D-94C2-BFA359B72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E548-D946-4B31-A023-66D66D6AE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木棉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木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棉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pic>
          <p:nvPicPr>
            <p:cNvPr id="495" name="Picture 5" descr="百合"/>
            <p:cNvPicPr/>
            <p:nvPr/>
          </p:nvPicPr>
          <p:blipFill>
            <a:blip r:embed="rId2"/>
            <a:stretch/>
          </p:blipFill>
          <p:spPr>
            <a:xfrm>
              <a:off x="-18108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6"/>
            <p:cNvSpPr/>
            <p:nvPr/>
          </p:nvSpPr>
          <p:spPr>
            <a:xfrm>
              <a:off x="1118880" y="6793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水仙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98" name="Picture 8" descr="2004521133335196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9"/>
            <p:cNvSpPr/>
            <p:nvPr/>
          </p:nvSpPr>
          <p:spPr>
            <a:xfrm>
              <a:off x="1422360" y="86508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油菜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石榴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84360" y="2421000"/>
            <a:ext cx="20163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石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榴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石榴花9"/>
          <p:cNvPicPr/>
          <p:nvPr/>
        </p:nvPicPr>
        <p:blipFill>
          <a:blip r:embed="rId2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美的朝霞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可爱的石榴花，你怎么起得这么早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天快来了，我要开花了，可我还没有找到颜色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真是个可爱的孩子，我把红颜色送给你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250200" cy="683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桃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592200" y="338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97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320364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杏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39640" y="98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迎春花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石榴花9"/>
          <p:cNvPicPr/>
          <p:nvPr/>
        </p:nvPicPr>
        <p:blipFill>
          <a:blip r:embed="rId2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杏花2"/>
          <p:cNvPicPr/>
          <p:nvPr/>
        </p:nvPicPr>
        <p:blipFill>
          <a:blip r:embed="rId3"/>
          <a:srcRect l="7087" t="14816" r="7087" b="148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1880280" y="566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齐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1045080" y="691920"/>
            <a:ext cx="56991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迎春花是个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星星、朝霞是个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石榴花又是怎样的孩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装扮　   温柔      　跳舞　　　金灿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染红　　石榴 　　睡觉　　　红艳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　　　　　＊ 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摔疼　   朝霞　　迎春花　　　细声细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966ff"/>
                </a:solidFill>
                <a:latin typeface="Arial"/>
              </a:rPr>
              <a:t>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25200" y="234900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扮　　 装　　疼　　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柔　　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摔       舞　　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2"/>
          <p:cNvSpPr txBox="1"/>
          <p:nvPr/>
        </p:nvSpPr>
        <p:spPr>
          <a:xfrm>
            <a:off x="2124000" y="2565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836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童话故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10000" spc="-1" strike="noStrike">
                <a:solidFill>
                  <a:srgbClr val="ff0000"/>
                </a:solidFill>
                <a:latin typeface="Arial"/>
              </a:rPr>
              <a:t>花孩子</a:t>
            </a:r>
            <a:r>
              <a:rPr b="1" lang="en-US" sz="100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读文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96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由读文，标出自然段序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本文一共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文中写了几种花？它们的名字叫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文中写了迎春花、桃花、杏花、石榴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最后，它们找到了颜色了吗？是哪些颜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最后，它们都找到了颜色。迎春花开出金灿灿的黄花。桃花和杏花都开出了粉红的花。石榴花开出了红艳艳的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63272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春天快来了，花孩子们笑着、叫着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：“春姑娘就要来了！我们要开出美丽的花装扮世界，怎么找到颜色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迎春花2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迎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春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迎春花3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迎春花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--6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然段，思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几段写的是谁和谁的对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说了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春花望着天空，细声细气地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“星姑娘，你别掉下来呀！会摔疼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星温柔地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“谢谢你，迎春花，我在练习跳舞，不会摔下去的。你怎么还不睡呀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天快来了，我要开花了，可我还没找到颜色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姑娘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：“你真是个可爱的孩子，我把金黄的颜色送给你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灿灿的迎春花细声细气地说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的（      ）（      ）地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3"/>
          <p:cNvSpPr/>
          <p:nvPr/>
        </p:nvSpPr>
        <p:spPr>
          <a:xfrm>
            <a:off x="131112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灿灿的迎春花细声细气地说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闪烁）的（星星）（温柔）地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5-12-08T15:05:43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