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109-8CF5-4667-A7A5-A536F0DB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5F0-B00D-419B-9113-9187C08B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E2D-B05D-4D46-82ED-1859A187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5DE-E213-4106-9880-32AA351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BC2-AAFB-4840-938C-0F347EA9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133-EDA6-42BF-8A13-7D5D49D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065-1CB2-410C-9266-151BF58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347-388D-4F2B-8FA4-975BF88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DF1-B171-4940-860D-8383716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CA0-766E-48F3-A30F-C8FBAC6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363-7EE7-4843-B5DD-0EEF4E0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8DE-F79C-4600-BB3C-6776524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2E0-B480-4581-8476-8C04AEDF59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95640" y="21178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7.  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画  风</a:t>
            </a:r>
            <a:endParaRPr b="0" lang="en-US" sz="8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928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鲁教版小学语文二年级下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8"/>
          <p:cNvGrpSpPr/>
          <p:nvPr/>
        </p:nvGrpSpPr>
        <p:grpSpPr>
          <a:xfrm>
            <a:off x="4591080" y="1865160"/>
            <a:ext cx="2284560" cy="2406960"/>
            <a:chOff x="4591080" y="1865160"/>
            <a:chExt cx="2284560" cy="2406960"/>
          </a:xfrm>
        </p:grpSpPr>
        <p:grpSp>
          <p:nvGrpSpPr>
            <p:cNvPr id="94" name="Group 27"/>
            <p:cNvGrpSpPr/>
            <p:nvPr/>
          </p:nvGrpSpPr>
          <p:grpSpPr>
            <a:xfrm>
              <a:off x="4591080" y="1865160"/>
              <a:ext cx="2284560" cy="2355840"/>
              <a:chOff x="4591080" y="1865160"/>
              <a:chExt cx="2284560" cy="2355840"/>
            </a:xfrm>
          </p:grpSpPr>
          <p:sp>
            <p:nvSpPr>
              <p:cNvPr id="95" name="Rectangle 28"/>
              <p:cNvSpPr/>
              <p:nvPr/>
            </p:nvSpPr>
            <p:spPr>
              <a:xfrm>
                <a:off x="4591080" y="1865160"/>
                <a:ext cx="2284560" cy="2355840"/>
              </a:xfrm>
              <a:prstGeom prst="rect">
                <a:avLst/>
              </a:prstGeom>
              <a:solidFill>
                <a:srgbClr val="cc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731200" y="1865160"/>
                <a:ext cx="360" cy="2351520"/>
                <a:chOff x="5731200" y="1865160"/>
                <a:chExt cx="360" cy="2351520"/>
              </a:xfrm>
            </p:grpSpPr>
            <p:sp>
              <p:nvSpPr>
                <p:cNvPr id="97" name="Line 29"/>
                <p:cNvSpPr/>
                <p:nvPr/>
              </p:nvSpPr>
              <p:spPr>
                <a:xfrm>
                  <a:off x="5731200" y="1865160"/>
                  <a:ext cx="0" cy="2351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 txBox="1"/>
                <p:nvPr/>
              </p:nvSpPr>
              <p:spPr>
                <a:xfrm>
                  <a:off x="5731200" y="1865160"/>
                  <a:ext cx="360" cy="23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91080" y="3040920"/>
                <a:ext cx="2280240" cy="360"/>
                <a:chOff x="4591080" y="3040920"/>
                <a:chExt cx="2280240" cy="360"/>
              </a:xfrm>
            </p:grpSpPr>
            <p:sp>
              <p:nvSpPr>
                <p:cNvPr id="100" name="Line 30"/>
                <p:cNvSpPr/>
                <p:nvPr/>
              </p:nvSpPr>
              <p:spPr>
                <a:xfrm>
                  <a:off x="4591080" y="3040920"/>
                  <a:ext cx="2280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4591080" y="3040920"/>
                  <a:ext cx="2280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Text Box 31"/>
            <p:cNvSpPr/>
            <p:nvPr/>
          </p:nvSpPr>
          <p:spPr>
            <a:xfrm>
              <a:off x="4594320" y="189216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ff0000"/>
                  </a:solidFill>
                  <a:latin typeface="Times New Roman"/>
                </a:rPr>
                <a:t>杆</a:t>
              </a:r>
              <a:endParaRPr b="0" lang="en-US" sz="15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103" name="组合 1"/>
          <p:cNvGrpSpPr/>
          <p:nvPr/>
        </p:nvGrpSpPr>
        <p:grpSpPr>
          <a:xfrm>
            <a:off x="1978200" y="1865160"/>
            <a:ext cx="2284200" cy="2430720"/>
            <a:chOff x="1978200" y="1865160"/>
            <a:chExt cx="2284200" cy="2430720"/>
          </a:xfrm>
        </p:grpSpPr>
        <p:grpSp>
          <p:nvGrpSpPr>
            <p:cNvPr id="104" name="Group 27"/>
            <p:cNvGrpSpPr/>
            <p:nvPr/>
          </p:nvGrpSpPr>
          <p:grpSpPr>
            <a:xfrm>
              <a:off x="1978200" y="1865160"/>
              <a:ext cx="2284200" cy="2356560"/>
              <a:chOff x="1978200" y="1865160"/>
              <a:chExt cx="2284200" cy="2356560"/>
            </a:xfrm>
          </p:grpSpPr>
          <p:sp>
            <p:nvSpPr>
              <p:cNvPr id="105" name="Rectangle 28"/>
              <p:cNvSpPr/>
              <p:nvPr/>
            </p:nvSpPr>
            <p:spPr>
              <a:xfrm>
                <a:off x="1978200" y="1865160"/>
                <a:ext cx="2284200" cy="2356560"/>
              </a:xfrm>
              <a:prstGeom prst="rect">
                <a:avLst/>
              </a:prstGeom>
              <a:solidFill>
                <a:srgbClr val="cc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3117960" y="1865160"/>
                <a:ext cx="360" cy="2352240"/>
                <a:chOff x="3117960" y="1865160"/>
                <a:chExt cx="360" cy="2352240"/>
              </a:xfrm>
            </p:grpSpPr>
            <p:sp>
              <p:nvSpPr>
                <p:cNvPr id="107" name="Line 29"/>
                <p:cNvSpPr/>
                <p:nvPr/>
              </p:nvSpPr>
              <p:spPr>
                <a:xfrm>
                  <a:off x="3117960" y="1865160"/>
                  <a:ext cx="0" cy="2352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>
                  <a:off x="3117960" y="1865160"/>
                  <a:ext cx="360" cy="235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978200" y="3041280"/>
                <a:ext cx="2279880" cy="360"/>
                <a:chOff x="1978200" y="3041280"/>
                <a:chExt cx="2279880" cy="360"/>
              </a:xfrm>
            </p:grpSpPr>
            <p:sp>
              <p:nvSpPr>
                <p:cNvPr id="110" name="Line 30"/>
                <p:cNvSpPr/>
                <p:nvPr/>
              </p:nvSpPr>
              <p:spPr>
                <a:xfrm>
                  <a:off x="1978200" y="3041280"/>
                  <a:ext cx="2279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>
                  <a:off x="1978200" y="3041280"/>
                  <a:ext cx="2279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1"/>
            <p:cNvSpPr/>
            <p:nvPr/>
          </p:nvSpPr>
          <p:spPr>
            <a:xfrm>
              <a:off x="2002320" y="191592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ff0000"/>
                  </a:solidFill>
                  <a:latin typeface="Times New Roman"/>
                </a:rPr>
                <a:t>眨</a:t>
              </a:r>
              <a:endParaRPr b="0" lang="en-US" sz="15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/>
          <p:cNvSpPr/>
          <p:nvPr/>
        </p:nvSpPr>
        <p:spPr>
          <a:xfrm>
            <a:off x="990720" y="481824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5" h="21600">
                <a:moveTo>
                  <a:pt x="15486" y="7493"/>
                </a:moveTo>
                <a:lnTo>
                  <a:pt x="18994" y="7493"/>
                </a:lnTo>
                <a:lnTo>
                  <a:pt x="18994" y="12828"/>
                </a:lnTo>
                <a:cubicBezTo>
                  <a:pt x="18994" y="13751"/>
                  <a:pt x="19794" y="14482"/>
                  <a:pt x="20830" y="14482"/>
                </a:cubicBezTo>
                <a:lnTo>
                  <a:pt x="22493" y="14482"/>
                </a:lnTo>
                <a:cubicBezTo>
                  <a:pt x="23528" y="14482"/>
                  <a:pt x="24329" y="13751"/>
                  <a:pt x="24329" y="12828"/>
                </a:cubicBezTo>
                <a:lnTo>
                  <a:pt x="24329" y="7493"/>
                </a:lnTo>
                <a:lnTo>
                  <a:pt x="22493" y="7493"/>
                </a:lnTo>
                <a:lnTo>
                  <a:pt x="26000" y="3985"/>
                </a:lnTo>
                <a:lnTo>
                  <a:pt x="29673" y="7493"/>
                </a:lnTo>
                <a:lnTo>
                  <a:pt x="27837" y="7493"/>
                </a:lnTo>
                <a:lnTo>
                  <a:pt x="27837" y="12828"/>
                </a:lnTo>
                <a:cubicBezTo>
                  <a:pt x="27837" y="15596"/>
                  <a:pt x="25260" y="18155"/>
                  <a:pt x="22493" y="18155"/>
                </a:cubicBezTo>
                <a:lnTo>
                  <a:pt x="20830" y="18155"/>
                </a:lnTo>
                <a:cubicBezTo>
                  <a:pt x="18062" y="18155"/>
                  <a:pt x="15486" y="15596"/>
                  <a:pt x="1548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-145800" y="3408480"/>
            <a:ext cx="9568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风把</a:t>
            </a:r>
            <a:r>
              <a:rPr b="0" lang="zh-CN" sz="4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吹得</a:t>
            </a:r>
            <a:r>
              <a:rPr b="0" lang="zh-CN" sz="4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风就在</a:t>
            </a:r>
            <a:r>
              <a:rPr b="0" lang="zh-CN" sz="4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的</a:t>
            </a:r>
            <a:r>
              <a:rPr b="0" lang="zh-CN" sz="4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里。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11280" y="333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旗子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497560" y="3354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飘起来了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987640" y="43639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飘着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219640" y="4363920"/>
            <a:ext cx="16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旗子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24000" y="549360"/>
            <a:ext cx="84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赵小艺眨眨眼睛，想了想，说：“我能！”只见她在房子前面画了一根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旗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杆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旗子在空中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飘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着。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826920" y="155736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，用横线标出三个小朋友画风的句子，并在组内用下面的句子说一说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8000" y="476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小组交流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990720" y="548640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5" h="21600">
                <a:moveTo>
                  <a:pt x="15486" y="7493"/>
                </a:moveTo>
                <a:lnTo>
                  <a:pt x="18994" y="7493"/>
                </a:lnTo>
                <a:lnTo>
                  <a:pt x="18994" y="12828"/>
                </a:lnTo>
                <a:cubicBezTo>
                  <a:pt x="18994" y="13751"/>
                  <a:pt x="19794" y="14482"/>
                  <a:pt x="20830" y="14482"/>
                </a:cubicBezTo>
                <a:lnTo>
                  <a:pt x="22493" y="14482"/>
                </a:lnTo>
                <a:cubicBezTo>
                  <a:pt x="23528" y="14482"/>
                  <a:pt x="24329" y="13751"/>
                  <a:pt x="24329" y="12828"/>
                </a:cubicBezTo>
                <a:lnTo>
                  <a:pt x="24329" y="7493"/>
                </a:lnTo>
                <a:lnTo>
                  <a:pt x="22493" y="7493"/>
                </a:lnTo>
                <a:lnTo>
                  <a:pt x="26000" y="3985"/>
                </a:lnTo>
                <a:lnTo>
                  <a:pt x="29673" y="7493"/>
                </a:lnTo>
                <a:lnTo>
                  <a:pt x="27837" y="7493"/>
                </a:lnTo>
                <a:lnTo>
                  <a:pt x="27837" y="12828"/>
                </a:lnTo>
                <a:cubicBezTo>
                  <a:pt x="27837" y="15596"/>
                  <a:pt x="25260" y="18155"/>
                  <a:pt x="22493" y="18155"/>
                </a:cubicBezTo>
                <a:lnTo>
                  <a:pt x="20830" y="18155"/>
                </a:lnTo>
                <a:cubicBezTo>
                  <a:pt x="18062" y="18155"/>
                  <a:pt x="15486" y="15596"/>
                  <a:pt x="1548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70600" y="407664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风把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吹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风就在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的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里。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68360" y="333360"/>
            <a:ext cx="81756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陈丹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我也会画风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。说着，她在大树旁边画了几棵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</a:rPr>
              <a:t>弯弯的小树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宋涛想了想，他把画上的太阳擦去，画了几片乌云，又画了几条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斜斜的雨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说：“下雨了，风把雨丝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。”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赵小艺笑着说：“我还能画！”她画了个拿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风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小男孩，风车在呼呼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990720" y="548640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5" h="21600">
                <a:moveTo>
                  <a:pt x="15486" y="7493"/>
                </a:moveTo>
                <a:lnTo>
                  <a:pt x="18994" y="7493"/>
                </a:lnTo>
                <a:lnTo>
                  <a:pt x="18994" y="12828"/>
                </a:lnTo>
                <a:cubicBezTo>
                  <a:pt x="18994" y="13751"/>
                  <a:pt x="19794" y="14482"/>
                  <a:pt x="20830" y="14482"/>
                </a:cubicBezTo>
                <a:lnTo>
                  <a:pt x="22493" y="14482"/>
                </a:lnTo>
                <a:cubicBezTo>
                  <a:pt x="23528" y="14482"/>
                  <a:pt x="24329" y="13751"/>
                  <a:pt x="24329" y="12828"/>
                </a:cubicBezTo>
                <a:lnTo>
                  <a:pt x="24329" y="7493"/>
                </a:lnTo>
                <a:lnTo>
                  <a:pt x="22493" y="7493"/>
                </a:lnTo>
                <a:lnTo>
                  <a:pt x="26000" y="3985"/>
                </a:lnTo>
                <a:lnTo>
                  <a:pt x="29673" y="7493"/>
                </a:lnTo>
                <a:lnTo>
                  <a:pt x="27837" y="7493"/>
                </a:lnTo>
                <a:lnTo>
                  <a:pt x="27837" y="12828"/>
                </a:lnTo>
                <a:cubicBezTo>
                  <a:pt x="27837" y="15596"/>
                  <a:pt x="25260" y="18155"/>
                  <a:pt x="22493" y="18155"/>
                </a:cubicBezTo>
                <a:lnTo>
                  <a:pt x="20830" y="18155"/>
                </a:lnTo>
                <a:cubicBezTo>
                  <a:pt x="18062" y="18155"/>
                  <a:pt x="15486" y="15596"/>
                  <a:pt x="1548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7760" y="4832280"/>
            <a:ext cx="786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风把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吹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风就在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的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里。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611280" y="1197000"/>
            <a:ext cx="85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风把旗子吹得飘起来了，风就在飘动的旗子里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11280" y="22780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风把小树吹弯了，风就在弯弯的小树里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32860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风把雨丝吹斜了，风就在斜斜的雨丝里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11280" y="4437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风把风车吹动了，风就在转动的风车里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tu3"/>
          <p:cNvPicPr/>
          <p:nvPr/>
        </p:nvPicPr>
        <p:blipFill>
          <a:blip r:embed="rId1"/>
          <a:stretch/>
        </p:blipFill>
        <p:spPr>
          <a:xfrm>
            <a:off x="217440" y="272880"/>
            <a:ext cx="4138560" cy="286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u2"/>
          <p:cNvPicPr/>
          <p:nvPr/>
        </p:nvPicPr>
        <p:blipFill>
          <a:blip r:embed="rId2"/>
          <a:stretch/>
        </p:blipFill>
        <p:spPr>
          <a:xfrm>
            <a:off x="4932360" y="3543480"/>
            <a:ext cx="3995640" cy="3198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tu1"/>
          <p:cNvPicPr/>
          <p:nvPr/>
        </p:nvPicPr>
        <p:blipFill>
          <a:blip r:embed="rId3"/>
          <a:stretch/>
        </p:blipFill>
        <p:spPr>
          <a:xfrm>
            <a:off x="4897440" y="260280"/>
            <a:ext cx="3995640" cy="2863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tu4"/>
          <p:cNvPicPr/>
          <p:nvPr/>
        </p:nvPicPr>
        <p:blipFill>
          <a:blip r:embed="rId4"/>
          <a:stretch/>
        </p:blipFill>
        <p:spPr>
          <a:xfrm>
            <a:off x="217440" y="3470400"/>
            <a:ext cx="4138560" cy="3271680"/>
          </a:xfrm>
          <a:prstGeom prst="rect">
            <a:avLst/>
          </a:prstGeom>
          <a:ln w="0">
            <a:noFill/>
          </a:ln>
        </p:spPr>
      </p:pic>
      <p:pic>
        <p:nvPicPr>
          <p:cNvPr id="135" name="往亚德里亚海.wma" descr=""/>
          <p:cNvPicPr/>
          <p:nvPr/>
        </p:nvPicPr>
        <p:blipFill>
          <a:blip r:embed="rId5"/>
          <a:stretch/>
        </p:blipFill>
        <p:spPr>
          <a:xfrm>
            <a:off x="4356000" y="6132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tu3"/>
          <p:cNvPicPr/>
          <p:nvPr/>
        </p:nvPicPr>
        <p:blipFill>
          <a:blip r:embed="rId1"/>
          <a:stretch/>
        </p:blipFill>
        <p:spPr>
          <a:xfrm>
            <a:off x="217440" y="272880"/>
            <a:ext cx="4138560" cy="286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tu2"/>
          <p:cNvPicPr/>
          <p:nvPr/>
        </p:nvPicPr>
        <p:blipFill>
          <a:blip r:embed="rId2"/>
          <a:stretch/>
        </p:blipFill>
        <p:spPr>
          <a:xfrm>
            <a:off x="4932360" y="3543480"/>
            <a:ext cx="3995640" cy="31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u1"/>
          <p:cNvPicPr/>
          <p:nvPr/>
        </p:nvPicPr>
        <p:blipFill>
          <a:blip r:embed="rId3"/>
          <a:stretch/>
        </p:blipFill>
        <p:spPr>
          <a:xfrm>
            <a:off x="4897440" y="260280"/>
            <a:ext cx="3995640" cy="2863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tu4"/>
          <p:cNvPicPr/>
          <p:nvPr/>
        </p:nvPicPr>
        <p:blipFill>
          <a:blip r:embed="rId4"/>
          <a:stretch/>
        </p:blipFill>
        <p:spPr>
          <a:xfrm>
            <a:off x="217440" y="3470400"/>
            <a:ext cx="41385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187280" y="1268280"/>
            <a:ext cx="730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24d6"/>
                </a:solidFill>
                <a:latin typeface="Times New Roman"/>
                <a:ea typeface="楷体"/>
              </a:rPr>
              <a:t>张洁问：“你想怎样画风？”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24d6"/>
                </a:solidFill>
                <a:latin typeface="Times New Roman"/>
                <a:ea typeface="楷体"/>
              </a:rPr>
              <a:t>我说：“</a:t>
            </a:r>
            <a:r>
              <a:rPr b="1" lang="en-US" sz="3600" spc="-1" strike="noStrike">
                <a:solidFill>
                  <a:srgbClr val="0c24d6"/>
                </a:solidFill>
                <a:latin typeface="Arial"/>
                <a:ea typeface="楷体"/>
              </a:rPr>
              <a:t>_________________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24d6"/>
                </a:solidFill>
                <a:latin typeface="Arial"/>
                <a:ea typeface="楷体"/>
              </a:rPr>
              <a:t>________________________</a:t>
            </a:r>
            <a:r>
              <a:rPr b="1" lang="zh-CN" sz="3600" spc="-1" strike="noStrike">
                <a:solidFill>
                  <a:srgbClr val="0c24d6"/>
                </a:solidFill>
                <a:latin typeface="Times New Roman"/>
                <a:ea typeface="楷体"/>
              </a:rPr>
              <a:t>。”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141" name="Picture 6" descr="640302f3g85fd681e17e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2010102010515888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1a20cf431adcbeff9e5afa7acaf2edda2cc9fba"/>
          <p:cNvPicPr/>
          <p:nvPr/>
        </p:nvPicPr>
        <p:blipFill>
          <a:blip r:embed="rId3"/>
          <a:srcRect l="393" t="-608" r="-390" b="3830"/>
          <a:stretch/>
        </p:blipFill>
        <p:spPr>
          <a:xfrm>
            <a:off x="0" y="-7920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userid202781time20100426065551"/>
          <p:cNvPicPr/>
          <p:nvPr/>
        </p:nvPicPr>
        <p:blipFill>
          <a:blip r:embed="rId4"/>
          <a:stretch/>
        </p:blipFill>
        <p:spPr>
          <a:xfrm>
            <a:off x="0" y="-79200"/>
            <a:ext cx="10588680" cy="712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5252423_214515012000_2"/>
          <p:cNvPicPr/>
          <p:nvPr/>
        </p:nvPicPr>
        <p:blipFill>
          <a:blip r:embed="rId5"/>
          <a:srcRect l="-1115" t="12131" r="1118" b="6034"/>
          <a:stretch/>
        </p:blipFill>
        <p:spPr>
          <a:xfrm>
            <a:off x="-181080" y="-176040"/>
            <a:ext cx="9871200" cy="7223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6"/>
          <a:stretch/>
        </p:blipFill>
        <p:spPr>
          <a:xfrm>
            <a:off x="-396720" y="-176040"/>
            <a:ext cx="9721800" cy="746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75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25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875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311120" y="1668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908000" y="52560"/>
            <a:ext cx="6050160" cy="66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风 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（叶圣陶）</a:t>
            </a:r>
            <a:endParaRPr b="0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谁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也没有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看见过风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不用说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我和你了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但是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树叶颤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chàn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动的时候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我们知道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风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在那儿了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谁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也没有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看见过风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不用说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我和你了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但是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林木点头的时候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我们知道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风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正走过了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谁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也没有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看见过风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不用说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我和你了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但是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河水起波纹的时候，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　　我们知道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风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来游戏了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2" descr=""/>
          <p:cNvPicPr/>
          <p:nvPr/>
        </p:nvPicPr>
        <p:blipFill>
          <a:blip r:embed="rId1"/>
          <a:stretch/>
        </p:blipFill>
        <p:spPr>
          <a:xfrm>
            <a:off x="5977080" y="3789360"/>
            <a:ext cx="2089080" cy="20480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1692360" y="981000"/>
            <a:ext cx="5329080" cy="2448000"/>
          </a:xfrm>
          <a:prstGeom prst="cloudCallout">
            <a:avLst>
              <a:gd name="adj1" fmla="val 37666"/>
              <a:gd name="adj2" fmla="val 64981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68360" y="1700280"/>
            <a:ext cx="42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我能！</a:t>
            </a:r>
            <a:endParaRPr b="0" lang="en-US" sz="6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24000" y="191628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忽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        显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1"/>
          <a:srcRect l="19551" t="19762" r="19551" b="15559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/>
          <p:cNvSpPr/>
          <p:nvPr/>
        </p:nvSpPr>
        <p:spPr>
          <a:xfrm>
            <a:off x="990720" y="548640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5" h="21600">
                <a:moveTo>
                  <a:pt x="15486" y="7493"/>
                </a:moveTo>
                <a:lnTo>
                  <a:pt x="18994" y="7493"/>
                </a:lnTo>
                <a:lnTo>
                  <a:pt x="18994" y="12828"/>
                </a:lnTo>
                <a:cubicBezTo>
                  <a:pt x="18994" y="13751"/>
                  <a:pt x="19794" y="14482"/>
                  <a:pt x="20830" y="14482"/>
                </a:cubicBezTo>
                <a:lnTo>
                  <a:pt x="22493" y="14482"/>
                </a:lnTo>
                <a:cubicBezTo>
                  <a:pt x="23528" y="14482"/>
                  <a:pt x="24329" y="13751"/>
                  <a:pt x="24329" y="12828"/>
                </a:cubicBezTo>
                <a:lnTo>
                  <a:pt x="24329" y="7493"/>
                </a:lnTo>
                <a:lnTo>
                  <a:pt x="22493" y="7493"/>
                </a:lnTo>
                <a:lnTo>
                  <a:pt x="26000" y="3985"/>
                </a:lnTo>
                <a:lnTo>
                  <a:pt x="29673" y="7493"/>
                </a:lnTo>
                <a:lnTo>
                  <a:pt x="27837" y="7493"/>
                </a:lnTo>
                <a:lnTo>
                  <a:pt x="27837" y="12828"/>
                </a:lnTo>
                <a:cubicBezTo>
                  <a:pt x="27837" y="15596"/>
                  <a:pt x="25260" y="18155"/>
                  <a:pt x="22493" y="18155"/>
                </a:cubicBezTo>
                <a:lnTo>
                  <a:pt x="20830" y="18155"/>
                </a:lnTo>
                <a:cubicBezTo>
                  <a:pt x="18062" y="18155"/>
                  <a:pt x="15486" y="15596"/>
                  <a:pt x="1548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900000" y="22050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杆 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364000" y="31399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一杆枪 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556000" y="3139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笔杆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47" name="组合 3"/>
          <p:cNvGrpSpPr/>
          <p:nvPr/>
        </p:nvGrpSpPr>
        <p:grpSpPr>
          <a:xfrm>
            <a:off x="3142080" y="476280"/>
            <a:ext cx="4661640" cy="2670840"/>
            <a:chOff x="3142080" y="476280"/>
            <a:chExt cx="4661640" cy="2670840"/>
          </a:xfrm>
        </p:grpSpPr>
        <p:sp>
          <p:nvSpPr>
            <p:cNvPr id="48" name="Text Box 11"/>
            <p:cNvSpPr/>
            <p:nvPr/>
          </p:nvSpPr>
          <p:spPr>
            <a:xfrm>
              <a:off x="3214800" y="2565720"/>
              <a:ext cx="91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ǎn</a:t>
              </a:r>
              <a:endParaRPr b="0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grpSp>
          <p:nvGrpSpPr>
            <p:cNvPr id="49" name="组合 2"/>
            <p:cNvGrpSpPr/>
            <p:nvPr/>
          </p:nvGrpSpPr>
          <p:grpSpPr>
            <a:xfrm>
              <a:off x="3142080" y="476280"/>
              <a:ext cx="4661640" cy="654120"/>
              <a:chOff x="3142080" y="476280"/>
              <a:chExt cx="4661640" cy="654120"/>
            </a:xfrm>
          </p:grpSpPr>
          <p:sp>
            <p:nvSpPr>
              <p:cNvPr id="50" name="Text Box 11"/>
              <p:cNvSpPr/>
              <p:nvPr/>
            </p:nvSpPr>
            <p:spPr>
              <a:xfrm>
                <a:off x="3142080" y="476280"/>
                <a:ext cx="91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ɡ</a:t>
                </a:r>
                <a:r>
                  <a:rPr b="1" lang="en-US" sz="3200" spc="-1" strike="noStrike">
                    <a:solidFill>
                      <a:srgbClr val="ff0066"/>
                    </a:solidFill>
                    <a:latin typeface="宋体"/>
                  </a:rPr>
                  <a:t>ān</a:t>
                </a:r>
                <a:endParaRPr b="0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51" name="Text Box 11"/>
              <p:cNvSpPr/>
              <p:nvPr/>
            </p:nvSpPr>
            <p:spPr>
              <a:xfrm>
                <a:off x="6887160" y="549000"/>
                <a:ext cx="91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ɡ</a:t>
                </a:r>
                <a:r>
                  <a:rPr b="1" lang="en-US" sz="3200" spc="-1" strike="noStrike">
                    <a:solidFill>
                      <a:srgbClr val="ff0066"/>
                    </a:solidFill>
                    <a:latin typeface="宋体"/>
                  </a:rPr>
                  <a:t>ān</a:t>
                </a:r>
                <a:endParaRPr b="0" lang="en-US" sz="32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sp>
          <p:nvSpPr>
            <p:cNvPr id="52" name="Text Box 11"/>
            <p:cNvSpPr/>
            <p:nvPr/>
          </p:nvSpPr>
          <p:spPr>
            <a:xfrm>
              <a:off x="6237720" y="2565720"/>
              <a:ext cx="91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ǎn</a:t>
              </a:r>
              <a:endParaRPr b="0" lang="en-US" sz="32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53" name="组合 1"/>
          <p:cNvGrpSpPr/>
          <p:nvPr/>
        </p:nvGrpSpPr>
        <p:grpSpPr>
          <a:xfrm>
            <a:off x="2556000" y="1052640"/>
            <a:ext cx="5688000" cy="916920"/>
            <a:chOff x="2556000" y="1052640"/>
            <a:chExt cx="5688000" cy="916920"/>
          </a:xfrm>
        </p:grpSpPr>
        <p:sp>
          <p:nvSpPr>
            <p:cNvPr id="54" name="Rectangle 7"/>
            <p:cNvSpPr/>
            <p:nvPr/>
          </p:nvSpPr>
          <p:spPr>
            <a:xfrm>
              <a:off x="2556000" y="105264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66"/>
                  </a:solidFill>
                  <a:latin typeface="Times New Roman"/>
                </a:rPr>
                <a:t>旗杆 </a:t>
              </a:r>
              <a:endParaRPr b="0" lang="en-US" sz="5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5004000" y="1052640"/>
              <a:ext cx="3240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66"/>
                  </a:solidFill>
                  <a:latin typeface="Times New Roman"/>
                </a:rPr>
                <a:t>电线杆 </a:t>
              </a:r>
              <a:endParaRPr b="0" lang="en-US" sz="5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556000" y="105264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66"/>
                  </a:solidFill>
                  <a:latin typeface="Times New Roman"/>
                </a:rPr>
                <a:t>旗杆 </a:t>
              </a:r>
              <a:endParaRPr b="0" lang="en-US" sz="5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5004000" y="1052640"/>
              <a:ext cx="3240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66"/>
                  </a:solidFill>
                  <a:latin typeface="Times New Roman"/>
                </a:rPr>
                <a:t>电线杆 </a:t>
              </a:r>
              <a:endParaRPr b="0" lang="en-US" sz="5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990720" y="481824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85" h="21600">
                <a:moveTo>
                  <a:pt x="15486" y="7493"/>
                </a:moveTo>
                <a:lnTo>
                  <a:pt x="18994" y="7493"/>
                </a:lnTo>
                <a:lnTo>
                  <a:pt x="18994" y="12828"/>
                </a:lnTo>
                <a:cubicBezTo>
                  <a:pt x="18994" y="13751"/>
                  <a:pt x="19794" y="14482"/>
                  <a:pt x="20830" y="14482"/>
                </a:cubicBezTo>
                <a:lnTo>
                  <a:pt x="22493" y="14482"/>
                </a:lnTo>
                <a:cubicBezTo>
                  <a:pt x="23528" y="14482"/>
                  <a:pt x="24329" y="13751"/>
                  <a:pt x="24329" y="12828"/>
                </a:cubicBezTo>
                <a:lnTo>
                  <a:pt x="24329" y="7493"/>
                </a:lnTo>
                <a:lnTo>
                  <a:pt x="22493" y="7493"/>
                </a:lnTo>
                <a:lnTo>
                  <a:pt x="26000" y="3985"/>
                </a:lnTo>
                <a:lnTo>
                  <a:pt x="29673" y="7493"/>
                </a:lnTo>
                <a:lnTo>
                  <a:pt x="27837" y="7493"/>
                </a:lnTo>
                <a:lnTo>
                  <a:pt x="27837" y="12828"/>
                </a:lnTo>
                <a:cubicBezTo>
                  <a:pt x="27837" y="15596"/>
                  <a:pt x="25260" y="18155"/>
                  <a:pt x="22493" y="18155"/>
                </a:cubicBezTo>
                <a:lnTo>
                  <a:pt x="20830" y="18155"/>
                </a:lnTo>
                <a:cubicBezTo>
                  <a:pt x="18062" y="18155"/>
                  <a:pt x="15486" y="15596"/>
                  <a:pt x="1548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84360" y="1143000"/>
            <a:ext cx="7559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赵小艺眨眨眼睛，想了想，说：“我能！”只见她在房子前面画了一根旗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</a:rPr>
              <a:t>杆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旗子在空中飘着。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>
            <a:off x="2987640" y="5035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94" h="21600">
                <a:moveTo>
                  <a:pt x="15490" y="7493"/>
                </a:moveTo>
                <a:lnTo>
                  <a:pt x="18998" y="7493"/>
                </a:lnTo>
                <a:lnTo>
                  <a:pt x="18998" y="12828"/>
                </a:lnTo>
                <a:cubicBezTo>
                  <a:pt x="18998" y="13751"/>
                  <a:pt x="19799" y="14482"/>
                  <a:pt x="20834" y="14482"/>
                </a:cubicBezTo>
                <a:lnTo>
                  <a:pt x="22497" y="14482"/>
                </a:lnTo>
                <a:cubicBezTo>
                  <a:pt x="23533" y="14482"/>
                  <a:pt x="24333" y="13751"/>
                  <a:pt x="24333" y="12828"/>
                </a:cubicBezTo>
                <a:lnTo>
                  <a:pt x="24333" y="7493"/>
                </a:lnTo>
                <a:lnTo>
                  <a:pt x="22497" y="7493"/>
                </a:lnTo>
                <a:lnTo>
                  <a:pt x="26004" y="3985"/>
                </a:lnTo>
                <a:lnTo>
                  <a:pt x="29677" y="7493"/>
                </a:lnTo>
                <a:lnTo>
                  <a:pt x="27841" y="7493"/>
                </a:lnTo>
                <a:lnTo>
                  <a:pt x="27841" y="12828"/>
                </a:lnTo>
                <a:cubicBezTo>
                  <a:pt x="27841" y="15596"/>
                  <a:pt x="25265" y="18155"/>
                  <a:pt x="22497" y="18155"/>
                </a:cubicBezTo>
                <a:lnTo>
                  <a:pt x="20834" y="18155"/>
                </a:lnTo>
                <a:cubicBezTo>
                  <a:pt x="18067" y="18155"/>
                  <a:pt x="15490" y="15596"/>
                  <a:pt x="15490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059280" y="1219320"/>
            <a:ext cx="36716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宋 </a:t>
            </a:r>
            <a:r>
              <a:rPr b="0" lang="zh-CN" sz="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涛    </a:t>
            </a:r>
            <a:endParaRPr b="0" lang="en-US" sz="6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陈 </a:t>
            </a:r>
            <a:r>
              <a:rPr b="0" lang="zh-CN" sz="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丹   </a:t>
            </a:r>
            <a:endParaRPr b="0" lang="en-US" sz="66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</a:rPr>
              <a:t>赵 小 艺</a:t>
            </a:r>
            <a:endParaRPr b="0" lang="en-US" sz="6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38"/>
          <p:cNvGrpSpPr/>
          <p:nvPr/>
        </p:nvGrpSpPr>
        <p:grpSpPr>
          <a:xfrm>
            <a:off x="4591080" y="1820880"/>
            <a:ext cx="2284560" cy="2399760"/>
            <a:chOff x="4591080" y="1820880"/>
            <a:chExt cx="2284560" cy="2399760"/>
          </a:xfrm>
        </p:grpSpPr>
        <p:grpSp>
          <p:nvGrpSpPr>
            <p:cNvPr id="63" name="Group 27"/>
            <p:cNvGrpSpPr/>
            <p:nvPr/>
          </p:nvGrpSpPr>
          <p:grpSpPr>
            <a:xfrm>
              <a:off x="4591080" y="1865160"/>
              <a:ext cx="2284560" cy="2355480"/>
              <a:chOff x="4591080" y="1865160"/>
              <a:chExt cx="2284560" cy="2355480"/>
            </a:xfrm>
          </p:grpSpPr>
          <p:sp>
            <p:nvSpPr>
              <p:cNvPr id="64" name="Rectangle 28"/>
              <p:cNvSpPr/>
              <p:nvPr/>
            </p:nvSpPr>
            <p:spPr>
              <a:xfrm>
                <a:off x="4591080" y="1865160"/>
                <a:ext cx="2284560" cy="2355480"/>
              </a:xfrm>
              <a:prstGeom prst="rect">
                <a:avLst/>
              </a:prstGeom>
              <a:solidFill>
                <a:srgbClr val="cc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5731200" y="1865160"/>
                <a:ext cx="360" cy="2351160"/>
                <a:chOff x="5731200" y="1865160"/>
                <a:chExt cx="360" cy="2351160"/>
              </a:xfrm>
            </p:grpSpPr>
            <p:sp>
              <p:nvSpPr>
                <p:cNvPr id="66" name="Line 29"/>
                <p:cNvSpPr/>
                <p:nvPr/>
              </p:nvSpPr>
              <p:spPr>
                <a:xfrm>
                  <a:off x="5731200" y="1865160"/>
                  <a:ext cx="0" cy="2351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5731200" y="1865160"/>
                  <a:ext cx="360" cy="23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591080" y="3040560"/>
                <a:ext cx="2280240" cy="360"/>
                <a:chOff x="4591080" y="3040560"/>
                <a:chExt cx="2280240" cy="360"/>
              </a:xfrm>
            </p:grpSpPr>
            <p:sp>
              <p:nvSpPr>
                <p:cNvPr id="69" name="Line 30"/>
                <p:cNvSpPr/>
                <p:nvPr/>
              </p:nvSpPr>
              <p:spPr>
                <a:xfrm>
                  <a:off x="4591080" y="3040560"/>
                  <a:ext cx="2280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591080" y="3040560"/>
                  <a:ext cx="2280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Text Box 31"/>
            <p:cNvSpPr/>
            <p:nvPr/>
          </p:nvSpPr>
          <p:spPr>
            <a:xfrm>
              <a:off x="4594320" y="18208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ff0000"/>
                  </a:solidFill>
                  <a:latin typeface="Times New Roman"/>
                </a:rPr>
                <a:t>涛</a:t>
              </a:r>
              <a:endParaRPr b="0" lang="en-US" sz="15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72" name="组合 1"/>
          <p:cNvGrpSpPr/>
          <p:nvPr/>
        </p:nvGrpSpPr>
        <p:grpSpPr>
          <a:xfrm>
            <a:off x="1978200" y="1773360"/>
            <a:ext cx="2284200" cy="2447640"/>
            <a:chOff x="1978200" y="1773360"/>
            <a:chExt cx="2284200" cy="2447640"/>
          </a:xfrm>
        </p:grpSpPr>
        <p:grpSp>
          <p:nvGrpSpPr>
            <p:cNvPr id="73" name="Group 27"/>
            <p:cNvGrpSpPr/>
            <p:nvPr/>
          </p:nvGrpSpPr>
          <p:grpSpPr>
            <a:xfrm>
              <a:off x="1978200" y="1865880"/>
              <a:ext cx="2284200" cy="2355120"/>
              <a:chOff x="1978200" y="1865880"/>
              <a:chExt cx="2284200" cy="2355120"/>
            </a:xfrm>
          </p:grpSpPr>
          <p:sp>
            <p:nvSpPr>
              <p:cNvPr id="74" name="Rectangle 28"/>
              <p:cNvSpPr/>
              <p:nvPr/>
            </p:nvSpPr>
            <p:spPr>
              <a:xfrm>
                <a:off x="1978200" y="1865880"/>
                <a:ext cx="2284200" cy="2355120"/>
              </a:xfrm>
              <a:prstGeom prst="rect">
                <a:avLst/>
              </a:prstGeom>
              <a:solidFill>
                <a:srgbClr val="cc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117960" y="1865880"/>
                <a:ext cx="360" cy="2350800"/>
                <a:chOff x="3117960" y="1865880"/>
                <a:chExt cx="360" cy="2350800"/>
              </a:xfrm>
            </p:grpSpPr>
            <p:sp>
              <p:nvSpPr>
                <p:cNvPr id="76" name="Line 29"/>
                <p:cNvSpPr/>
                <p:nvPr/>
              </p:nvSpPr>
              <p:spPr>
                <a:xfrm>
                  <a:off x="3117960" y="1865880"/>
                  <a:ext cx="0" cy="2350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3117960" y="1865880"/>
                  <a:ext cx="360" cy="23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978200" y="3041280"/>
                <a:ext cx="2279880" cy="360"/>
                <a:chOff x="1978200" y="3041280"/>
                <a:chExt cx="2279880" cy="360"/>
              </a:xfrm>
            </p:grpSpPr>
            <p:sp>
              <p:nvSpPr>
                <p:cNvPr id="79" name="Line 30"/>
                <p:cNvSpPr/>
                <p:nvPr/>
              </p:nvSpPr>
              <p:spPr>
                <a:xfrm>
                  <a:off x="1978200" y="3041280"/>
                  <a:ext cx="2279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>
                  <a:off x="1978200" y="3041280"/>
                  <a:ext cx="2279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Text Box 31"/>
            <p:cNvSpPr/>
            <p:nvPr/>
          </p:nvSpPr>
          <p:spPr>
            <a:xfrm>
              <a:off x="1978200" y="177336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ff0000"/>
                  </a:solidFill>
                  <a:latin typeface="Times New Roman"/>
                </a:rPr>
                <a:t>陈</a:t>
              </a:r>
              <a:endParaRPr b="0" lang="en-US" sz="150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187280" y="2205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组内练习朗读，分好朗读段落。基础要求：读准字音，读通句子。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24000" y="8859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小组展示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/>
          <p:cNvSpPr/>
          <p:nvPr/>
        </p:nvSpPr>
        <p:spPr>
          <a:xfrm>
            <a:off x="5796000" y="836640"/>
            <a:ext cx="3384360" cy="1008000"/>
          </a:xfrm>
          <a:prstGeom prst="cloudCallout">
            <a:avLst>
              <a:gd name="adj1" fmla="val 2671"/>
              <a:gd name="adj2" fmla="val 102754"/>
            </a:avLst>
          </a:prstGeom>
          <a:solidFill>
            <a:srgbClr val="def6f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谁能画风？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539640" y="692280"/>
            <a:ext cx="1871640" cy="129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2987640" y="765000"/>
            <a:ext cx="2592360" cy="1295640"/>
          </a:xfrm>
          <a:prstGeom prst="wedgeRectCallout">
            <a:avLst>
              <a:gd name="adj1" fmla="val 21462"/>
              <a:gd name="adj2" fmla="val 9950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风，看不见，摸不着，谁也画不出来。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39640" y="620640"/>
            <a:ext cx="1943280" cy="1150920"/>
          </a:xfrm>
          <a:prstGeom prst="wedgeRoundRectCallout">
            <a:avLst>
              <a:gd name="adj1" fmla="val 25328"/>
              <a:gd name="adj2" fmla="val 102277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我能！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1547640" y="1773360"/>
            <a:ext cx="914400" cy="60948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763640" y="1773360"/>
            <a:ext cx="914400" cy="6094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4000" y="549360"/>
            <a:ext cx="84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赵小艺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眨眨眼睛，想了想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，说：“我能！”只见她在房子前面画了一根旗杆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旗子在空中飘着。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92" name="Picture 5" descr="tu3"/>
          <p:cNvPicPr/>
          <p:nvPr/>
        </p:nvPicPr>
        <p:blipFill>
          <a:blip r:embed="rId1"/>
          <a:stretch/>
        </p:blipFill>
        <p:spPr>
          <a:xfrm>
            <a:off x="2124000" y="3141720"/>
            <a:ext cx="48229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2:28:59Z</dcterms:created>
  <dc:creator/>
  <dc:description/>
  <dc:language>en-US</dc:language>
  <cp:lastModifiedBy>user</cp:lastModifiedBy>
  <dcterms:modified xsi:type="dcterms:W3CDTF">2016-04-08T02:29:23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