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103-EBB8-45E2-AD8D-DF7FE5CB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19A-BDDE-4A99-880B-92D6D78E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537-6D3C-45CD-B344-2F6238D2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A6B-818D-4B03-A34D-BFCF469F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D71-D266-47CF-9EAF-5CC430E2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749-1DE9-4B4D-9F51-331F4B97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7F7-1CE3-4318-A901-5520DA0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EC8-AB1E-4FF1-BA22-614E996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5B5-4A29-4D92-AAEC-64B94AA4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736-9D20-44BC-BAEA-0F30B00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15E-B857-4AE1-974F-36ECEB02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C2F-ADDB-46A9-A130-60CE330E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1F09-C0BA-46D8-A6C7-C973AA8E1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62064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734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68360" y="692280"/>
            <a:ext cx="4104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12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这一天，人们提着桶，端着盆，早早地来到了大街上。大街的两旁早已准备好了清水，清水里有的滴上香水，有的撒上花瓣。开始泼水了，大家互相追赶，你拿瓢往我衣领里灌，我端盆向你身子上泼。老人，孩子、姑娘、小伙儿，个个身上湿淋淋，人人脸上笑开了花。清水是吉祥如意的象征，谁身上泼的水多，就意味着谁得到的幸福多，怎么能不高兴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133720"/>
            <a:ext cx="36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637000"/>
            <a:ext cx="720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14172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4581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5084640"/>
            <a:ext cx="720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5589720"/>
            <a:ext cx="662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268280"/>
            <a:ext cx="7993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我往你身上泼一盆，祝你</a:t>
            </a:r>
            <a:r>
              <a:rPr b="0" lang="zh-CN" sz="4400" spc="-1" strike="noStrike" u="sng">
                <a:solidFill>
                  <a:srgbClr val="6600cc"/>
                </a:solidFill>
                <a:uFillTx/>
                <a:latin typeface="Arial"/>
                <a:ea typeface="黑体"/>
              </a:rPr>
              <a:t>            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，你往我衣领里灌一瓢，祝我</a:t>
            </a:r>
            <a:r>
              <a:rPr b="0" lang="zh-CN" sz="4400" spc="-1" strike="noStrike" u="sng">
                <a:solidFill>
                  <a:srgbClr val="6600cc"/>
                </a:solidFill>
                <a:uFillTx/>
                <a:latin typeface="Arial"/>
                <a:ea typeface="黑体"/>
              </a:rPr>
              <a:t>          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，我们祝老人</a:t>
            </a:r>
            <a:r>
              <a:rPr b="0" lang="zh-CN" sz="4400" spc="-1" strike="noStrike" u="sng">
                <a:solidFill>
                  <a:srgbClr val="6600cc"/>
                </a:solidFill>
                <a:uFillTx/>
                <a:latin typeface="Arial"/>
                <a:ea typeface="黑体"/>
              </a:rPr>
              <a:t>         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，祝孩子</a:t>
            </a:r>
            <a:r>
              <a:rPr b="0" lang="zh-CN" sz="4400" spc="-1" strike="noStrike" u="sng">
                <a:solidFill>
                  <a:srgbClr val="6600cc"/>
                </a:solidFill>
                <a:uFillTx/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，祝姑娘</a:t>
            </a:r>
            <a:r>
              <a:rPr b="0" lang="zh-CN" sz="4400" spc="-1" strike="noStrike" u="sng">
                <a:solidFill>
                  <a:srgbClr val="6600cc"/>
                </a:solidFill>
                <a:uFillTx/>
                <a:latin typeface="Arial"/>
                <a:ea typeface="黑体"/>
              </a:rPr>
              <a:t>         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，祝小伙儿</a:t>
            </a:r>
            <a:r>
              <a:rPr b="0" lang="zh-CN" sz="4400" spc="-1" strike="noStrike" u="sng">
                <a:solidFill>
                  <a:srgbClr val="6600cc"/>
                </a:solidFill>
                <a:uFillTx/>
                <a:latin typeface="Arial"/>
                <a:ea typeface="黑体"/>
              </a:rPr>
              <a:t>    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112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这一天，人们提着桶，端着盆，早早地来到了大街上。大街的两旁早已准备好了清水，清水里有的滴上香水，有的撒上花瓣。开始泼水了，大家互相追赶，你拿瓢往我衣领里灌，我端盆向你身子上泼。老人，孩子、姑娘、小伙儿，个个身上湿淋淋，人人脸上笑开了花。清水是吉祥如意的象征，谁身上泼的水多，就意味着谁得到的幸福多，怎么能不高兴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484280"/>
            <a:ext cx="75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地上铺满了火红的凤凰花瓣，空中回响着欢乐的象脚鼓点。大家唱着歌，跳着舞，赛起了龙舟，放起了烟火，直到深夜还不肯离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4040" y="981000"/>
            <a:ext cx="7277040" cy="23781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72480" y="148428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20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欢乐的泼水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72741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2060640"/>
            <a:ext cx="648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左右结构：泼 祥 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上下结构：离 幸 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独体字：互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2060640"/>
            <a:ext cx="648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左右结构：淋 湿 泼 祥 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上下结构：离 幸 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独体字：互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66682" t="37711" r="32148" b="55817"/>
          <a:stretch/>
        </p:blipFill>
        <p:spPr>
          <a:xfrm>
            <a:off x="6516720" y="2133720"/>
            <a:ext cx="2872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060640"/>
            <a:ext cx="648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左右结构：淋 湿 泼 祥 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上下结构：离 幸 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独体字：互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66682" t="37711" r="32148" b="55817"/>
          <a:stretch/>
        </p:blipFill>
        <p:spPr>
          <a:xfrm>
            <a:off x="6516720" y="2133720"/>
            <a:ext cx="28728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510080" y="3429000"/>
          <a:ext cx="390600" cy="3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0080" y="3429000"/>
                    <a:ext cx="390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ShockwaveFlash1"/>
          <p:cNvGraphicFramePr/>
          <p:nvPr/>
        </p:nvGraphicFramePr>
        <p:xfrm>
          <a:off x="2050920" y="1197000"/>
          <a:ext cx="5329440" cy="42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197000"/>
                    <a:ext cx="5329440" cy="424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ShockwaveFlash1"/>
          <p:cNvGraphicFramePr/>
          <p:nvPr/>
        </p:nvGraphicFramePr>
        <p:xfrm>
          <a:off x="1835280" y="981000"/>
          <a:ext cx="5472000" cy="44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981000"/>
                    <a:ext cx="5472000" cy="446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48428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课外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、先跟录音背诵课文，再背给父母或老师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、把你知道的少数民族的传统节日说给周围的人听，还可以向周围的人了解一些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700280"/>
            <a:ext cx="777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一、读准字音，读通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二、通读课文，标出小节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557360"/>
            <a:ext cx="777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西双版纳  一年一度  泼水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凤凰花瓣  互相追赶  湿淋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吉祥如意  不肯离去  象  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557360"/>
            <a:ext cx="777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西双版纳  一年一度  泼水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凤凰花瓣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互</a:t>
            </a: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相追赶  湿淋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吉祥</a:t>
            </a: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如意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不肯</a:t>
            </a: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离去  象  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8560" y="1197000"/>
            <a:ext cx="777708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1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、开始泼水了，大家互相追赶，你拿瓢往我衣领里灌，我端盆向你身上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2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、地上铺满了火红的凤凰花瓣，空中回响着欢乐的象脚鼓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284360" y="1989000"/>
            <a:ext cx="14292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204720" y="2637000"/>
            <a:ext cx="14292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71640" y="3716280"/>
            <a:ext cx="14292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787640" y="4437000"/>
            <a:ext cx="14292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70028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黑体"/>
              </a:rPr>
              <a:t>      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  <a:ea typeface="黑体"/>
              </a:rPr>
              <a:t>西双版纳的凤凰花开了，傣族人民迎来了一年一度的泼水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28464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12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这一天，人们提着桶，端着盆，早早地来到了大街上。大街的两旁早已准备好了清水，清水里有的滴上香水，有的撒上花瓣。开始泼水了，大家互相追赶，你拿瓢往我衣领里灌，我端盆向你身子上泼。老人、孩子、姑娘、小伙儿，个个身上湿淋淋，人人脸上笑开了花。清水是吉祥如意的象征，谁身上泼的水多，就意味着谁得到的幸福多，怎么能不高兴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3141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3141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64500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364500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3645000"/>
            <a:ext cx="358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4581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414972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3:37:06Z</dcterms:created>
  <dc:creator>微软用户</dc:creator>
  <dc:description/>
  <dc:language>en-US</dc:language>
  <cp:lastModifiedBy>Microsoft</cp:lastModifiedBy>
  <dcterms:modified xsi:type="dcterms:W3CDTF">2011-12-22T09:08:16Z</dcterms:modified>
  <cp:revision>70</cp:revision>
  <dc:subject/>
  <dc:title>幻灯片 1</dc:title>
</cp:coreProperties>
</file>