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whoosh.wav" ContentType="audio/x-wav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type.wav" ContentType="audio/x-wav"/>
  <Override PartName="/ppt/media/image1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3.png" ContentType="image/pn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67F-7C86-48C7-B756-440B1BFA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55C-31FB-4C7E-B30A-300880D3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D30-A1CA-4E3F-90B3-A9D8D5D9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CB5-2C17-434E-AB2B-112F8D8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C74-FE7C-401E-8D80-BC301E2F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71E-C535-4DAB-9BE8-89D37932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496-061E-4F39-AEE3-E6F19EE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75-BAEE-4B43-B370-3C32502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3DE-8E8F-46F9-959D-39E069E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C4F-08A4-4D02-B207-6A90EBD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66A-1A1E-4413-B85C-A112FDB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470-7B35-4519-ABCC-57422E5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3C0B-8DFF-4EAB-99CE-8C5711CA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_254270"/>
          <p:cNvPicPr/>
          <p:nvPr/>
        </p:nvPicPr>
        <p:blipFill>
          <a:blip r:embed="rId1"/>
          <a:stretch/>
        </p:blipFill>
        <p:spPr>
          <a:xfrm>
            <a:off x="-53352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1676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 </a:t>
            </a:r>
            <a:r>
              <a:rPr b="1" lang="zh-CN" sz="9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恐龙的灭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kl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007-10-02_14-23-31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732720" y="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916360" y="40464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蛇颈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763640" y="1219320"/>
            <a:ext cx="5977080" cy="3724560"/>
            <a:chOff x="1763640" y="1219320"/>
            <a:chExt cx="5977080" cy="3724560"/>
          </a:xfrm>
        </p:grpSpPr>
        <p:sp>
          <p:nvSpPr>
            <p:cNvPr id="62" name="Text Box 3"/>
            <p:cNvSpPr/>
            <p:nvPr/>
          </p:nvSpPr>
          <p:spPr>
            <a:xfrm>
              <a:off x="1763640" y="1801800"/>
              <a:ext cx="597708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恐龙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"/>
            <p:cNvSpPr/>
            <p:nvPr/>
          </p:nvSpPr>
          <p:spPr>
            <a:xfrm>
              <a:off x="2268360" y="1219320"/>
              <a:ext cx="345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kǒn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界上最大的恐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5562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身长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9——5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米，高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米，重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30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638680" y="106668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震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WP6{P_X$0QLB]IQ$7RZO1O0"/>
          <p:cNvPicPr/>
          <p:nvPr/>
        </p:nvPicPr>
        <p:blipFill>
          <a:blip r:embed="rId1"/>
          <a:stretch/>
        </p:blipFill>
        <p:spPr>
          <a:xfrm>
            <a:off x="1905120" y="1143000"/>
            <a:ext cx="28861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371600" y="914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0" y="76320"/>
            <a:ext cx="4800600" cy="1557000"/>
            <a:chOff x="0" y="76320"/>
            <a:chExt cx="4800600" cy="1557000"/>
          </a:xfrm>
        </p:grpSpPr>
        <p:sp>
          <p:nvSpPr>
            <p:cNvPr id="70" name="Text Box 4"/>
            <p:cNvSpPr/>
            <p:nvPr/>
          </p:nvSpPr>
          <p:spPr>
            <a:xfrm>
              <a:off x="0" y="763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p  n</a:t>
              </a:r>
              <a:r>
                <a:rPr b="1" lang="en-US" sz="9600" spc="-1" strike="noStrike">
                  <a:solidFill>
                    <a:srgbClr val="000000"/>
                  </a:solidFill>
                  <a:latin typeface="Arial"/>
                </a:rPr>
                <a:t>ɡ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5" descr="未命名"/>
            <p:cNvPicPr/>
            <p:nvPr/>
          </p:nvPicPr>
          <p:blipFill>
            <a:blip r:embed="rId1"/>
            <a:stretch/>
          </p:blipFill>
          <p:spPr>
            <a:xfrm>
              <a:off x="1447920" y="380880"/>
              <a:ext cx="8190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WordArt 7"/>
          <p:cNvSpPr txBox="1"/>
          <p:nvPr/>
        </p:nvSpPr>
        <p:spPr>
          <a:xfrm>
            <a:off x="380880" y="1676520"/>
            <a:ext cx="7620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庞大</a:t>
            </a:r>
            <a:endParaRPr b="1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konglong_2t1"/>
          <p:cNvPicPr/>
          <p:nvPr/>
        </p:nvPicPr>
        <p:blipFill>
          <a:blip r:embed="rId2"/>
          <a:stretch/>
        </p:blipFill>
        <p:spPr>
          <a:xfrm>
            <a:off x="0" y="0"/>
            <a:ext cx="9601200" cy="74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090430034616080741JcXa8fvbL"/>
          <p:cNvPicPr/>
          <p:nvPr/>
        </p:nvPicPr>
        <p:blipFill>
          <a:blip r:embed="rId1"/>
          <a:stretch/>
        </p:blipFill>
        <p:spPr>
          <a:xfrm>
            <a:off x="0" y="260280"/>
            <a:ext cx="3348000" cy="249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kl39"/>
          <p:cNvPicPr/>
          <p:nvPr/>
        </p:nvPicPr>
        <p:blipFill>
          <a:blip r:embed="rId2"/>
          <a:stretch/>
        </p:blipFill>
        <p:spPr>
          <a:xfrm>
            <a:off x="6012000" y="549360"/>
            <a:ext cx="280980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KL28"/>
          <p:cNvPicPr/>
          <p:nvPr/>
        </p:nvPicPr>
        <p:blipFill>
          <a:blip r:embed="rId3"/>
          <a:stretch/>
        </p:blipFill>
        <p:spPr>
          <a:xfrm>
            <a:off x="250920" y="4437000"/>
            <a:ext cx="3457440" cy="21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ic_178"/>
          <p:cNvPicPr/>
          <p:nvPr/>
        </p:nvPicPr>
        <p:blipFill>
          <a:blip r:embed="rId4"/>
          <a:stretch/>
        </p:blipFill>
        <p:spPr>
          <a:xfrm>
            <a:off x="4967280" y="3933720"/>
            <a:ext cx="4176720" cy="249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kl12"/>
          <p:cNvPicPr/>
          <p:nvPr/>
        </p:nvPicPr>
        <p:blipFill>
          <a:blip r:embed="rId5"/>
          <a:stretch/>
        </p:blipFill>
        <p:spPr>
          <a:xfrm>
            <a:off x="3492360" y="189000"/>
            <a:ext cx="1957680" cy="208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1763640" y="1125360"/>
            <a:ext cx="597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灭绝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"/>
          <p:cNvSpPr/>
          <p:nvPr/>
        </p:nvSpPr>
        <p:spPr>
          <a:xfrm>
            <a:off x="762120" y="152388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庞大的恐龙为什么会消失了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卡通~45"/>
          <p:cNvPicPr/>
          <p:nvPr/>
        </p:nvPicPr>
        <p:blipFill>
          <a:blip r:embed="rId1"/>
          <a:stretch/>
        </p:blipFill>
        <p:spPr>
          <a:xfrm>
            <a:off x="0" y="9360"/>
            <a:ext cx="8820000" cy="66596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1476360" y="765000"/>
            <a:ext cx="4823640" cy="4824000"/>
            <a:chOff x="1476360" y="765000"/>
            <a:chExt cx="4823640" cy="4824000"/>
          </a:xfrm>
        </p:grpSpPr>
        <p:grpSp>
          <p:nvGrpSpPr>
            <p:cNvPr id="84" name="Group 4"/>
            <p:cNvGrpSpPr/>
            <p:nvPr/>
          </p:nvGrpSpPr>
          <p:grpSpPr>
            <a:xfrm>
              <a:off x="1476360" y="765000"/>
              <a:ext cx="4823640" cy="4824000"/>
              <a:chOff x="1476360" y="765000"/>
              <a:chExt cx="4823640" cy="482400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1476360" y="765000"/>
                <a:ext cx="4823640" cy="482400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3888000" y="765000"/>
                <a:ext cx="360" cy="4824000"/>
                <a:chOff x="3888000" y="765000"/>
                <a:chExt cx="360" cy="4824000"/>
              </a:xfrm>
            </p:grpSpPr>
            <p:sp>
              <p:nvSpPr>
                <p:cNvPr id="87" name="Line 6"/>
                <p:cNvSpPr/>
                <p:nvPr/>
              </p:nvSpPr>
              <p:spPr>
                <a:xfrm>
                  <a:off x="3888000" y="765000"/>
                  <a:ext cx="0" cy="482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3888000" y="765000"/>
                  <a:ext cx="360" cy="48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76360" y="3111120"/>
                <a:ext cx="4823640" cy="360"/>
                <a:chOff x="1476360" y="3111120"/>
                <a:chExt cx="4823640" cy="360"/>
              </a:xfrm>
            </p:grpSpPr>
            <p:sp>
              <p:nvSpPr>
                <p:cNvPr id="90" name="Line 7"/>
                <p:cNvSpPr/>
                <p:nvPr/>
              </p:nvSpPr>
              <p:spPr>
                <a:xfrm>
                  <a:off x="1476360" y="3111120"/>
                  <a:ext cx="482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1476360" y="3111120"/>
                  <a:ext cx="4823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2" name="Picture 8" descr="图片2"/>
            <p:cNvPicPr/>
            <p:nvPr/>
          </p:nvPicPr>
          <p:blipFill>
            <a:blip r:embed="rId2"/>
            <a:stretch/>
          </p:blipFill>
          <p:spPr>
            <a:xfrm>
              <a:off x="1476360" y="894600"/>
              <a:ext cx="4801680" cy="469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33520" y="609480"/>
            <a:ext cx="4343400" cy="1600200"/>
          </a:xfrm>
          <a:prstGeom prst="cloudCallout">
            <a:avLst>
              <a:gd name="adj1" fmla="val 9759"/>
              <a:gd name="adj2" fmla="val 301388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种说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809880" y="1981080"/>
            <a:ext cx="5105520" cy="1676520"/>
          </a:xfrm>
          <a:prstGeom prst="cloudCallout">
            <a:avLst>
              <a:gd name="adj1" fmla="val -60356"/>
              <a:gd name="adj2" fmla="val 212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另一种说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981080" y="4038480"/>
            <a:ext cx="5105520" cy="1676520"/>
          </a:xfrm>
          <a:prstGeom prst="cloudCallout">
            <a:avLst>
              <a:gd name="adj1" fmla="val -61847"/>
              <a:gd name="adj2" fmla="val 8087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4.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暴龙（无背景）"/>
          <p:cNvPicPr/>
          <p:nvPr/>
        </p:nvPicPr>
        <p:blipFill>
          <a:blip r:embed="rId1"/>
          <a:stretch/>
        </p:blipFill>
        <p:spPr>
          <a:xfrm rot="20733600">
            <a:off x="-391680" y="738000"/>
            <a:ext cx="9793080" cy="580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6732720" y="342900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9640" y="90792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种说法是，有一段时间，地球上突然变得十分寒冷。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恐龙没有冬眠的习惯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不能像蛇和乌龟那样，借冬眠来躲避寒冷。加上恐龙身上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没有皮毛来保暖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耐不住严寒，就慢慢地消失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YL8"/>
          <p:cNvPicPr/>
          <p:nvPr/>
        </p:nvPicPr>
        <p:blipFill>
          <a:blip r:embed="rId1"/>
          <a:stretch/>
        </p:blipFill>
        <p:spPr>
          <a:xfrm>
            <a:off x="6869160" y="4076640"/>
            <a:ext cx="2274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304920" y="3049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d0d0d"/>
                </a:solidFill>
                <a:latin typeface="Arial"/>
              </a:rPr>
              <a:t>、有一段时间，地球上变得十分寒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272880" y="32004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、有一段时间，地球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突然变得十分寒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990720" y="1371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有一段时间，地球上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突然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变得十分寒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080216_56f38db2f93d39e926aaEuftwFvXD877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02000" y="2438280"/>
            <a:ext cx="811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恐龙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没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所以就耐不住严寒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—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9640" y="90792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种说法是，有一段时间，地球上突然变得十分寒冷。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恐龙没有冬眠的习惯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不能像蛇和乌龟那样，借冬眠来躲避寒冷。加上恐龙身上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没有皮毛来保暖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耐不住严寒，就慢慢地消失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YL8"/>
          <p:cNvPicPr/>
          <p:nvPr/>
        </p:nvPicPr>
        <p:blipFill>
          <a:blip r:embed="rId1"/>
          <a:stretch/>
        </p:blipFill>
        <p:spPr>
          <a:xfrm>
            <a:off x="6869160" y="4076640"/>
            <a:ext cx="2274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68360" y="260280"/>
            <a:ext cx="8136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另一种说法是，宇宙行星撞上了地球，尘埃把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太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遮住了，地球上一片黑暗。因为没有阳光照射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大量枯萎、死亡，那些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以植物为食物的恐龙和其他动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渐渐地死去了。随着动物的减少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食肉的恐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找不到足够的食物，也渐渐地灭绝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26920" y="21038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没有阳光照射，植物大量枯萎、死亡，那些 以植物为食物的恐龙 和其他动物，渐渐地死去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514920" y="1989000"/>
            <a:ext cx="144720" cy="432000"/>
            <a:chOff x="6514920" y="1989000"/>
            <a:chExt cx="144720" cy="432000"/>
          </a:xfrm>
        </p:grpSpPr>
        <p:sp>
          <p:nvSpPr>
            <p:cNvPr id="110" name="Line 4"/>
            <p:cNvSpPr/>
            <p:nvPr/>
          </p:nvSpPr>
          <p:spPr>
            <a:xfrm flipH="1">
              <a:off x="6514920" y="1989000"/>
              <a:ext cx="144360" cy="432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515280" y="1989000"/>
              <a:ext cx="144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357440" y="2638440"/>
            <a:ext cx="214560" cy="430200"/>
            <a:chOff x="4357440" y="2638440"/>
            <a:chExt cx="214560" cy="430200"/>
          </a:xfrm>
        </p:grpSpPr>
        <p:sp>
          <p:nvSpPr>
            <p:cNvPr id="113" name="Line 5"/>
            <p:cNvSpPr/>
            <p:nvPr/>
          </p:nvSpPr>
          <p:spPr>
            <a:xfrm flipH="1">
              <a:off x="4357440" y="2638440"/>
              <a:ext cx="214200" cy="430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357800" y="2638440"/>
              <a:ext cx="2142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722131925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304920" y="228600"/>
            <a:ext cx="2895480" cy="16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大餐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274840"/>
            <a:ext cx="7238880" cy="2803320"/>
          </a:xfrm>
          <a:prstGeom prst="rect">
            <a:avLst/>
          </a:prstGeom>
          <a:solidFill>
            <a:srgbClr val="ffff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、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蓝猫淘气三千问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                 ——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恐龙专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、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恐龙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01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问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296600" y="5562000"/>
            <a:ext cx="7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伶盗龙，又译迅猛龙、速龙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020631493219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892320" y="58672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剑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：草食性四足恐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UD1VB{ZF5_8%}0U~FX2LZYF"/>
          <p:cNvPicPr/>
          <p:nvPr/>
        </p:nvPicPr>
        <p:blipFill>
          <a:blip r:embed="rId1"/>
          <a:stretch/>
        </p:blipFill>
        <p:spPr>
          <a:xfrm>
            <a:off x="2200320" y="1671480"/>
            <a:ext cx="474336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1000000000000119093646579993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838080" y="5029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最宽的龙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：甲龙。它是恐龙世界中的爬行坦克车，大约宽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55616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雷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：陆地上存在的最大动物之一，身长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米，体重介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07901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1300000057455120334407648061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4173840" y="556200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翼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：最早出现的飞行的脊椎动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9k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2:29:43Z</dcterms:created>
  <dc:creator>lenovo</dc:creator>
  <dc:description/>
  <dc:language>en-US</dc:language>
  <cp:lastModifiedBy>user</cp:lastModifiedBy>
  <dcterms:modified xsi:type="dcterms:W3CDTF">2016-04-08T02:32:10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NXTAG2">
    <vt:lpwstr>0008002e5b000000000001024120</vt:lpwstr>
  </property>
  <property fmtid="{D5CDD505-2E9C-101B-9397-08002B2CF9AE}" pid="4" name="Version">
    <vt:r8>1</vt:r8>
  </property>
</Properties>
</file>