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6440"/>
            <a:ext cx="1757520" cy="5526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5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55640" y="10652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3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丁丁冬冬学识字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411280" y="1989000"/>
            <a:ext cx="5329440" cy="360"/>
            <a:chOff x="2411280" y="1989000"/>
            <a:chExt cx="5329440" cy="360"/>
          </a:xfrm>
        </p:grpSpPr>
        <p:sp>
          <p:nvSpPr>
            <p:cNvPr id="46" name="直线连接符 21"/>
            <p:cNvSpPr/>
            <p:nvPr/>
          </p:nvSpPr>
          <p:spPr>
            <a:xfrm>
              <a:off x="2411280" y="1989000"/>
              <a:ext cx="532944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2411280" y="1989000"/>
              <a:ext cx="532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6"/>
          <p:cNvSpPr/>
          <p:nvPr/>
        </p:nvSpPr>
        <p:spPr>
          <a:xfrm>
            <a:off x="4948200" y="37209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Calibri"/>
                <a:ea typeface="宋体"/>
              </a:rPr>
              <a:t>青蛙与蜻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云形 33"/>
          <p:cNvSpPr/>
          <p:nvPr/>
        </p:nvSpPr>
        <p:spPr>
          <a:xfrm>
            <a:off x="700200" y="4078440"/>
            <a:ext cx="1784160" cy="133812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云形 30"/>
          <p:cNvSpPr/>
          <p:nvPr/>
        </p:nvSpPr>
        <p:spPr>
          <a:xfrm>
            <a:off x="2685960" y="4038480"/>
            <a:ext cx="1784520" cy="133848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云形 31"/>
          <p:cNvSpPr/>
          <p:nvPr/>
        </p:nvSpPr>
        <p:spPr>
          <a:xfrm>
            <a:off x="4673520" y="4038480"/>
            <a:ext cx="1784520" cy="133848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云形 32"/>
          <p:cNvSpPr/>
          <p:nvPr/>
        </p:nvSpPr>
        <p:spPr>
          <a:xfrm>
            <a:off x="6611760" y="4038480"/>
            <a:ext cx="1784520" cy="133848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云形 27"/>
          <p:cNvSpPr/>
          <p:nvPr/>
        </p:nvSpPr>
        <p:spPr>
          <a:xfrm>
            <a:off x="2685960" y="2666880"/>
            <a:ext cx="1784520" cy="133848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云形 28"/>
          <p:cNvSpPr/>
          <p:nvPr/>
        </p:nvSpPr>
        <p:spPr>
          <a:xfrm>
            <a:off x="4673520" y="2666880"/>
            <a:ext cx="1784520" cy="133848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云形 29"/>
          <p:cNvSpPr/>
          <p:nvPr/>
        </p:nvSpPr>
        <p:spPr>
          <a:xfrm>
            <a:off x="6611760" y="2666880"/>
            <a:ext cx="1784520" cy="133848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云形 2"/>
          <p:cNvSpPr/>
          <p:nvPr/>
        </p:nvSpPr>
        <p:spPr>
          <a:xfrm>
            <a:off x="682560" y="2666880"/>
            <a:ext cx="1784520" cy="1338480"/>
          </a:xfrm>
          <a:custGeom>
            <a:avLst/>
            <a:gdLst/>
            <a:ahLst/>
            <a:rect l="l" t="t" r="r" b="b"/>
            <a:pathLst>
              <a:path w="2810" h="2108">
                <a:moveTo>
                  <a:pt x="253" y="701"/>
                </a:moveTo>
                <a:cubicBezTo>
                  <a:pt x="248" y="676"/>
                  <a:pt x="246" y="649"/>
                  <a:pt x="246" y="622"/>
                </a:cubicBezTo>
                <a:cubicBezTo>
                  <a:pt x="246" y="375"/>
                  <a:pt x="443" y="174"/>
                  <a:pt x="685" y="174"/>
                </a:cubicBezTo>
                <a:cubicBezTo>
                  <a:pt x="748" y="174"/>
                  <a:pt x="807" y="187"/>
                  <a:pt x="861" y="212"/>
                </a:cubicBezTo>
                <a:cubicBezTo>
                  <a:pt x="924" y="121"/>
                  <a:pt x="1027" y="62"/>
                  <a:pt x="1144" y="62"/>
                </a:cubicBezTo>
                <a:cubicBezTo>
                  <a:pt x="1221" y="62"/>
                  <a:pt x="1293" y="88"/>
                  <a:pt x="1350" y="132"/>
                </a:cubicBezTo>
                <a:cubicBezTo>
                  <a:pt x="1401" y="53"/>
                  <a:pt x="1488" y="2"/>
                  <a:pt x="1587" y="2"/>
                </a:cubicBezTo>
                <a:cubicBezTo>
                  <a:pt x="1665" y="2"/>
                  <a:pt x="1735" y="34"/>
                  <a:pt x="1786" y="86"/>
                </a:cubicBezTo>
                <a:cubicBezTo>
                  <a:pt x="1841" y="35"/>
                  <a:pt x="1915" y="5"/>
                  <a:pt x="1995" y="5"/>
                </a:cubicBezTo>
                <a:cubicBezTo>
                  <a:pt x="2144" y="5"/>
                  <a:pt x="2269" y="110"/>
                  <a:pt x="2302" y="252"/>
                </a:cubicBezTo>
                <a:cubicBezTo>
                  <a:pt x="2461" y="285"/>
                  <a:pt x="2580" y="428"/>
                  <a:pt x="2580" y="600"/>
                </a:cubicBezTo>
                <a:cubicBezTo>
                  <a:pt x="2580" y="664"/>
                  <a:pt x="2563" y="724"/>
                  <a:pt x="2534" y="776"/>
                </a:cubicBezTo>
                <a:cubicBezTo>
                  <a:pt x="2616" y="858"/>
                  <a:pt x="2667" y="972"/>
                  <a:pt x="2667" y="1098"/>
                </a:cubicBezTo>
                <a:cubicBezTo>
                  <a:pt x="2667" y="1330"/>
                  <a:pt x="2495" y="1521"/>
                  <a:pt x="2273" y="1545"/>
                </a:cubicBezTo>
                <a:cubicBezTo>
                  <a:pt x="2271" y="1755"/>
                  <a:pt x="2103" y="1925"/>
                  <a:pt x="1897" y="1925"/>
                </a:cubicBezTo>
                <a:cubicBezTo>
                  <a:pt x="1840" y="1925"/>
                  <a:pt x="1786" y="1912"/>
                  <a:pt x="1738" y="1889"/>
                </a:cubicBezTo>
                <a:cubicBezTo>
                  <a:pt x="1673" y="2054"/>
                  <a:pt x="1515" y="2171"/>
                  <a:pt x="1331" y="2171"/>
                </a:cubicBezTo>
                <a:cubicBezTo>
                  <a:pt x="1201" y="2171"/>
                  <a:pt x="1084" y="2113"/>
                  <a:pt x="1003" y="2021"/>
                </a:cubicBezTo>
                <a:cubicBezTo>
                  <a:pt x="940" y="2050"/>
                  <a:pt x="871" y="2066"/>
                  <a:pt x="797" y="2066"/>
                </a:cubicBezTo>
                <a:cubicBezTo>
                  <a:pt x="635" y="2066"/>
                  <a:pt x="490" y="1987"/>
                  <a:pt x="398" y="1864"/>
                </a:cubicBezTo>
                <a:cubicBezTo>
                  <a:pt x="390" y="1865"/>
                  <a:pt x="382" y="1865"/>
                  <a:pt x="374" y="1865"/>
                </a:cubicBezTo>
                <a:cubicBezTo>
                  <a:pt x="217" y="1865"/>
                  <a:pt x="90" y="1736"/>
                  <a:pt x="90" y="1576"/>
                </a:cubicBezTo>
                <a:cubicBezTo>
                  <a:pt x="90" y="1485"/>
                  <a:pt x="132" y="1403"/>
                  <a:pt x="197" y="1350"/>
                </a:cubicBezTo>
                <a:cubicBezTo>
                  <a:pt x="97" y="1305"/>
                  <a:pt x="27" y="1203"/>
                  <a:pt x="27" y="1084"/>
                </a:cubicBezTo>
                <a:cubicBezTo>
                  <a:pt x="27" y="931"/>
                  <a:pt x="142" y="806"/>
                  <a:pt x="289" y="795"/>
                </a:cubicBezTo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5"/>
          <p:cNvGrpSpPr/>
          <p:nvPr/>
        </p:nvGrpSpPr>
        <p:grpSpPr>
          <a:xfrm>
            <a:off x="466560" y="1268280"/>
            <a:ext cx="2073600" cy="661680"/>
            <a:chOff x="466560" y="1268280"/>
            <a:chExt cx="2073600" cy="661680"/>
          </a:xfrm>
        </p:grpSpPr>
        <p:grpSp>
          <p:nvGrpSpPr>
            <p:cNvPr id="192" name=""/>
            <p:cNvGrpSpPr/>
            <p:nvPr/>
          </p:nvGrpSpPr>
          <p:grpSpPr>
            <a:xfrm>
              <a:off x="466560" y="1924560"/>
              <a:ext cx="2073600" cy="5400"/>
              <a:chOff x="466560" y="1924560"/>
              <a:chExt cx="2073600" cy="5400"/>
            </a:xfrm>
          </p:grpSpPr>
          <p:sp>
            <p:nvSpPr>
              <p:cNvPr id="193" name="直线连接符 21"/>
              <p:cNvSpPr/>
              <p:nvPr/>
            </p:nvSpPr>
            <p:spPr>
              <a:xfrm flipV="1">
                <a:off x="466560" y="1924560"/>
                <a:ext cx="2073600" cy="540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 rot="10800000">
                <a:off x="466560" y="1924560"/>
                <a:ext cx="2073600" cy="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同侧圆角矩形 7"/>
            <p:cNvSpPr/>
            <p:nvPr/>
          </p:nvSpPr>
          <p:spPr>
            <a:xfrm>
              <a:off x="466560" y="1268280"/>
              <a:ext cx="20026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同侧圆角矩形 9"/>
          <p:cNvSpPr/>
          <p:nvPr/>
        </p:nvSpPr>
        <p:spPr>
          <a:xfrm>
            <a:off x="444600" y="1255680"/>
            <a:ext cx="2001600" cy="5158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32520" y="905040"/>
            <a:ext cx="2521080" cy="1761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3"/>
          <p:cNvSpPr/>
          <p:nvPr/>
        </p:nvSpPr>
        <p:spPr>
          <a:xfrm>
            <a:off x="2629080" y="1125360"/>
            <a:ext cx="6551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"/>
                <a:ea typeface="仿宋"/>
              </a:rPr>
              <a:t>词语积累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826920" y="2852640"/>
            <a:ext cx="230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蜻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771640" y="28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呱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718160" y="28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吱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661080" y="28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除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826920" y="4286160"/>
            <a:ext cx="230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害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2770200" y="4286160"/>
            <a:ext cx="230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晴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713120" y="4286160"/>
            <a:ext cx="230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湖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656400" y="42861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静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3" descr=""/>
          <p:cNvPicPr/>
          <p:nvPr/>
        </p:nvPicPr>
        <p:blipFill>
          <a:blip r:embed="rId1"/>
          <a:stretch/>
        </p:blipFill>
        <p:spPr>
          <a:xfrm>
            <a:off x="466560" y="800280"/>
            <a:ext cx="8677440" cy="5473440"/>
          </a:xfrm>
          <a:prstGeom prst="rect">
            <a:avLst/>
          </a:prstGeom>
          <a:ln w="0">
            <a:noFill/>
          </a:ln>
        </p:spPr>
      </p:pic>
      <p:sp>
        <p:nvSpPr>
          <p:cNvPr id="209" name="同侧圆角矩形 4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11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图片 2" descr=""/>
          <p:cNvPicPr/>
          <p:nvPr/>
        </p:nvPicPr>
        <p:blipFill>
          <a:blip r:embed="rId2"/>
          <a:stretch/>
        </p:blipFill>
        <p:spPr>
          <a:xfrm flipH="1">
            <a:off x="7159320" y="4181400"/>
            <a:ext cx="1444680" cy="2092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3"/>
          <p:cNvSpPr/>
          <p:nvPr/>
        </p:nvSpPr>
        <p:spPr>
          <a:xfrm>
            <a:off x="1150920" y="2003400"/>
            <a:ext cx="57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"/>
                <a:ea typeface="仿宋"/>
              </a:rPr>
              <a:t>朗读课文，想一想，两小节诗分别写了什么？</a:t>
            </a:r>
            <a:r>
              <a:rPr b="1" lang="en-US" sz="3600" spc="-1" strike="noStrike">
                <a:solidFill>
                  <a:srgbClr val="000099"/>
                </a:solidFill>
                <a:latin typeface="仿宋"/>
                <a:ea typeface="仿宋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921040" y="3570120"/>
            <a:ext cx="57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青蛙除害虫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998800" y="4309920"/>
            <a:ext cx="57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华文楷体"/>
                <a:ea typeface="华文楷体"/>
              </a:rPr>
              <a:t>蜻蜓做好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62800"/>
          </a:xfrm>
          <a:prstGeom prst="rect">
            <a:avLst/>
          </a:prstGeom>
          <a:ln w="0">
            <a:noFill/>
          </a:ln>
        </p:spPr>
      </p:pic>
      <p:sp>
        <p:nvSpPr>
          <p:cNvPr id="219" name="同侧圆角矩形 4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21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3"/>
          <p:cNvSpPr/>
          <p:nvPr/>
        </p:nvSpPr>
        <p:spPr>
          <a:xfrm>
            <a:off x="2749680" y="1268280"/>
            <a:ext cx="65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隶变简体"/>
                <a:ea typeface="方正隶变简体"/>
              </a:rPr>
              <a:t>青蛙与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411280" y="1844640"/>
            <a:ext cx="65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小青蛙，大眼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呱呱呱，叫不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我为庄稼除害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我是稻田小英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181080" y="1954080"/>
            <a:ext cx="4548240" cy="4370400"/>
          </a:xfrm>
          <a:prstGeom prst="rect">
            <a:avLst/>
          </a:prstGeom>
          <a:ln w="0">
            <a:noFill/>
          </a:ln>
        </p:spPr>
      </p:pic>
      <p:sp>
        <p:nvSpPr>
          <p:cNvPr id="227" name="同侧圆角矩形 4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29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3"/>
          <p:cNvSpPr/>
          <p:nvPr/>
        </p:nvSpPr>
        <p:spPr>
          <a:xfrm>
            <a:off x="1835280" y="1954080"/>
            <a:ext cx="65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隶变简体"/>
                <a:ea typeface="方正隶变简体"/>
              </a:rPr>
              <a:t>小青蛙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504800" y="3279600"/>
            <a:ext cx="65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小青蛙的眼睛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华文仿宋"/>
                <a:ea typeface="华文仿宋"/>
              </a:rPr>
              <a:t>     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，小青蛙的叫声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华文仿宋"/>
                <a:ea typeface="华文仿宋"/>
              </a:rPr>
              <a:t>            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5435640" y="3279600"/>
            <a:ext cx="273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3734"/>
                </a:solidFill>
                <a:latin typeface="华文仿宋"/>
                <a:ea typeface="华文仿宋"/>
              </a:rPr>
              <a:t>很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282920" y="4075200"/>
            <a:ext cx="302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3734"/>
                </a:solidFill>
                <a:latin typeface="华文仿宋"/>
                <a:ea typeface="华文仿宋"/>
              </a:rPr>
              <a:t>呱呱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3" descr=""/>
          <p:cNvPicPr/>
          <p:nvPr/>
        </p:nvPicPr>
        <p:blipFill>
          <a:blip r:embed="rId1"/>
          <a:stretch/>
        </p:blipFill>
        <p:spPr>
          <a:xfrm>
            <a:off x="0" y="61128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237" name="同侧圆角矩形 4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39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13"/>
          <p:cNvSpPr/>
          <p:nvPr/>
        </p:nvSpPr>
        <p:spPr>
          <a:xfrm>
            <a:off x="2411280" y="1844640"/>
            <a:ext cx="65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大雨过后天放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湖面飞来小蜻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它也做了好事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静静飞去不吱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" descr=""/>
          <p:cNvPicPr/>
          <p:nvPr/>
        </p:nvPicPr>
        <p:blipFill>
          <a:blip r:embed="rId1"/>
          <a:stretch/>
        </p:blipFill>
        <p:spPr>
          <a:xfrm>
            <a:off x="181080" y="1954080"/>
            <a:ext cx="4548240" cy="4370400"/>
          </a:xfrm>
          <a:prstGeom prst="rect">
            <a:avLst/>
          </a:prstGeom>
          <a:ln w="0">
            <a:noFill/>
          </a:ln>
        </p:spPr>
      </p:pic>
      <p:sp>
        <p:nvSpPr>
          <p:cNvPr id="244" name="同侧圆角矩形 4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46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13"/>
          <p:cNvSpPr/>
          <p:nvPr/>
        </p:nvSpPr>
        <p:spPr>
          <a:xfrm>
            <a:off x="1835280" y="1954080"/>
            <a:ext cx="65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隶变简体"/>
                <a:ea typeface="方正隶变简体"/>
              </a:rPr>
              <a:t>小蜻蜓什么时间出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504800" y="3279600"/>
            <a:ext cx="7172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小蜻蜓是在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华文仿宋"/>
                <a:ea typeface="华文仿宋"/>
              </a:rPr>
              <a:t>           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过后天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华文仿宋"/>
                <a:ea typeface="华文仿宋"/>
              </a:rPr>
              <a:t>     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时出现在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5435640" y="3222720"/>
            <a:ext cx="273672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3734"/>
                </a:solidFill>
                <a:latin typeface="华文仿宋"/>
                <a:ea typeface="华文仿宋"/>
              </a:rPr>
              <a:t>大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2403360" y="39942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3734"/>
                </a:solidFill>
                <a:latin typeface="华文仿宋"/>
                <a:ea typeface="华文仿宋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标注 2"/>
          <p:cNvSpPr/>
          <p:nvPr/>
        </p:nvSpPr>
        <p:spPr>
          <a:xfrm>
            <a:off x="971640" y="2349360"/>
            <a:ext cx="6991200" cy="3857760"/>
          </a:xfrm>
          <a:prstGeom prst="wedgeRoundRectCallout">
            <a:avLst>
              <a:gd name="adj1" fmla="val -16398"/>
              <a:gd name="adj2" fmla="val 51018"/>
              <a:gd name="adj3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为庄稼除害虫，我是稻田小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同侧圆角矩形 4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56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13"/>
          <p:cNvSpPr/>
          <p:nvPr/>
        </p:nvSpPr>
        <p:spPr>
          <a:xfrm>
            <a:off x="755640" y="3303720"/>
            <a:ext cx="7454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华文楷体"/>
                <a:ea typeface="华文楷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"/>
          <p:cNvSpPr/>
          <p:nvPr/>
        </p:nvSpPr>
        <p:spPr>
          <a:xfrm>
            <a:off x="3341880" y="1628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62626"/>
                </a:solidFill>
                <a:latin typeface="Calibri"/>
                <a:ea typeface="宋体"/>
              </a:rPr>
              <a:t>朗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2446200" y="3646440"/>
            <a:ext cx="7172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读出青蛙的自豪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184480" y="3718080"/>
            <a:ext cx="3089160" cy="360"/>
            <a:chOff x="2184480" y="3718080"/>
            <a:chExt cx="3089160" cy="360"/>
          </a:xfrm>
        </p:grpSpPr>
        <p:sp>
          <p:nvSpPr>
            <p:cNvPr id="262" name="直接连接符 6"/>
            <p:cNvSpPr/>
            <p:nvPr/>
          </p:nvSpPr>
          <p:spPr>
            <a:xfrm>
              <a:off x="2184480" y="3718080"/>
              <a:ext cx="3089160" cy="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2184480" y="3718080"/>
              <a:ext cx="3089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730840" y="3718080"/>
            <a:ext cx="1919160" cy="360"/>
            <a:chOff x="5730840" y="3718080"/>
            <a:chExt cx="1919160" cy="360"/>
          </a:xfrm>
        </p:grpSpPr>
        <p:sp>
          <p:nvSpPr>
            <p:cNvPr id="265" name="直接连接符 13"/>
            <p:cNvSpPr/>
            <p:nvPr/>
          </p:nvSpPr>
          <p:spPr>
            <a:xfrm>
              <a:off x="5730840" y="3718080"/>
              <a:ext cx="1919160" cy="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5730840" y="3718080"/>
              <a:ext cx="1919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41280" y="4221000"/>
            <a:ext cx="1920960" cy="360"/>
            <a:chOff x="1241280" y="4221000"/>
            <a:chExt cx="1920960" cy="360"/>
          </a:xfrm>
        </p:grpSpPr>
        <p:sp>
          <p:nvSpPr>
            <p:cNvPr id="268" name="直接连接符 15"/>
            <p:cNvSpPr/>
            <p:nvPr/>
          </p:nvSpPr>
          <p:spPr>
            <a:xfrm>
              <a:off x="1241280" y="4221000"/>
              <a:ext cx="1920960" cy="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241280" y="4221000"/>
              <a:ext cx="1920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3"/>
          <p:cNvSpPr/>
          <p:nvPr/>
        </p:nvSpPr>
        <p:spPr>
          <a:xfrm>
            <a:off x="1143000" y="4268880"/>
            <a:ext cx="7194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它也做了好事情，静静飞去不吱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565600" y="4967280"/>
            <a:ext cx="1182960" cy="1440"/>
            <a:chOff x="5565600" y="4967280"/>
            <a:chExt cx="1182960" cy="1440"/>
          </a:xfrm>
        </p:grpSpPr>
        <p:sp>
          <p:nvSpPr>
            <p:cNvPr id="272" name="直接连接符 20"/>
            <p:cNvSpPr/>
            <p:nvPr/>
          </p:nvSpPr>
          <p:spPr>
            <a:xfrm>
              <a:off x="5565600" y="4967280"/>
              <a:ext cx="118296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565600" y="4967280"/>
              <a:ext cx="1182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13"/>
          <p:cNvSpPr/>
          <p:nvPr/>
        </p:nvSpPr>
        <p:spPr>
          <a:xfrm>
            <a:off x="1979640" y="5013360"/>
            <a:ext cx="5964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语气要缓慢，体现出蜻蜓不吱声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同侧圆角矩形 4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78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796000" y="981000"/>
            <a:ext cx="2779560" cy="194328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1"/>
          <p:cNvSpPr/>
          <p:nvPr/>
        </p:nvSpPr>
        <p:spPr>
          <a:xfrm>
            <a:off x="-60840" y="2975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宋体"/>
              </a:rPr>
              <a:t>青蛙与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左大括号 2"/>
          <p:cNvSpPr/>
          <p:nvPr/>
        </p:nvSpPr>
        <p:spPr>
          <a:xfrm>
            <a:off x="1023840" y="2558880"/>
            <a:ext cx="505080" cy="2881440"/>
          </a:xfrm>
          <a:custGeom>
            <a:avLst/>
            <a:gdLst>
              <a:gd name="textAreaLeft" fmla="*/ 322920 w 505080"/>
              <a:gd name="textAreaRight" fmla="*/ 505440 w 505080"/>
              <a:gd name="textAreaTop" fmla="*/ 12240 h 2881440"/>
              <a:gd name="textAreaBottom" fmla="*/ 286920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1"/>
                  <a:pt x="10800" y="301"/>
                </a:cubicBezTo>
                <a:lnTo>
                  <a:pt x="10800" y="10499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1"/>
                  <a:pt x="10800" y="11101"/>
                </a:cubicBezTo>
                <a:lnTo>
                  <a:pt x="10800" y="21299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3"/>
          <p:cNvSpPr/>
          <p:nvPr/>
        </p:nvSpPr>
        <p:spPr>
          <a:xfrm>
            <a:off x="6816600" y="34322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宋体"/>
              </a:rPr>
              <a:t>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5"/>
          <p:cNvSpPr/>
          <p:nvPr/>
        </p:nvSpPr>
        <p:spPr>
          <a:xfrm>
            <a:off x="1224000" y="262080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Calibri"/>
                <a:ea typeface="宋体"/>
              </a:rPr>
              <a:t>青蛙   呱呱叫     除害虫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大括号 6"/>
          <p:cNvSpPr/>
          <p:nvPr/>
        </p:nvSpPr>
        <p:spPr>
          <a:xfrm>
            <a:off x="6216480" y="2558880"/>
            <a:ext cx="432000" cy="2778120"/>
          </a:xfrm>
          <a:custGeom>
            <a:avLst/>
            <a:gdLst>
              <a:gd name="textAreaLeft" fmla="*/ 0 w 432000"/>
              <a:gd name="textAreaRight" fmla="*/ 155880 w 432000"/>
              <a:gd name="textAreaTop" fmla="*/ 167400 h 2778120"/>
              <a:gd name="textAreaBottom" fmla="*/ 2610720 h 27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2"/>
                  <a:pt x="10800" y="4163"/>
                </a:cubicBezTo>
                <a:lnTo>
                  <a:pt x="10800" y="6637"/>
                </a:lnTo>
                <a:cubicBezTo>
                  <a:pt x="10800" y="8719"/>
                  <a:pt x="16200" y="10800"/>
                  <a:pt x="21600" y="10800"/>
                </a:cubicBezTo>
                <a:cubicBezTo>
                  <a:pt x="16200" y="10800"/>
                  <a:pt x="10800" y="12882"/>
                  <a:pt x="10800" y="14963"/>
                </a:cubicBezTo>
                <a:lnTo>
                  <a:pt x="10800" y="17437"/>
                </a:lnTo>
                <a:cubicBezTo>
                  <a:pt x="10800" y="195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9"/>
          <p:cNvSpPr/>
          <p:nvPr/>
        </p:nvSpPr>
        <p:spPr>
          <a:xfrm>
            <a:off x="1228680" y="4869000"/>
            <a:ext cx="47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Calibri"/>
                <a:ea typeface="宋体"/>
              </a:rPr>
              <a:t>蜻蜓    做好事   不吱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18240" y="4653000"/>
            <a:ext cx="2028960" cy="1419120"/>
          </a:xfrm>
          <a:prstGeom prst="rect">
            <a:avLst/>
          </a:prstGeom>
          <a:ln w="0">
            <a:noFill/>
          </a:ln>
        </p:spPr>
      </p:pic>
      <p:sp>
        <p:nvSpPr>
          <p:cNvPr id="289" name="圆角矩形 1"/>
          <p:cNvSpPr/>
          <p:nvPr/>
        </p:nvSpPr>
        <p:spPr>
          <a:xfrm>
            <a:off x="466560" y="1989000"/>
            <a:ext cx="720108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同侧圆角矩形 2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92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"/>
          <p:cNvSpPr/>
          <p:nvPr/>
        </p:nvSpPr>
        <p:spPr>
          <a:xfrm>
            <a:off x="826920" y="213372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这首儿歌写了两个为庄稼除害虫的小英雄</a:t>
            </a:r>
            <a:r>
              <a:rPr b="0" lang="en-US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青蛙与蜻蜓，告诉我们它们是益虫，我们要好好保护它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7" descr=""/>
          <p:cNvPicPr/>
          <p:nvPr/>
        </p:nvPicPr>
        <p:blipFill>
          <a:blip r:embed="rId1"/>
          <a:stretch/>
        </p:blipFill>
        <p:spPr>
          <a:xfrm>
            <a:off x="-33480" y="-131760"/>
            <a:ext cx="9177480" cy="7161120"/>
          </a:xfrm>
          <a:prstGeom prst="rect">
            <a:avLst/>
          </a:prstGeom>
          <a:ln w="0">
            <a:noFill/>
          </a:ln>
        </p:spPr>
      </p:pic>
      <p:sp>
        <p:nvSpPr>
          <p:cNvPr id="297" name="爆炸形 2 3"/>
          <p:cNvSpPr/>
          <p:nvPr/>
        </p:nvSpPr>
        <p:spPr>
          <a:xfrm rot="601200">
            <a:off x="2584080" y="676440"/>
            <a:ext cx="3780000" cy="190476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同侧圆角矩形 2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300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2" descr="F:\七彩课堂插图板式封面\排版用图标、页眉页脚\标题图（终-排版用）共29个\拓展延伸.jpg"/>
          <p:cNvPicPr/>
          <p:nvPr/>
        </p:nvPicPr>
        <p:blipFill>
          <a:blip r:embed="rId2"/>
          <a:stretch/>
        </p:blipFill>
        <p:spPr>
          <a:xfrm>
            <a:off x="6551640" y="88416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0" y="2997360"/>
            <a:ext cx="923292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三点加青，是非分</a:t>
            </a: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楷体_GB2312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旁加青，雨过天</a:t>
            </a:r>
            <a:r>
              <a:rPr b="1" lang="zh-CN" sz="36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旁加青，瞪大眼</a:t>
            </a:r>
            <a:r>
              <a:rPr b="1" lang="zh-CN" sz="36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米旁加青，办事</a:t>
            </a:r>
            <a:r>
              <a:rPr b="1" lang="zh-CN" sz="36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字加青，莫捉蜻</a:t>
            </a:r>
            <a:r>
              <a:rPr b="1" lang="zh-CN" sz="36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言旁加青，求人说</a:t>
            </a:r>
            <a:r>
              <a:rPr b="1" lang="zh-CN" sz="36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心加青，待人热</a:t>
            </a:r>
            <a:r>
              <a:rPr b="1" lang="zh-CN" sz="36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争字加青，遇事冷</a:t>
            </a:r>
            <a:r>
              <a:rPr b="1" lang="zh-CN" sz="36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"/>
          <p:cNvSpPr/>
          <p:nvPr/>
        </p:nvSpPr>
        <p:spPr>
          <a:xfrm>
            <a:off x="3766680" y="11667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华文彩云"/>
                <a:ea typeface="华文彩云"/>
              </a:rPr>
              <a:t>青字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4" descr=""/>
          <p:cNvPicPr/>
          <p:nvPr/>
        </p:nvPicPr>
        <p:blipFill>
          <a:blip r:embed="rId1"/>
          <a:stretch/>
        </p:blipFill>
        <p:spPr>
          <a:xfrm>
            <a:off x="2004840" y="1959120"/>
            <a:ext cx="4165920" cy="3349440"/>
          </a:xfrm>
          <a:prstGeom prst="rect">
            <a:avLst/>
          </a:prstGeom>
          <a:ln w="0">
            <a:noFill/>
          </a:ln>
        </p:spPr>
      </p:pic>
      <p:sp>
        <p:nvSpPr>
          <p:cNvPr id="52" name="椭圆 5"/>
          <p:cNvSpPr/>
          <p:nvPr/>
        </p:nvSpPr>
        <p:spPr>
          <a:xfrm>
            <a:off x="3254400" y="1084320"/>
            <a:ext cx="2766960" cy="839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grpSp>
          <p:nvGrpSpPr>
            <p:cNvPr id="54" name=""/>
            <p:cNvGrpSpPr/>
            <p:nvPr/>
          </p:nvGrpSpPr>
          <p:grpSpPr>
            <a:xfrm>
              <a:off x="268200" y="1689840"/>
              <a:ext cx="2255760" cy="5760"/>
              <a:chOff x="268200" y="1689840"/>
              <a:chExt cx="2255760" cy="5760"/>
            </a:xfrm>
          </p:grpSpPr>
          <p:sp>
            <p:nvSpPr>
              <p:cNvPr id="55" name="直线连接符 21"/>
              <p:cNvSpPr/>
              <p:nvPr/>
            </p:nvSpPr>
            <p:spPr>
              <a:xfrm flipV="1">
                <a:off x="268200" y="1689840"/>
                <a:ext cx="2255760" cy="576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 rot="10800000">
                <a:off x="268200" y="1689840"/>
                <a:ext cx="22557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同侧圆角矩形 23"/>
            <p:cNvSpPr/>
            <p:nvPr/>
          </p:nvSpPr>
          <p:spPr>
            <a:xfrm>
              <a:off x="452520" y="1123920"/>
              <a:ext cx="1999800" cy="51732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0" y="4821120"/>
            <a:ext cx="2120760" cy="1482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3645000" y="1077840"/>
            <a:ext cx="287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Calibri"/>
                <a:ea typeface="宋体"/>
              </a:rPr>
              <a:t>猜谜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-179280" y="2200320"/>
            <a:ext cx="8464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" descr=""/>
          <p:cNvPicPr/>
          <p:nvPr/>
        </p:nvPicPr>
        <p:blipFill>
          <a:blip r:embed="rId3"/>
          <a:stretch/>
        </p:blipFill>
        <p:spPr>
          <a:xfrm>
            <a:off x="6340320" y="2252520"/>
            <a:ext cx="270360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2"/>
          <p:cNvSpPr/>
          <p:nvPr/>
        </p:nvSpPr>
        <p:spPr>
          <a:xfrm>
            <a:off x="2379600" y="242892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身穿绿衣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田里把歌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舌头一伸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害虫无处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438800" y="5261040"/>
            <a:ext cx="416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38cd5"/>
                </a:solidFill>
                <a:latin typeface="Calibri"/>
                <a:ea typeface="宋体"/>
              </a:rPr>
              <a:t>谜底：（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6329520" y="5265720"/>
            <a:ext cx="4167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466560" y="1909800"/>
            <a:ext cx="8251920" cy="4282920"/>
          </a:xfrm>
          <a:prstGeom prst="rect">
            <a:avLst/>
          </a:prstGeom>
          <a:ln w="0">
            <a:noFill/>
          </a:ln>
        </p:spPr>
      </p:pic>
      <p:sp>
        <p:nvSpPr>
          <p:cNvPr id="307" name="同侧圆角矩形 2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309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Picture 2" descr="F:\七彩课堂插图板式封面\排版用图标、页眉页脚\标题图（终-排版用）共29个\我会说.jpg"/>
          <p:cNvPicPr/>
          <p:nvPr/>
        </p:nvPicPr>
        <p:blipFill>
          <a:blip r:embed="rId2"/>
          <a:stretch/>
        </p:blipFill>
        <p:spPr>
          <a:xfrm>
            <a:off x="6578640" y="95724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5"/>
          <p:cNvSpPr/>
          <p:nvPr/>
        </p:nvSpPr>
        <p:spPr>
          <a:xfrm>
            <a:off x="981000" y="2413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Calibri"/>
                <a:ea typeface="宋体"/>
              </a:rPr>
              <a:t>         </a:t>
            </a:r>
            <a:r>
              <a:rPr b="0" lang="zh-CN" sz="3600" spc="-1" strike="noStrike">
                <a:solidFill>
                  <a:srgbClr val="7030a0"/>
                </a:solidFill>
                <a:latin typeface="Calibri"/>
                <a:ea typeface="宋体"/>
              </a:rPr>
              <a:t>青蛙和蜻蜓都是保护庄稼的小能手，农民伯伯了解它们，我们也不能差，让我们牵手共同守护它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十角星 13"/>
          <p:cNvSpPr/>
          <p:nvPr/>
        </p:nvSpPr>
        <p:spPr>
          <a:xfrm>
            <a:off x="1212840" y="4070520"/>
            <a:ext cx="1158840" cy="1022040"/>
          </a:xfrm>
          <a:custGeom>
            <a:avLst/>
            <a:gdLst/>
            <a:ahLst/>
            <a:rect l="l" t="t" r="r" b="b"/>
            <a:pathLst>
              <a:path w="1827" h="1608">
                <a:moveTo>
                  <a:pt x="0" y="555"/>
                </a:moveTo>
                <a:lnTo>
                  <a:pt x="252" y="401"/>
                </a:lnTo>
                <a:lnTo>
                  <a:pt x="348" y="153"/>
                </a:lnTo>
                <a:lnTo>
                  <a:pt x="661" y="153"/>
                </a:lnTo>
                <a:lnTo>
                  <a:pt x="913" y="0"/>
                </a:lnTo>
                <a:lnTo>
                  <a:pt x="1165" y="153"/>
                </a:lnTo>
                <a:lnTo>
                  <a:pt x="1478" y="153"/>
                </a:lnTo>
                <a:lnTo>
                  <a:pt x="1574" y="401"/>
                </a:lnTo>
                <a:lnTo>
                  <a:pt x="1827" y="555"/>
                </a:lnTo>
                <a:lnTo>
                  <a:pt x="1730" y="804"/>
                </a:lnTo>
                <a:lnTo>
                  <a:pt x="1827" y="1052"/>
                </a:lnTo>
                <a:lnTo>
                  <a:pt x="1574" y="1206"/>
                </a:lnTo>
                <a:lnTo>
                  <a:pt x="1478" y="1454"/>
                </a:lnTo>
                <a:lnTo>
                  <a:pt x="1165" y="1454"/>
                </a:lnTo>
                <a:lnTo>
                  <a:pt x="913" y="1608"/>
                </a:lnTo>
                <a:lnTo>
                  <a:pt x="661" y="1454"/>
                </a:lnTo>
                <a:lnTo>
                  <a:pt x="348" y="1454"/>
                </a:lnTo>
                <a:lnTo>
                  <a:pt x="252" y="1206"/>
                </a:lnTo>
                <a:lnTo>
                  <a:pt x="0" y="1052"/>
                </a:lnTo>
                <a:lnTo>
                  <a:pt x="96" y="804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d99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同侧圆角矩形 2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317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6300720" y="5013360"/>
            <a:ext cx="2376720" cy="1660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819000" y="19177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6"/>
          <p:cNvSpPr/>
          <p:nvPr/>
        </p:nvSpPr>
        <p:spPr>
          <a:xfrm>
            <a:off x="2455560" y="2133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b8b7"/>
                </a:solidFill>
                <a:latin typeface="Calibri"/>
                <a:ea typeface="宋体"/>
              </a:rPr>
              <a:t>给下列汉字注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F:\七彩课堂插图板式封面\排版用图标、页眉页脚\标题jpg\课外书屋.jpg"/>
          <p:cNvPicPr/>
          <p:nvPr/>
        </p:nvPicPr>
        <p:blipFill>
          <a:blip r:embed="rId2"/>
          <a:stretch/>
        </p:blipFill>
        <p:spPr>
          <a:xfrm>
            <a:off x="6351480" y="1380960"/>
            <a:ext cx="2259000" cy="1578240"/>
          </a:xfrm>
          <a:prstGeom prst="rect">
            <a:avLst/>
          </a:prstGeom>
          <a:ln w="0">
            <a:noFill/>
          </a:ln>
        </p:spPr>
      </p:pic>
      <p:sp>
        <p:nvSpPr>
          <p:cNvPr id="323" name="文本框 10"/>
          <p:cNvSpPr/>
          <p:nvPr/>
        </p:nvSpPr>
        <p:spPr>
          <a:xfrm>
            <a:off x="1243080" y="42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Calibri"/>
                <a:ea typeface="宋体"/>
              </a:rPr>
              <a:t>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十角星 11"/>
          <p:cNvSpPr/>
          <p:nvPr/>
        </p:nvSpPr>
        <p:spPr>
          <a:xfrm>
            <a:off x="2919240" y="4070520"/>
            <a:ext cx="1160640" cy="1022040"/>
          </a:xfrm>
          <a:custGeom>
            <a:avLst/>
            <a:gdLst/>
            <a:ahLst/>
            <a:rect l="l" t="t" r="r" b="b"/>
            <a:pathLst>
              <a:path w="1827" h="1608">
                <a:moveTo>
                  <a:pt x="0" y="555"/>
                </a:moveTo>
                <a:lnTo>
                  <a:pt x="252" y="401"/>
                </a:lnTo>
                <a:lnTo>
                  <a:pt x="348" y="153"/>
                </a:lnTo>
                <a:lnTo>
                  <a:pt x="661" y="153"/>
                </a:lnTo>
                <a:lnTo>
                  <a:pt x="913" y="0"/>
                </a:lnTo>
                <a:lnTo>
                  <a:pt x="1165" y="153"/>
                </a:lnTo>
                <a:lnTo>
                  <a:pt x="1478" y="153"/>
                </a:lnTo>
                <a:lnTo>
                  <a:pt x="1574" y="401"/>
                </a:lnTo>
                <a:lnTo>
                  <a:pt x="1827" y="555"/>
                </a:lnTo>
                <a:lnTo>
                  <a:pt x="1730" y="804"/>
                </a:lnTo>
                <a:lnTo>
                  <a:pt x="1827" y="1052"/>
                </a:lnTo>
                <a:lnTo>
                  <a:pt x="1574" y="1206"/>
                </a:lnTo>
                <a:lnTo>
                  <a:pt x="1478" y="1454"/>
                </a:lnTo>
                <a:lnTo>
                  <a:pt x="1165" y="1454"/>
                </a:lnTo>
                <a:lnTo>
                  <a:pt x="913" y="1608"/>
                </a:lnTo>
                <a:lnTo>
                  <a:pt x="661" y="1454"/>
                </a:lnTo>
                <a:lnTo>
                  <a:pt x="348" y="1454"/>
                </a:lnTo>
                <a:lnTo>
                  <a:pt x="252" y="1206"/>
                </a:lnTo>
                <a:lnTo>
                  <a:pt x="0" y="1052"/>
                </a:lnTo>
                <a:lnTo>
                  <a:pt x="96" y="804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d99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2"/>
          <p:cNvSpPr/>
          <p:nvPr/>
        </p:nvSpPr>
        <p:spPr>
          <a:xfrm>
            <a:off x="2951280" y="42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Calibri"/>
                <a:ea typeface="宋体"/>
              </a:rPr>
              <a:t>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十角星 16"/>
          <p:cNvSpPr/>
          <p:nvPr/>
        </p:nvSpPr>
        <p:spPr>
          <a:xfrm>
            <a:off x="4660920" y="4070520"/>
            <a:ext cx="1158840" cy="1022040"/>
          </a:xfrm>
          <a:custGeom>
            <a:avLst/>
            <a:gdLst/>
            <a:ahLst/>
            <a:rect l="l" t="t" r="r" b="b"/>
            <a:pathLst>
              <a:path w="1827" h="1608">
                <a:moveTo>
                  <a:pt x="0" y="555"/>
                </a:moveTo>
                <a:lnTo>
                  <a:pt x="252" y="401"/>
                </a:lnTo>
                <a:lnTo>
                  <a:pt x="348" y="153"/>
                </a:lnTo>
                <a:lnTo>
                  <a:pt x="661" y="153"/>
                </a:lnTo>
                <a:lnTo>
                  <a:pt x="913" y="0"/>
                </a:lnTo>
                <a:lnTo>
                  <a:pt x="1165" y="153"/>
                </a:lnTo>
                <a:lnTo>
                  <a:pt x="1478" y="153"/>
                </a:lnTo>
                <a:lnTo>
                  <a:pt x="1574" y="401"/>
                </a:lnTo>
                <a:lnTo>
                  <a:pt x="1827" y="555"/>
                </a:lnTo>
                <a:lnTo>
                  <a:pt x="1730" y="804"/>
                </a:lnTo>
                <a:lnTo>
                  <a:pt x="1827" y="1052"/>
                </a:lnTo>
                <a:lnTo>
                  <a:pt x="1574" y="1206"/>
                </a:lnTo>
                <a:lnTo>
                  <a:pt x="1478" y="1454"/>
                </a:lnTo>
                <a:lnTo>
                  <a:pt x="1165" y="1454"/>
                </a:lnTo>
                <a:lnTo>
                  <a:pt x="913" y="1608"/>
                </a:lnTo>
                <a:lnTo>
                  <a:pt x="661" y="1454"/>
                </a:lnTo>
                <a:lnTo>
                  <a:pt x="348" y="1454"/>
                </a:lnTo>
                <a:lnTo>
                  <a:pt x="252" y="1206"/>
                </a:lnTo>
                <a:lnTo>
                  <a:pt x="0" y="1052"/>
                </a:lnTo>
                <a:lnTo>
                  <a:pt x="96" y="804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d99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4691160" y="42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Calibri"/>
                <a:ea typeface="宋体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十角星 18"/>
          <p:cNvSpPr/>
          <p:nvPr/>
        </p:nvSpPr>
        <p:spPr>
          <a:xfrm>
            <a:off x="6346800" y="4070520"/>
            <a:ext cx="1160640" cy="1022040"/>
          </a:xfrm>
          <a:custGeom>
            <a:avLst/>
            <a:gdLst/>
            <a:ahLst/>
            <a:rect l="l" t="t" r="r" b="b"/>
            <a:pathLst>
              <a:path w="1827" h="1608">
                <a:moveTo>
                  <a:pt x="0" y="555"/>
                </a:moveTo>
                <a:lnTo>
                  <a:pt x="252" y="401"/>
                </a:lnTo>
                <a:lnTo>
                  <a:pt x="348" y="153"/>
                </a:lnTo>
                <a:lnTo>
                  <a:pt x="661" y="153"/>
                </a:lnTo>
                <a:lnTo>
                  <a:pt x="913" y="0"/>
                </a:lnTo>
                <a:lnTo>
                  <a:pt x="1165" y="153"/>
                </a:lnTo>
                <a:lnTo>
                  <a:pt x="1478" y="153"/>
                </a:lnTo>
                <a:lnTo>
                  <a:pt x="1574" y="401"/>
                </a:lnTo>
                <a:lnTo>
                  <a:pt x="1827" y="555"/>
                </a:lnTo>
                <a:lnTo>
                  <a:pt x="1730" y="804"/>
                </a:lnTo>
                <a:lnTo>
                  <a:pt x="1827" y="1052"/>
                </a:lnTo>
                <a:lnTo>
                  <a:pt x="1574" y="1206"/>
                </a:lnTo>
                <a:lnTo>
                  <a:pt x="1478" y="1454"/>
                </a:lnTo>
                <a:lnTo>
                  <a:pt x="1165" y="1454"/>
                </a:lnTo>
                <a:lnTo>
                  <a:pt x="913" y="1608"/>
                </a:lnTo>
                <a:lnTo>
                  <a:pt x="661" y="1454"/>
                </a:lnTo>
                <a:lnTo>
                  <a:pt x="348" y="1454"/>
                </a:lnTo>
                <a:lnTo>
                  <a:pt x="252" y="1206"/>
                </a:lnTo>
                <a:lnTo>
                  <a:pt x="0" y="1052"/>
                </a:lnTo>
                <a:lnTo>
                  <a:pt x="96" y="804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d99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6377040" y="42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Calibri"/>
                <a:ea typeface="宋体"/>
              </a:rPr>
              <a:t>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1"/>
          <p:cNvSpPr/>
          <p:nvPr/>
        </p:nvSpPr>
        <p:spPr>
          <a:xfrm>
            <a:off x="1265400" y="3076560"/>
            <a:ext cx="11080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20"/>
          <p:cNvSpPr/>
          <p:nvPr/>
        </p:nvSpPr>
        <p:spPr>
          <a:xfrm>
            <a:off x="2946240" y="3076560"/>
            <a:ext cx="11080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21"/>
          <p:cNvSpPr/>
          <p:nvPr/>
        </p:nvSpPr>
        <p:spPr>
          <a:xfrm>
            <a:off x="4691160" y="3076560"/>
            <a:ext cx="11080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6346800" y="3076560"/>
            <a:ext cx="11080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同侧圆角矩形 2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337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92160" y="465300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206280" y="226044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4159080" y="2425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b8b7"/>
                </a:solidFill>
                <a:latin typeface="Calibri"/>
                <a:ea typeface="宋体"/>
              </a:rPr>
              <a:t>想一想保护庄稼的小英雄还有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F:\七彩课堂插图板式封面\排版用图标、页眉页脚\标题jpg\课外书屋.jpg"/>
          <p:cNvPicPr/>
          <p:nvPr/>
        </p:nvPicPr>
        <p:blipFill>
          <a:blip r:embed="rId2"/>
          <a:stretch/>
        </p:blipFill>
        <p:spPr>
          <a:xfrm>
            <a:off x="6588000" y="800280"/>
            <a:ext cx="2257560" cy="15778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1279440" y="3860640"/>
            <a:ext cx="6337440" cy="360"/>
            <a:chOff x="1279440" y="3860640"/>
            <a:chExt cx="6337440" cy="360"/>
          </a:xfrm>
        </p:grpSpPr>
        <p:sp>
          <p:nvSpPr>
            <p:cNvPr id="344" name="直接连接符 14"/>
            <p:cNvSpPr/>
            <p:nvPr/>
          </p:nvSpPr>
          <p:spPr>
            <a:xfrm>
              <a:off x="1279440" y="3860640"/>
              <a:ext cx="63374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1279440" y="3860640"/>
              <a:ext cx="633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"/>
          <p:cNvPicPr/>
          <p:nvPr/>
        </p:nvPicPr>
        <p:blipFill>
          <a:blip r:embed="rId1"/>
          <a:stretch/>
        </p:blipFill>
        <p:spPr>
          <a:xfrm>
            <a:off x="2004840" y="1959120"/>
            <a:ext cx="4165920" cy="3349440"/>
          </a:xfrm>
          <a:prstGeom prst="rect">
            <a:avLst/>
          </a:prstGeom>
          <a:ln w="0">
            <a:noFill/>
          </a:ln>
        </p:spPr>
      </p:pic>
      <p:sp>
        <p:nvSpPr>
          <p:cNvPr id="67" name="椭圆 5"/>
          <p:cNvSpPr/>
          <p:nvPr/>
        </p:nvSpPr>
        <p:spPr>
          <a:xfrm>
            <a:off x="3254400" y="1084320"/>
            <a:ext cx="2766960" cy="839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grpSp>
          <p:nvGrpSpPr>
            <p:cNvPr id="69" name=""/>
            <p:cNvGrpSpPr/>
            <p:nvPr/>
          </p:nvGrpSpPr>
          <p:grpSpPr>
            <a:xfrm>
              <a:off x="268200" y="1689840"/>
              <a:ext cx="2255760" cy="5760"/>
              <a:chOff x="268200" y="1689840"/>
              <a:chExt cx="2255760" cy="576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268200" y="1689840"/>
                <a:ext cx="2255760" cy="576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268200" y="1689840"/>
                <a:ext cx="22557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同侧圆角矩形 23"/>
            <p:cNvSpPr/>
            <p:nvPr/>
          </p:nvSpPr>
          <p:spPr>
            <a:xfrm>
              <a:off x="452520" y="1123920"/>
              <a:ext cx="1999800" cy="51732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0" y="4821120"/>
            <a:ext cx="2120760" cy="1482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3645000" y="1077840"/>
            <a:ext cx="287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Calibri"/>
                <a:ea typeface="宋体"/>
              </a:rPr>
              <a:t>猜谜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-179280" y="2200320"/>
            <a:ext cx="8464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"/>
          <p:cNvSpPr/>
          <p:nvPr/>
        </p:nvSpPr>
        <p:spPr>
          <a:xfrm>
            <a:off x="2379600" y="242892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像架大飞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飞在半空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翩翩起舞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忘捉害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4438800" y="5261040"/>
            <a:ext cx="416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38cd5"/>
                </a:solidFill>
                <a:latin typeface="Calibri"/>
                <a:ea typeface="宋体"/>
              </a:rPr>
              <a:t>谜底：（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6329520" y="5265720"/>
            <a:ext cx="4167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3" descr=""/>
          <p:cNvPicPr/>
          <p:nvPr/>
        </p:nvPicPr>
        <p:blipFill>
          <a:blip r:embed="rId3"/>
          <a:stretch/>
        </p:blipFill>
        <p:spPr>
          <a:xfrm>
            <a:off x="5568840" y="1778040"/>
            <a:ext cx="335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268200" y="1959120"/>
            <a:ext cx="8336160" cy="3349440"/>
          </a:xfrm>
          <a:prstGeom prst="rect">
            <a:avLst/>
          </a:prstGeom>
          <a:ln w="0">
            <a:noFill/>
          </a:ln>
        </p:spPr>
      </p:pic>
      <p:sp>
        <p:nvSpPr>
          <p:cNvPr id="82" name="椭圆 5"/>
          <p:cNvSpPr/>
          <p:nvPr/>
        </p:nvSpPr>
        <p:spPr>
          <a:xfrm>
            <a:off x="3254400" y="1084320"/>
            <a:ext cx="2766960" cy="839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grpSp>
          <p:nvGrpSpPr>
            <p:cNvPr id="84" name=""/>
            <p:cNvGrpSpPr/>
            <p:nvPr/>
          </p:nvGrpSpPr>
          <p:grpSpPr>
            <a:xfrm>
              <a:off x="268200" y="1689840"/>
              <a:ext cx="2255760" cy="5760"/>
              <a:chOff x="268200" y="1689840"/>
              <a:chExt cx="2255760" cy="5760"/>
            </a:xfrm>
          </p:grpSpPr>
          <p:sp>
            <p:nvSpPr>
              <p:cNvPr id="85" name="直线连接符 21"/>
              <p:cNvSpPr/>
              <p:nvPr/>
            </p:nvSpPr>
            <p:spPr>
              <a:xfrm flipV="1">
                <a:off x="268200" y="1689840"/>
                <a:ext cx="2255760" cy="576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 rot="10800000">
                <a:off x="268200" y="1689840"/>
                <a:ext cx="22557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同侧圆角矩形 23"/>
            <p:cNvSpPr/>
            <p:nvPr/>
          </p:nvSpPr>
          <p:spPr>
            <a:xfrm>
              <a:off x="452520" y="1123920"/>
              <a:ext cx="1999800" cy="51732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0" y="4821120"/>
            <a:ext cx="2120760" cy="1482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3645000" y="1077840"/>
            <a:ext cx="287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Calibri"/>
                <a:ea typeface="宋体"/>
              </a:rPr>
              <a:t>了解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-179280" y="2200320"/>
            <a:ext cx="8464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1571760" y="25066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据统计，从春季到秋季的</a:t>
            </a:r>
            <a:r>
              <a:rPr b="0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月中，一只青蛙就可以消灭一万多只害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4" descr=""/>
          <p:cNvPicPr/>
          <p:nvPr/>
        </p:nvPicPr>
        <p:blipFill>
          <a:blip r:embed="rId1"/>
          <a:stretch/>
        </p:blipFill>
        <p:spPr>
          <a:xfrm>
            <a:off x="268200" y="1959120"/>
            <a:ext cx="8336160" cy="3349440"/>
          </a:xfrm>
          <a:prstGeom prst="rect">
            <a:avLst/>
          </a:prstGeom>
          <a:ln w="0">
            <a:noFill/>
          </a:ln>
        </p:spPr>
      </p:pic>
      <p:sp>
        <p:nvSpPr>
          <p:cNvPr id="94" name="椭圆 5"/>
          <p:cNvSpPr/>
          <p:nvPr/>
        </p:nvSpPr>
        <p:spPr>
          <a:xfrm>
            <a:off x="3254400" y="1084320"/>
            <a:ext cx="2766960" cy="839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grpSp>
          <p:nvGrpSpPr>
            <p:cNvPr id="96" name=""/>
            <p:cNvGrpSpPr/>
            <p:nvPr/>
          </p:nvGrpSpPr>
          <p:grpSpPr>
            <a:xfrm>
              <a:off x="268200" y="1689840"/>
              <a:ext cx="2255760" cy="5760"/>
              <a:chOff x="268200" y="1689840"/>
              <a:chExt cx="2255760" cy="5760"/>
            </a:xfrm>
          </p:grpSpPr>
          <p:sp>
            <p:nvSpPr>
              <p:cNvPr id="97" name="直线连接符 21"/>
              <p:cNvSpPr/>
              <p:nvPr/>
            </p:nvSpPr>
            <p:spPr>
              <a:xfrm flipV="1">
                <a:off x="268200" y="1689840"/>
                <a:ext cx="2255760" cy="576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 rot="10800000">
                <a:off x="268200" y="1689840"/>
                <a:ext cx="22557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同侧圆角矩形 23"/>
            <p:cNvSpPr/>
            <p:nvPr/>
          </p:nvSpPr>
          <p:spPr>
            <a:xfrm>
              <a:off x="452520" y="1123920"/>
              <a:ext cx="1999800" cy="51732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0" y="4821120"/>
            <a:ext cx="2120760" cy="1482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3645000" y="1077840"/>
            <a:ext cx="287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Calibri"/>
                <a:ea typeface="宋体"/>
              </a:rPr>
              <a:t>了解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-179280" y="2200320"/>
            <a:ext cx="8464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"/>
          <p:cNvSpPr/>
          <p:nvPr/>
        </p:nvSpPr>
        <p:spPr>
          <a:xfrm>
            <a:off x="1571760" y="2506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蜻蜓除能大量捕食蚊、蝇外，有的还能捕食蝶、蛾、蜂等害虫，实为益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侧圆角矩形 1"/>
          <p:cNvSpPr/>
          <p:nvPr/>
        </p:nvSpPr>
        <p:spPr>
          <a:xfrm>
            <a:off x="466560" y="1268280"/>
            <a:ext cx="2001960" cy="51624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107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908000" y="3978360"/>
            <a:ext cx="65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仿宋"/>
                <a:ea typeface="仿宋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仿宋"/>
                <a:ea typeface="仿宋"/>
              </a:rPr>
              <a:t>小蜻蜓做了件什么好事情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55720" y="39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908000" y="2563920"/>
            <a:ext cx="68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仿宋"/>
                <a:ea typeface="仿宋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仿宋"/>
                <a:ea typeface="仿宋"/>
              </a:rPr>
              <a:t>小青蛙为什么是稻田小英雄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八角星 18"/>
          <p:cNvSpPr/>
          <p:nvPr/>
        </p:nvSpPr>
        <p:spPr>
          <a:xfrm>
            <a:off x="4800600" y="3321000"/>
            <a:ext cx="1440000" cy="1224000"/>
          </a:xfrm>
          <a:custGeom>
            <a:avLst/>
            <a:gdLst>
              <a:gd name="textAreaLeft" fmla="*/ 330480 w 1440000"/>
              <a:gd name="textAreaRight" fmla="*/ 1109520 w 144000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八角星 17"/>
          <p:cNvSpPr/>
          <p:nvPr/>
        </p:nvSpPr>
        <p:spPr>
          <a:xfrm>
            <a:off x="3305160" y="3321000"/>
            <a:ext cx="1440000" cy="1224000"/>
          </a:xfrm>
          <a:custGeom>
            <a:avLst/>
            <a:gdLst>
              <a:gd name="textAreaLeft" fmla="*/ 330480 w 1440000"/>
              <a:gd name="textAreaRight" fmla="*/ 1109520 w 144000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八角星 14"/>
          <p:cNvSpPr/>
          <p:nvPr/>
        </p:nvSpPr>
        <p:spPr>
          <a:xfrm>
            <a:off x="1819440" y="3321000"/>
            <a:ext cx="1439640" cy="1224000"/>
          </a:xfrm>
          <a:custGeom>
            <a:avLst/>
            <a:gdLst>
              <a:gd name="textAreaLeft" fmla="*/ 330480 w 1439640"/>
              <a:gd name="textAreaRight" fmla="*/ 1109160 w 143964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八角星 1"/>
          <p:cNvSpPr/>
          <p:nvPr/>
        </p:nvSpPr>
        <p:spPr>
          <a:xfrm>
            <a:off x="395280" y="3321000"/>
            <a:ext cx="1440000" cy="1224000"/>
          </a:xfrm>
          <a:custGeom>
            <a:avLst/>
            <a:gdLst>
              <a:gd name="textAreaLeft" fmla="*/ 330480 w 1440000"/>
              <a:gd name="textAreaRight" fmla="*/ 1109520 w 144000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5"/>
          <p:cNvGrpSpPr/>
          <p:nvPr/>
        </p:nvGrpSpPr>
        <p:grpSpPr>
          <a:xfrm>
            <a:off x="466560" y="1268280"/>
            <a:ext cx="2073600" cy="661680"/>
            <a:chOff x="466560" y="1268280"/>
            <a:chExt cx="2073600" cy="661680"/>
          </a:xfrm>
        </p:grpSpPr>
        <p:grpSp>
          <p:nvGrpSpPr>
            <p:cNvPr id="120" name=""/>
            <p:cNvGrpSpPr/>
            <p:nvPr/>
          </p:nvGrpSpPr>
          <p:grpSpPr>
            <a:xfrm>
              <a:off x="466560" y="1924560"/>
              <a:ext cx="2073600" cy="5400"/>
              <a:chOff x="466560" y="1924560"/>
              <a:chExt cx="2073600" cy="5400"/>
            </a:xfrm>
          </p:grpSpPr>
          <p:sp>
            <p:nvSpPr>
              <p:cNvPr id="121" name="直线连接符 21"/>
              <p:cNvSpPr/>
              <p:nvPr/>
            </p:nvSpPr>
            <p:spPr>
              <a:xfrm flipV="1">
                <a:off x="466560" y="1924560"/>
                <a:ext cx="2073600" cy="540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 rot="10800000">
                <a:off x="466560" y="1924560"/>
                <a:ext cx="2073600" cy="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同侧圆角矩形 7"/>
            <p:cNvSpPr/>
            <p:nvPr/>
          </p:nvSpPr>
          <p:spPr>
            <a:xfrm>
              <a:off x="466560" y="1268280"/>
              <a:ext cx="20026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同侧圆角矩形 9"/>
          <p:cNvSpPr/>
          <p:nvPr/>
        </p:nvSpPr>
        <p:spPr>
          <a:xfrm>
            <a:off x="444600" y="1255680"/>
            <a:ext cx="2001600" cy="5158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32520" y="905040"/>
            <a:ext cx="2521080" cy="1761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819000" y="206064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835280" y="2070000"/>
            <a:ext cx="65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908000" y="19717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2d050"/>
                </a:solidFill>
                <a:latin typeface="黑体"/>
                <a:ea typeface="黑体"/>
              </a:rPr>
              <a:t>会认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6661080" y="3352680"/>
            <a:ext cx="2241720" cy="2362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558720" y="33926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147760" y="33926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616200" y="339264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35400" y="33926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237960" y="4654440"/>
            <a:ext cx="22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q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774800" y="4654440"/>
            <a:ext cx="22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tí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421080" y="46418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g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075280" y="4616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zh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033560" y="279072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38cd5"/>
                </a:solidFill>
                <a:latin typeface="黑体"/>
                <a:ea typeface="黑体"/>
              </a:rPr>
              <a:t>虫字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010040" y="279072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38cd5"/>
                </a:solidFill>
                <a:latin typeface="黑体"/>
                <a:ea typeface="黑体"/>
              </a:rPr>
              <a:t>口字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八角星 18"/>
          <p:cNvSpPr/>
          <p:nvPr/>
        </p:nvSpPr>
        <p:spPr>
          <a:xfrm>
            <a:off x="4800600" y="3321000"/>
            <a:ext cx="1440000" cy="1224000"/>
          </a:xfrm>
          <a:custGeom>
            <a:avLst/>
            <a:gdLst>
              <a:gd name="textAreaLeft" fmla="*/ 330480 w 1440000"/>
              <a:gd name="textAreaRight" fmla="*/ 1109520 w 144000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八角星 17"/>
          <p:cNvSpPr/>
          <p:nvPr/>
        </p:nvSpPr>
        <p:spPr>
          <a:xfrm>
            <a:off x="3305160" y="3321000"/>
            <a:ext cx="1440000" cy="1224000"/>
          </a:xfrm>
          <a:custGeom>
            <a:avLst/>
            <a:gdLst>
              <a:gd name="textAreaLeft" fmla="*/ 330480 w 1440000"/>
              <a:gd name="textAreaRight" fmla="*/ 1109520 w 144000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八角星 14"/>
          <p:cNvSpPr/>
          <p:nvPr/>
        </p:nvSpPr>
        <p:spPr>
          <a:xfrm>
            <a:off x="1819440" y="3321000"/>
            <a:ext cx="1439640" cy="1224000"/>
          </a:xfrm>
          <a:custGeom>
            <a:avLst/>
            <a:gdLst>
              <a:gd name="textAreaLeft" fmla="*/ 330480 w 1439640"/>
              <a:gd name="textAreaRight" fmla="*/ 1109160 w 143964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八角星 1"/>
          <p:cNvSpPr/>
          <p:nvPr/>
        </p:nvSpPr>
        <p:spPr>
          <a:xfrm>
            <a:off x="395280" y="3321000"/>
            <a:ext cx="1440000" cy="1224000"/>
          </a:xfrm>
          <a:custGeom>
            <a:avLst/>
            <a:gdLst>
              <a:gd name="textAreaLeft" fmla="*/ 330480 w 1440000"/>
              <a:gd name="textAreaRight" fmla="*/ 1109520 w 144000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"/>
          <p:cNvGrpSpPr/>
          <p:nvPr/>
        </p:nvGrpSpPr>
        <p:grpSpPr>
          <a:xfrm>
            <a:off x="466560" y="1268280"/>
            <a:ext cx="2073600" cy="661680"/>
            <a:chOff x="466560" y="1268280"/>
            <a:chExt cx="2073600" cy="661680"/>
          </a:xfrm>
        </p:grpSpPr>
        <p:grpSp>
          <p:nvGrpSpPr>
            <p:cNvPr id="146" name=""/>
            <p:cNvGrpSpPr/>
            <p:nvPr/>
          </p:nvGrpSpPr>
          <p:grpSpPr>
            <a:xfrm>
              <a:off x="466560" y="1924560"/>
              <a:ext cx="2073600" cy="5400"/>
              <a:chOff x="466560" y="1924560"/>
              <a:chExt cx="2073600" cy="5400"/>
            </a:xfrm>
          </p:grpSpPr>
          <p:sp>
            <p:nvSpPr>
              <p:cNvPr id="147" name="直线连接符 21"/>
              <p:cNvSpPr/>
              <p:nvPr/>
            </p:nvSpPr>
            <p:spPr>
              <a:xfrm flipV="1">
                <a:off x="466560" y="1924560"/>
                <a:ext cx="2073600" cy="540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 rot="10800000">
                <a:off x="466560" y="1924560"/>
                <a:ext cx="2073600" cy="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同侧圆角矩形 7"/>
            <p:cNvSpPr/>
            <p:nvPr/>
          </p:nvSpPr>
          <p:spPr>
            <a:xfrm>
              <a:off x="466560" y="1268280"/>
              <a:ext cx="20026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同侧圆角矩形 9"/>
          <p:cNvSpPr/>
          <p:nvPr/>
        </p:nvSpPr>
        <p:spPr>
          <a:xfrm>
            <a:off x="444600" y="1255680"/>
            <a:ext cx="2001600" cy="5158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32520" y="976320"/>
            <a:ext cx="2521080" cy="17622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819000" y="206064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835280" y="2070000"/>
            <a:ext cx="65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908000" y="19717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2d050"/>
                </a:solidFill>
                <a:latin typeface="黑体"/>
                <a:ea typeface="黑体"/>
              </a:rPr>
              <a:t>会写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58720" y="33926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147760" y="33926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616200" y="339264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135400" y="33926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37960" y="4654440"/>
            <a:ext cx="22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ch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774800" y="4654440"/>
            <a:ext cx="22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hà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421080" y="46418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qí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075280" y="4616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h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八角星 24"/>
          <p:cNvSpPr/>
          <p:nvPr/>
        </p:nvSpPr>
        <p:spPr>
          <a:xfrm>
            <a:off x="6407280" y="3321000"/>
            <a:ext cx="1439640" cy="1224000"/>
          </a:xfrm>
          <a:custGeom>
            <a:avLst/>
            <a:gdLst>
              <a:gd name="textAreaLeft" fmla="*/ 330480 w 1439640"/>
              <a:gd name="textAreaRight" fmla="*/ 1109160 w 1439640"/>
              <a:gd name="textAreaTop" fmla="*/ 280800 h 1224000"/>
              <a:gd name="textAreaBottom" fmla="*/ 943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743880" y="339264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黑体"/>
                <a:ea typeface="黑体"/>
              </a:rPr>
              <a:t>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6603840" y="4616280"/>
            <a:ext cx="22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6c09"/>
                </a:solidFill>
                <a:latin typeface="黑体"/>
                <a:ea typeface="黑体"/>
              </a:rPr>
              <a:t>jì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584520" y="339552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1859b"/>
                </a:solidFill>
                <a:latin typeface="黑体"/>
                <a:ea typeface="黑体"/>
              </a:rPr>
              <a:t>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774880" y="26240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1859b"/>
                </a:solidFill>
                <a:latin typeface="黑体"/>
                <a:ea typeface="黑体"/>
              </a:rPr>
              <a:t>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619440" y="250524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1859b"/>
                </a:solidFill>
                <a:latin typeface="黑体"/>
                <a:ea typeface="黑体"/>
              </a:rPr>
              <a:t>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4465800" y="260676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1859b"/>
                </a:solidFill>
                <a:latin typeface="黑体"/>
                <a:ea typeface="黑体"/>
              </a:rPr>
              <a:t>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" descr=""/>
          <p:cNvPicPr/>
          <p:nvPr/>
        </p:nvPicPr>
        <p:blipFill>
          <a:blip r:embed="rId1"/>
          <a:stretch/>
        </p:blipFill>
        <p:spPr>
          <a:xfrm>
            <a:off x="444600" y="765000"/>
            <a:ext cx="8448480" cy="55342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5"/>
          <p:cNvGrpSpPr/>
          <p:nvPr/>
        </p:nvGrpSpPr>
        <p:grpSpPr>
          <a:xfrm>
            <a:off x="466560" y="1268280"/>
            <a:ext cx="2073600" cy="661680"/>
            <a:chOff x="466560" y="1268280"/>
            <a:chExt cx="2073600" cy="661680"/>
          </a:xfrm>
        </p:grpSpPr>
        <p:grpSp>
          <p:nvGrpSpPr>
            <p:cNvPr id="173" name=""/>
            <p:cNvGrpSpPr/>
            <p:nvPr/>
          </p:nvGrpSpPr>
          <p:grpSpPr>
            <a:xfrm>
              <a:off x="466560" y="1924560"/>
              <a:ext cx="2073600" cy="5400"/>
              <a:chOff x="466560" y="1924560"/>
              <a:chExt cx="2073600" cy="5400"/>
            </a:xfrm>
          </p:grpSpPr>
          <p:sp>
            <p:nvSpPr>
              <p:cNvPr id="174" name="直线连接符 21"/>
              <p:cNvSpPr/>
              <p:nvPr/>
            </p:nvSpPr>
            <p:spPr>
              <a:xfrm flipV="1">
                <a:off x="466560" y="1924560"/>
                <a:ext cx="2073600" cy="540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 rot="10800000">
                <a:off x="466560" y="1924560"/>
                <a:ext cx="2073600" cy="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同侧圆角矩形 7"/>
            <p:cNvSpPr/>
            <p:nvPr/>
          </p:nvSpPr>
          <p:spPr>
            <a:xfrm>
              <a:off x="466560" y="1268280"/>
              <a:ext cx="20026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同侧圆角矩形 9"/>
          <p:cNvSpPr/>
          <p:nvPr/>
        </p:nvSpPr>
        <p:spPr>
          <a:xfrm>
            <a:off x="444600" y="1255680"/>
            <a:ext cx="2001600" cy="5158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080040" y="1073160"/>
            <a:ext cx="2521080" cy="1762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3"/>
          <p:cNvSpPr/>
          <p:nvPr/>
        </p:nvSpPr>
        <p:spPr>
          <a:xfrm>
            <a:off x="1835280" y="2070000"/>
            <a:ext cx="65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460680" y="10764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2d050"/>
                </a:solidFill>
                <a:latin typeface="黑体"/>
                <a:ea typeface="黑体"/>
              </a:rPr>
              <a:t>形声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919160" y="1990800"/>
            <a:ext cx="5478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859b"/>
                </a:solidFill>
                <a:latin typeface="黑体"/>
                <a:ea typeface="黑体"/>
              </a:rPr>
              <a:t>形声字有规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859b"/>
                </a:solidFill>
                <a:latin typeface="黑体"/>
                <a:ea typeface="黑体"/>
              </a:rPr>
              <a:t>掌握特点辨仔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859b"/>
                </a:solidFill>
                <a:latin typeface="黑体"/>
                <a:ea typeface="黑体"/>
              </a:rPr>
              <a:t>声旁用来标读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859b"/>
                </a:solidFill>
                <a:latin typeface="黑体"/>
                <a:ea typeface="黑体"/>
              </a:rPr>
              <a:t>形旁大多表字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01:40:15Z</dcterms:created>
  <dc:creator>Administrator</dc:creator>
  <dc:description/>
  <dc:language>en-US</dc:language>
  <cp:lastModifiedBy/>
  <dcterms:modified xsi:type="dcterms:W3CDTF">2016-03-29T06:17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