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63D6-D6DC-4E7B-BEE6-B0727A6D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8155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1360" y="4024080"/>
            <a:ext cx="8155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1BC-B923-4F3E-8461-9F99B169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136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024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59BE-4CF9-422F-808A-B043C726F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8960" y="139032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560" y="139032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1360" y="402408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8960" y="402408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560" y="402408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09F6-C968-4CA5-8C94-EDEF9EAA3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F7F9-C454-4D75-8E1F-34FF7FB3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1360" y="1390320"/>
            <a:ext cx="815508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7A84F-BCAA-4704-8F6E-672DFBAA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8155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F19A2-8001-4F3B-921F-7497E92DA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DE9E-C87F-4E41-B1D0-C6AE156CE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462D-126A-4294-B800-9F035A4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1720" y="438120"/>
            <a:ext cx="80805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C01B-395C-4FA3-9E93-957BEF56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136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C197-D2B1-4B84-B494-EB771EF02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1360" y="1390320"/>
            <a:ext cx="815508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6D4-51F2-4CF3-97AC-635EAA7EB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024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D685-2191-4D40-80BC-2F3E27F8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1360" y="4024080"/>
            <a:ext cx="8155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9C48-CC80-4270-B9DF-68F0B6EF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8155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1360" y="4024080"/>
            <a:ext cx="8155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115C-B305-4F3D-A713-CC2C386B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136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024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B980-965E-43BC-A03C-958CC19F9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8960" y="139032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6560" y="139032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1360" y="402408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8960" y="402408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6560" y="402408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E0A5-2B44-4343-858D-9507214FE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5EAAC-19CF-44D7-992B-6A82A7F50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1360" y="1390320"/>
            <a:ext cx="815508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48C19-A761-44EF-BE3B-7B52931F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8155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76AC-9668-4F95-BB52-EB6D3B74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F9059-969B-425E-B28A-CD4B05F0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BE3E2-6F3F-475C-802E-3D2E0F41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8155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205C-6280-4566-9694-89FAC386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1720" y="438120"/>
            <a:ext cx="80805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38A18-98CA-4614-982B-CCE65180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136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D1CFA-B439-40A8-84CE-5A36EF19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024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06CC2-D663-4460-B72C-5C84F6DB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1360" y="4024080"/>
            <a:ext cx="8155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C906-47B0-4E9D-A728-CA779173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8155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1360" y="4024080"/>
            <a:ext cx="8155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8FAA3-E071-47BA-8402-FAA1F486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136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024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E0E3-D427-4216-A14D-EF03F2D70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8960" y="139032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6560" y="139032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1360" y="402408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8960" y="402408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6560" y="4024080"/>
            <a:ext cx="26258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9E4F7-9875-4B2D-97A0-C2EDAD232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8AB-1747-4B4F-8D34-9C082D17A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1D5-B029-4399-A01D-D3E705B48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1720" y="438120"/>
            <a:ext cx="808056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3203-221F-4FCA-8064-6ADD0B1C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136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0D275-0AE8-43C0-81E6-77EAFA88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0240" y="402408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376E-F607-4525-8EB7-0BD4FE312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136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0240" y="1390320"/>
            <a:ext cx="397944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1360" y="4024080"/>
            <a:ext cx="8155080" cy="24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4DCB-445B-4F6A-81F1-213ECDC55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AEBA-9011-47AA-B355-036107330CE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F9D1-8FED-4D9C-9DD7-1875E2F207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4B2A-EC31-49DC-87B7-C8C48C2E53EF}" type="datetime">
              <a:rPr b="0" lang="zh-CN" sz="1200" spc="-1" strike="noStrike">
                <a:solidFill>
                  <a:srgbClr val="a6a6a6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AF4B-A3A4-4312-B878-7D84935349F0}" type="slidenum">
              <a:rPr b="0" lang="zh-CN" sz="1200" spc="-1" strike="noStrike">
                <a:solidFill>
                  <a:srgbClr val="a6a6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531360" y="1390320"/>
            <a:ext cx="8155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3d3f4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3d3f4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06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1720" y="438120"/>
            <a:ext cx="808056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06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06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1360" y="1390320"/>
            <a:ext cx="815508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3d3f4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3d3f4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76a4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76a4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3060-925B-43E2-BB81-D3D92CF973AB}" type="datetime">
              <a:rPr b="0" lang="zh-CN" sz="1200" spc="-1" strike="noStrike">
                <a:solidFill>
                  <a:srgbClr val="a6a6a6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a6a6a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B89C-A5C3-4863-BF60-27A175D033F6}" type="slidenum">
              <a:rPr b="0" lang="zh-CN" sz="1200" spc="-1" strike="noStrike">
                <a:solidFill>
                  <a:srgbClr val="a6a6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文本框 5121"/>
          <p:cNvSpPr/>
          <p:nvPr/>
        </p:nvSpPr>
        <p:spPr>
          <a:xfrm>
            <a:off x="735120" y="1874880"/>
            <a:ext cx="761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d3f41"/>
                </a:solidFill>
                <a:latin typeface="楷体_GB2312"/>
                <a:ea typeface="楷体_GB2312"/>
              </a:rPr>
              <a:t>日月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文本框 15361"/>
          <p:cNvSpPr/>
          <p:nvPr/>
        </p:nvSpPr>
        <p:spPr>
          <a:xfrm>
            <a:off x="495360" y="3336840"/>
            <a:ext cx="82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晨，湖面上飘着薄薄的雾。天边的晨星 和山上的点点灯光，隐隐约约地 倒映在湖水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15362"/>
          <p:cNvSpPr/>
          <p:nvPr/>
        </p:nvSpPr>
        <p:spPr>
          <a:xfrm>
            <a:off x="282600" y="825480"/>
            <a:ext cx="84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晨，湖面上飘着雾。天边的晨星 和山上的灯光，倒映在湖水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文本框 16385"/>
          <p:cNvSpPr/>
          <p:nvPr/>
        </p:nvSpPr>
        <p:spPr>
          <a:xfrm>
            <a:off x="538200" y="260280"/>
            <a:ext cx="8238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晨，湖面上飘着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薄薄的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雾。天边的晨星  和山上的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点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灯光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隐隐约约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  倒映在湖水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图片 16386" descr="20110403015703_0"/>
          <p:cNvPicPr/>
          <p:nvPr/>
        </p:nvPicPr>
        <p:blipFill>
          <a:blip r:embed="rId1"/>
          <a:stretch/>
        </p:blipFill>
        <p:spPr>
          <a:xfrm>
            <a:off x="1036800" y="2181240"/>
            <a:ext cx="8107200" cy="46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50" name="动作按钮: 上一张 16387"/>
          <p:cNvSpPr/>
          <p:nvPr/>
        </p:nvSpPr>
        <p:spPr>
          <a:xfrm>
            <a:off x="299880" y="6010200"/>
            <a:ext cx="567000" cy="631800"/>
          </a:xfrm>
          <a:custGeom>
            <a:avLst/>
            <a:gdLst>
              <a:gd name="textAreaLeft" fmla="*/ 36720 w 567000"/>
              <a:gd name="textAreaRight" fmla="*/ 530280 w 567000"/>
              <a:gd name="textAreaTop" fmla="*/ 36720 h 631800"/>
              <a:gd name="textAreaBottom" fmla="*/ 595080 h 631800"/>
            </a:gdLst>
            <a:ahLst/>
            <a:rect l="textAreaLeft" t="textAreaTop" r="textAreaRight" b="textAreaBottom"/>
            <a:pathLst>
              <a:path w="21600" h="24067">
                <a:moveTo>
                  <a:pt x="0" y="0"/>
                </a:moveTo>
                <a:lnTo>
                  <a:pt x="21600" y="0"/>
                </a:lnTo>
                <a:lnTo>
                  <a:pt x="21600" y="24067"/>
                </a:lnTo>
                <a:lnTo>
                  <a:pt x="0" y="24067"/>
                </a:lnTo>
                <a:close/>
              </a:path>
              <a:path fill="lightenLess" w="21600" h="240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67">
                <a:moveTo>
                  <a:pt x="21600" y="0"/>
                </a:moveTo>
                <a:lnTo>
                  <a:pt x="21600" y="24067"/>
                </a:lnTo>
                <a:lnTo>
                  <a:pt x="20200" y="22667"/>
                </a:lnTo>
                <a:lnTo>
                  <a:pt x="20200" y="1400"/>
                </a:lnTo>
                <a:close/>
              </a:path>
              <a:path fill="darkenLess" w="21600" h="24067">
                <a:moveTo>
                  <a:pt x="21600" y="24067"/>
                </a:moveTo>
                <a:lnTo>
                  <a:pt x="0" y="24067"/>
                </a:lnTo>
                <a:lnTo>
                  <a:pt x="1400" y="22667"/>
                </a:lnTo>
                <a:lnTo>
                  <a:pt x="20200" y="22667"/>
                </a:lnTo>
                <a:close/>
              </a:path>
              <a:path fill="lighten" w="21600" h="24067">
                <a:moveTo>
                  <a:pt x="0" y="240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67"/>
                </a:lnTo>
                <a:close/>
              </a:path>
              <a:path fill="darken" w="21600" h="24067">
                <a:moveTo>
                  <a:pt x="3794" y="8726"/>
                </a:moveTo>
                <a:lnTo>
                  <a:pt x="7301" y="8726"/>
                </a:lnTo>
                <a:lnTo>
                  <a:pt x="7301" y="14061"/>
                </a:lnTo>
                <a:cubicBezTo>
                  <a:pt x="7301" y="14984"/>
                  <a:pt x="8102" y="15715"/>
                  <a:pt x="9138" y="15715"/>
                </a:cubicBezTo>
                <a:lnTo>
                  <a:pt x="10800" y="15715"/>
                </a:lnTo>
                <a:cubicBezTo>
                  <a:pt x="11836" y="15715"/>
                  <a:pt x="12636" y="14984"/>
                  <a:pt x="12636" y="14061"/>
                </a:cubicBezTo>
                <a:lnTo>
                  <a:pt x="12636" y="8726"/>
                </a:lnTo>
                <a:lnTo>
                  <a:pt x="10800" y="8726"/>
                </a:lnTo>
                <a:lnTo>
                  <a:pt x="14308" y="5219"/>
                </a:lnTo>
                <a:lnTo>
                  <a:pt x="17981" y="8726"/>
                </a:lnTo>
                <a:lnTo>
                  <a:pt x="16144" y="8726"/>
                </a:lnTo>
                <a:lnTo>
                  <a:pt x="16144" y="14061"/>
                </a:lnTo>
                <a:cubicBezTo>
                  <a:pt x="16144" y="16829"/>
                  <a:pt x="13568" y="19388"/>
                  <a:pt x="10800" y="19388"/>
                </a:cubicBezTo>
                <a:lnTo>
                  <a:pt x="9138" y="19388"/>
                </a:lnTo>
                <a:cubicBezTo>
                  <a:pt x="6370" y="19388"/>
                  <a:pt x="3794" y="16829"/>
                  <a:pt x="3794" y="14061"/>
                </a:cubicBezTo>
                <a:close/>
              </a:path>
            </a:pathLst>
          </a:custGeom>
          <a:solidFill>
            <a:srgbClr val="646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7409"/>
          <p:cNvSpPr/>
          <p:nvPr/>
        </p:nvSpPr>
        <p:spPr>
          <a:xfrm>
            <a:off x="476280" y="1596960"/>
            <a:ext cx="849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午，太阳高照，整个日月潭的美景和周围的建筑，都清晰地展现在眼前。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是下起蒙蒙细雨，日月潭仿佛披上轻纱，周围的景物一片朦胧，就像童话中的仙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文本框 18433"/>
          <p:cNvSpPr/>
          <p:nvPr/>
        </p:nvSpPr>
        <p:spPr>
          <a:xfrm>
            <a:off x="412920" y="587520"/>
            <a:ext cx="823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图片 18434" descr="2556637213480430995"/>
          <p:cNvPicPr/>
          <p:nvPr/>
        </p:nvPicPr>
        <p:blipFill>
          <a:blip r:embed="rId1"/>
          <a:stretch/>
        </p:blipFill>
        <p:spPr>
          <a:xfrm>
            <a:off x="-41400" y="12600"/>
            <a:ext cx="5249880" cy="35006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8435" descr="20120627174150_r4z3d"/>
          <p:cNvPicPr/>
          <p:nvPr/>
        </p:nvPicPr>
        <p:blipFill>
          <a:blip r:embed="rId2"/>
          <a:stretch/>
        </p:blipFill>
        <p:spPr>
          <a:xfrm>
            <a:off x="3348000" y="3513240"/>
            <a:ext cx="574344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文本框 19457"/>
          <p:cNvSpPr/>
          <p:nvPr/>
        </p:nvSpPr>
        <p:spPr>
          <a:xfrm>
            <a:off x="476280" y="1596960"/>
            <a:ext cx="849960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中午，太阳高照，整个日月潭的美景  和周围的建筑，都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晰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地  展现在眼前。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是下起  蒙蒙细雨，日月潭仿佛  披上轻纱，周围的景物 一片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朦胧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就像  童话中的仙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动作按钮: 上一张 19458"/>
          <p:cNvSpPr/>
          <p:nvPr/>
        </p:nvSpPr>
        <p:spPr>
          <a:xfrm>
            <a:off x="8291520" y="6175440"/>
            <a:ext cx="684360" cy="611280"/>
          </a:xfrm>
          <a:custGeom>
            <a:avLst/>
            <a:gdLst>
              <a:gd name="textAreaLeft" fmla="*/ 39600 w 684360"/>
              <a:gd name="textAreaRight" fmla="*/ 644760 w 684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4181" h="21600">
                <a:moveTo>
                  <a:pt x="0" y="0"/>
                </a:moveTo>
                <a:lnTo>
                  <a:pt x="24181" y="0"/>
                </a:lnTo>
                <a:lnTo>
                  <a:pt x="24181" y="21600"/>
                </a:lnTo>
                <a:lnTo>
                  <a:pt x="0" y="21600"/>
                </a:lnTo>
                <a:close/>
              </a:path>
              <a:path fill="lightenLess" w="24181" h="21600">
                <a:moveTo>
                  <a:pt x="0" y="0"/>
                </a:moveTo>
                <a:lnTo>
                  <a:pt x="24181" y="0"/>
                </a:lnTo>
                <a:lnTo>
                  <a:pt x="22781" y="1400"/>
                </a:lnTo>
                <a:lnTo>
                  <a:pt x="1400" y="1400"/>
                </a:lnTo>
                <a:close/>
              </a:path>
              <a:path fill="darken" w="24181" h="21600">
                <a:moveTo>
                  <a:pt x="24181" y="0"/>
                </a:moveTo>
                <a:lnTo>
                  <a:pt x="24181" y="21600"/>
                </a:lnTo>
                <a:lnTo>
                  <a:pt x="22781" y="20200"/>
                </a:lnTo>
                <a:lnTo>
                  <a:pt x="22781" y="1400"/>
                </a:lnTo>
                <a:close/>
              </a:path>
              <a:path fill="darkenLess" w="24181" h="21600">
                <a:moveTo>
                  <a:pt x="24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81" y="20200"/>
                </a:lnTo>
                <a:close/>
              </a:path>
              <a:path fill="lighten" w="24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81" h="21600">
                <a:moveTo>
                  <a:pt x="5084" y="7493"/>
                </a:moveTo>
                <a:lnTo>
                  <a:pt x="8592" y="7493"/>
                </a:lnTo>
                <a:lnTo>
                  <a:pt x="8592" y="12828"/>
                </a:lnTo>
                <a:cubicBezTo>
                  <a:pt x="8592" y="13751"/>
                  <a:pt x="9392" y="14482"/>
                  <a:pt x="10428" y="14482"/>
                </a:cubicBezTo>
                <a:lnTo>
                  <a:pt x="12090" y="14482"/>
                </a:lnTo>
                <a:cubicBezTo>
                  <a:pt x="13126" y="14482"/>
                  <a:pt x="13927" y="13751"/>
                  <a:pt x="13927" y="12828"/>
                </a:cubicBezTo>
                <a:lnTo>
                  <a:pt x="13927" y="7493"/>
                </a:lnTo>
                <a:lnTo>
                  <a:pt x="12090" y="7493"/>
                </a:lnTo>
                <a:lnTo>
                  <a:pt x="15598" y="3985"/>
                </a:lnTo>
                <a:lnTo>
                  <a:pt x="19271" y="7493"/>
                </a:lnTo>
                <a:lnTo>
                  <a:pt x="17434" y="7493"/>
                </a:lnTo>
                <a:lnTo>
                  <a:pt x="17434" y="12828"/>
                </a:lnTo>
                <a:cubicBezTo>
                  <a:pt x="17434" y="15596"/>
                  <a:pt x="14858" y="18155"/>
                  <a:pt x="12090" y="18155"/>
                </a:cubicBezTo>
                <a:lnTo>
                  <a:pt x="10428" y="18155"/>
                </a:lnTo>
                <a:cubicBezTo>
                  <a:pt x="7660" y="18155"/>
                  <a:pt x="5084" y="15596"/>
                  <a:pt x="5084" y="12828"/>
                </a:cubicBezTo>
                <a:close/>
              </a:path>
            </a:pathLst>
          </a:custGeom>
          <a:solidFill>
            <a:srgbClr val="646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20481"/>
          <p:cNvSpPr/>
          <p:nvPr/>
        </p:nvSpPr>
        <p:spPr>
          <a:xfrm>
            <a:off x="781200" y="1469880"/>
            <a:ext cx="8238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晨，天刚蒙蒙亮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湖面上飘着薄薄的雾。天边的晨星 和山上的点点灯光，隐隐约约地 倒映在湖水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午，太阳高照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整个日月潭的美景 和周围的建筑，都清晰地 展现在眼前。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是下起了蒙蒙细雨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月潭仿佛披上轻纱，周围的景物一片朦胧，就像童话中的仙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安妮的仙境.mp3" descr="安妮的仙境"/>
          <p:cNvPicPr/>
          <p:nvPr/>
        </p:nvPicPr>
        <p:blipFill>
          <a:blip r:embed="rId1"/>
          <a:stretch/>
        </p:blipFill>
        <p:spPr>
          <a:xfrm>
            <a:off x="471600" y="598176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206827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图片 21505" descr="2010091714302284"/>
          <p:cNvPicPr/>
          <p:nvPr/>
        </p:nvPicPr>
        <p:blipFill>
          <a:blip r:embed="rId1"/>
          <a:stretch/>
        </p:blipFill>
        <p:spPr>
          <a:xfrm>
            <a:off x="-36360" y="9360"/>
            <a:ext cx="9205920" cy="683100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1506"/>
          <p:cNvSpPr/>
          <p:nvPr/>
        </p:nvSpPr>
        <p:spPr>
          <a:xfrm>
            <a:off x="582480" y="930240"/>
            <a:ext cx="3516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湖面上飘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薄薄的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边的晨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山上的点点灯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隐隐约约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倒映在湖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1507"/>
          <p:cNvSpPr/>
          <p:nvPr/>
        </p:nvSpPr>
        <p:spPr>
          <a:xfrm>
            <a:off x="4519440" y="861840"/>
            <a:ext cx="4492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太阳高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整个日月潭的美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周围的建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都清晰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展现在眼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是下起了蒙蒙细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月潭仿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披上轻纱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周围的景物一片朦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像童话中的仙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安妮的仙境.mp3" descr="安妮的仙境"/>
          <p:cNvPicPr/>
          <p:nvPr/>
        </p:nvPicPr>
        <p:blipFill>
          <a:blip r:embed="rId2"/>
          <a:stretch/>
        </p:blipFill>
        <p:spPr>
          <a:xfrm>
            <a:off x="-36360" y="6060960"/>
            <a:ext cx="6188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06827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26625" descr="2010091714302284"/>
          <p:cNvPicPr/>
          <p:nvPr/>
        </p:nvPicPr>
        <p:blipFill>
          <a:blip r:embed="rId1"/>
          <a:stretch/>
        </p:blipFill>
        <p:spPr>
          <a:xfrm>
            <a:off x="-36360" y="9360"/>
            <a:ext cx="9205920" cy="68310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26626"/>
          <p:cNvSpPr/>
          <p:nvPr/>
        </p:nvSpPr>
        <p:spPr>
          <a:xfrm>
            <a:off x="285840" y="1106640"/>
            <a:ext cx="4417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清晨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湖面上飘着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边的晨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山上的（    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倒映在湖水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26627"/>
          <p:cNvSpPr/>
          <p:nvPr/>
        </p:nvSpPr>
        <p:spPr>
          <a:xfrm>
            <a:off x="4495680" y="1095480"/>
            <a:ext cx="4546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中午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     ）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整个日月潭的美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周围的建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都（     ）展现在眼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是下起了（    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日月潭仿佛（    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周围的景物一片（    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就像（      ）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28673" descr="W020120727609213931190"/>
          <p:cNvPicPr/>
          <p:nvPr/>
        </p:nvPicPr>
        <p:blipFill>
          <a:blip r:embed="rId1"/>
          <a:stretch/>
        </p:blipFill>
        <p:spPr>
          <a:xfrm>
            <a:off x="3240" y="9360"/>
            <a:ext cx="4430520" cy="31957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28674" descr="W020120528410614973610"/>
          <p:cNvPicPr/>
          <p:nvPr/>
        </p:nvPicPr>
        <p:blipFill>
          <a:blip r:embed="rId2"/>
          <a:stretch/>
        </p:blipFill>
        <p:spPr>
          <a:xfrm>
            <a:off x="4511520" y="3411360"/>
            <a:ext cx="4719960" cy="340236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28675" descr="526e2c58c671a"/>
          <p:cNvPicPr/>
          <p:nvPr/>
        </p:nvPicPr>
        <p:blipFill>
          <a:blip r:embed="rId3"/>
          <a:stretch/>
        </p:blipFill>
        <p:spPr>
          <a:xfrm>
            <a:off x="4680" y="3411360"/>
            <a:ext cx="4430880" cy="340236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28676" descr="LOCAL201307111450000207188054797"/>
          <p:cNvPicPr/>
          <p:nvPr/>
        </p:nvPicPr>
        <p:blipFill>
          <a:blip r:embed="rId4"/>
          <a:stretch/>
        </p:blipFill>
        <p:spPr>
          <a:xfrm>
            <a:off x="4560840" y="-1440"/>
            <a:ext cx="4567320" cy="32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" dur="indefinite" nodeType="after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dur="indefinite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9000"/>
                            </p:stCondLst>
                            <p:childTnLst>
                              <p:par>
                                <p:cTn id="108" dur="indefinite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图片 29697" descr="20131030034503_14284"/>
          <p:cNvPicPr/>
          <p:nvPr/>
        </p:nvPicPr>
        <p:blipFill>
          <a:blip r:embed="rId1"/>
          <a:stretch/>
        </p:blipFill>
        <p:spPr>
          <a:xfrm>
            <a:off x="7920" y="-3240"/>
            <a:ext cx="4427640" cy="319572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9698" descr="1215137242991_1215137242991_r"/>
          <p:cNvPicPr/>
          <p:nvPr/>
        </p:nvPicPr>
        <p:blipFill>
          <a:blip r:embed="rId2"/>
          <a:stretch/>
        </p:blipFill>
        <p:spPr>
          <a:xfrm>
            <a:off x="9360" y="3378240"/>
            <a:ext cx="4427640" cy="337500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29699" descr="095346a4266c2wrz62v4za"/>
          <p:cNvPicPr/>
          <p:nvPr/>
        </p:nvPicPr>
        <p:blipFill>
          <a:blip r:embed="rId3"/>
          <a:stretch/>
        </p:blipFill>
        <p:spPr>
          <a:xfrm>
            <a:off x="4508640" y="3378240"/>
            <a:ext cx="4622760" cy="337500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29700" descr="095229uh84ufgkkuummx8l"/>
          <p:cNvPicPr/>
          <p:nvPr/>
        </p:nvPicPr>
        <p:blipFill>
          <a:blip r:embed="rId4"/>
          <a:stretch/>
        </p:blipFill>
        <p:spPr>
          <a:xfrm>
            <a:off x="4508640" y="-3240"/>
            <a:ext cx="4539960" cy="319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dur="indefinite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3" dur="indefinite" nodeType="afterEffect" fill="hold" presetClass="entr" presetID="6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5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27" dur="indefinite" nodeType="afterEffect" fill="hold" presetClass="entr" presetID="2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27649"/>
          <p:cNvSpPr/>
          <p:nvPr/>
        </p:nvSpPr>
        <p:spPr>
          <a:xfrm>
            <a:off x="638280" y="407880"/>
            <a:ext cx="475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活动一：预习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27660"/>
          <p:cNvSpPr/>
          <p:nvPr/>
        </p:nvSpPr>
        <p:spPr>
          <a:xfrm>
            <a:off x="942840" y="2195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27661"/>
          <p:cNvSpPr/>
          <p:nvPr/>
        </p:nvSpPr>
        <p:spPr>
          <a:xfrm>
            <a:off x="1127160" y="1359000"/>
            <a:ext cx="7267680" cy="41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仙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境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朦胧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    建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清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晰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仿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群山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环绕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隐隐约约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湖水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碧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    树木</a:t>
            </a:r>
            <a:r>
              <a:rPr b="1" lang="zh-CN" sz="4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茂盛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文本框 22529"/>
          <p:cNvSpPr/>
          <p:nvPr/>
        </p:nvSpPr>
        <p:spPr>
          <a:xfrm>
            <a:off x="714240" y="355680"/>
            <a:ext cx="549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活动四：拓展阅读《阿里山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2530"/>
          <p:cNvSpPr/>
          <p:nvPr/>
        </p:nvSpPr>
        <p:spPr>
          <a:xfrm>
            <a:off x="758880" y="2006640"/>
            <a:ext cx="749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朗读方法：借助图片，发挥想象，读出感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句子对比，抓关键词，突出重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景色对比，读出高低、快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2531"/>
          <p:cNvSpPr/>
          <p:nvPr/>
        </p:nvSpPr>
        <p:spPr>
          <a:xfrm>
            <a:off x="758880" y="428292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大家借助朗读方法自由阅读《阿里山》，选出你自己最喜欢的景色与大家一起分享，读出阿里山的美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25601"/>
          <p:cNvSpPr/>
          <p:nvPr/>
        </p:nvSpPr>
        <p:spPr>
          <a:xfrm>
            <a:off x="555480" y="787320"/>
            <a:ext cx="7917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在晴天的破晓时分，登阿里山观赏云海，是一件赏心乐事。只见云海茫茫，瞬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(shùn)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息万变。当曙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(shǔ)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光乍现，火红的朝阳轻巧地跃出山头，耀眼的光芒照亮了夜空，也为新的一天揭开了序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阿里山的晚霞更是别具风韵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(yùn)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。近处，树木参天，万籁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(lài)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俱寂；远处，夕阳西下，云蒸霞蔚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(wèi)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，一抹橘红色的霞光涂满了远山的脊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(jǐ)</a:t>
            </a:r>
            <a:r>
              <a:rPr b="1" lang="zh-CN" sz="2800" spc="-1" strike="noStrike">
                <a:solidFill>
                  <a:srgbClr val="0c0c0c"/>
                </a:solidFill>
                <a:latin typeface="楷体_GB2312"/>
                <a:ea typeface="楷体_GB2312"/>
              </a:rPr>
              <a:t>背。顷刻，霞光收起，万物都融入到这霞光万丈的林海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图片 7169" descr="image14"/>
          <p:cNvPicPr/>
          <p:nvPr/>
        </p:nvPicPr>
        <p:blipFill>
          <a:blip r:embed="rId1"/>
          <a:stretch/>
        </p:blipFill>
        <p:spPr>
          <a:xfrm>
            <a:off x="0" y="0"/>
            <a:ext cx="919656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8193"/>
          <p:cNvSpPr/>
          <p:nvPr/>
        </p:nvSpPr>
        <p:spPr>
          <a:xfrm>
            <a:off x="480960" y="1211760"/>
            <a:ext cx="8964720" cy="398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环   绕   茂   隐   筑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晰   朦   胧   境   展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碧   佛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5891040" y="395280"/>
          <a:ext cx="2997360" cy="2935440"/>
        </p:xfrm>
        <a:graphic>
          <a:graphicData uri="http://schemas.openxmlformats.org/drawingml/2006/table">
            <a:tbl>
              <a:tblPr/>
              <a:tblGrid>
                <a:gridCol w="1498680"/>
                <a:gridCol w="1498680"/>
              </a:tblGrid>
              <a:tr h="146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8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Box 6"/>
          <p:cNvSpPr/>
          <p:nvPr/>
        </p:nvSpPr>
        <p:spPr>
          <a:xfrm>
            <a:off x="6226200" y="246240"/>
            <a:ext cx="2403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0" spc="-1" strike="noStrike">
                <a:solidFill>
                  <a:srgbClr val="ff0000"/>
                </a:solidFill>
                <a:latin typeface="楷体"/>
                <a:ea typeface="楷体_GB2312"/>
              </a:rPr>
              <a:t>绕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9229"/>
          <p:cNvSpPr/>
          <p:nvPr/>
        </p:nvSpPr>
        <p:spPr>
          <a:xfrm>
            <a:off x="2707560" y="8175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9230"/>
          <p:cNvSpPr/>
          <p:nvPr/>
        </p:nvSpPr>
        <p:spPr>
          <a:xfrm>
            <a:off x="1494000" y="2874960"/>
            <a:ext cx="334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用线来缠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绕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用水把树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用火把饭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太阳报晨“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9232"/>
          <p:cNvSpPr/>
          <p:nvPr/>
        </p:nvSpPr>
        <p:spPr>
          <a:xfrm>
            <a:off x="6822000" y="36482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整体结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关键笔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文本框 10241"/>
          <p:cNvSpPr/>
          <p:nvPr/>
        </p:nvSpPr>
        <p:spPr>
          <a:xfrm>
            <a:off x="603360" y="374760"/>
            <a:ext cx="568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活动二：争做小导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0242"/>
          <p:cNvSpPr/>
          <p:nvPr/>
        </p:nvSpPr>
        <p:spPr>
          <a:xfrm>
            <a:off x="824040" y="2295360"/>
            <a:ext cx="76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请同学们认真读一读课文第一、二两个自然段，争做最佳小导游，让大家了解一下日月潭的位置和名字的由来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文本框 11265"/>
          <p:cNvSpPr/>
          <p:nvPr/>
        </p:nvSpPr>
        <p:spPr>
          <a:xfrm>
            <a:off x="576360" y="1160640"/>
            <a:ext cx="8480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4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454749"/>
                </a:solidFill>
                <a:latin typeface="楷体_GB2312"/>
                <a:ea typeface="楷体_GB2312"/>
              </a:rPr>
              <a:t>各位游客，大家好！我是今天的小导游（   姓名   ），欢迎大家到日月潭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4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月潭是我国（     ）省最大的一个湖。它在（   ）附近的高山上。那里（   ），（     ），周围有许多（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月潭很深，（    ）。湖中央有个美丽的小岛，叫（    ）。小岛把湖水分成两半，北边像（     ），叫日潭；南边像（      ），叫月潭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5474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454749"/>
                </a:solidFill>
                <a:latin typeface="楷体_GB2312"/>
                <a:ea typeface="楷体_GB2312"/>
              </a:rPr>
              <a:t>希望大家旅行快乐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1266"/>
          <p:cNvSpPr/>
          <p:nvPr/>
        </p:nvSpPr>
        <p:spPr>
          <a:xfrm>
            <a:off x="477720" y="79200"/>
            <a:ext cx="722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要求：吐字清晰，语速稍慢，注意停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2289" descr="image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矩形 12294"/>
          <p:cNvSpPr/>
          <p:nvPr/>
        </p:nvSpPr>
        <p:spPr>
          <a:xfrm>
            <a:off x="7915320" y="66600"/>
            <a:ext cx="912240" cy="483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d3f4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日月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2295"/>
          <p:cNvSpPr/>
          <p:nvPr/>
        </p:nvSpPr>
        <p:spPr>
          <a:xfrm>
            <a:off x="946080" y="5424480"/>
            <a:ext cx="8129520" cy="144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北边 像圆圆的太阳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叫日潭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87229"/>
                </a:solidFill>
                <a:latin typeface="楷体_GB2312"/>
                <a:ea typeface="楷体_GB2312"/>
              </a:rPr>
              <a:t>南边 像弯弯的月亮</a:t>
            </a:r>
            <a:r>
              <a:rPr b="1" lang="zh-CN" sz="4000" spc="-1" strike="noStrike">
                <a:solidFill>
                  <a:srgbClr val="087229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87229"/>
                </a:solidFill>
                <a:latin typeface="楷体_GB2312"/>
                <a:ea typeface="楷体_GB2312"/>
              </a:rPr>
              <a:t>叫月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14337"/>
          <p:cNvSpPr/>
          <p:nvPr/>
        </p:nvSpPr>
        <p:spPr>
          <a:xfrm>
            <a:off x="666720" y="415800"/>
            <a:ext cx="750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活动三：分组旅游，合作交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4338"/>
          <p:cNvSpPr/>
          <p:nvPr/>
        </p:nvSpPr>
        <p:spPr>
          <a:xfrm>
            <a:off x="2004840" y="1584360"/>
            <a:ext cx="5550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自己朗读课文三、四自然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画一画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你最喜欢的景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一读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出景色的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一说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说你为什么喜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小组内分享你的收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心形 88"/>
          <p:cNvSpPr/>
          <p:nvPr/>
        </p:nvSpPr>
        <p:spPr>
          <a:xfrm>
            <a:off x="3228840" y="5923080"/>
            <a:ext cx="655920" cy="581040"/>
          </a:xfrm>
          <a:custGeom>
            <a:avLst/>
            <a:gdLst/>
            <a:ahLst/>
            <a:rect l="l" t="t" r="r" b="b"/>
            <a:pathLst>
              <a:path w="1905000" h="1905000">
                <a:moveTo>
                  <a:pt x="952500" y="476250"/>
                </a:moveTo>
                <a:cubicBezTo>
                  <a:pt x="1349375" y="-635000"/>
                  <a:pt x="2897188" y="476250"/>
                  <a:pt x="952500" y="1905000"/>
                </a:cubicBezTo>
                <a:cubicBezTo>
                  <a:pt x="-992187" y="476250"/>
                  <a:pt x="555625" y="-635000"/>
                  <a:pt x="952500" y="476250"/>
                </a:cubicBezTo>
                <a:close/>
              </a:path>
            </a:pathLst>
          </a:custGeom>
          <a:solidFill>
            <a:srgbClr val="64606d"/>
          </a:solidFill>
          <a:ln w="9360">
            <a:solidFill>
              <a:srgbClr val="3d3f4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太阳形 14340"/>
          <p:cNvSpPr/>
          <p:nvPr/>
        </p:nvSpPr>
        <p:spPr>
          <a:xfrm>
            <a:off x="5224320" y="5786280"/>
            <a:ext cx="706680" cy="717840"/>
          </a:xfrm>
          <a:prstGeom prst="sun">
            <a:avLst>
              <a:gd name="adj" fmla="val 25000"/>
            </a:avLst>
          </a:prstGeom>
          <a:solidFill>
            <a:srgbClr val="64606d"/>
          </a:solidFill>
          <a:ln w="9360">
            <a:solidFill>
              <a:srgbClr val="3d3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动作按钮: 前进或下一项 14341"/>
          <p:cNvSpPr/>
          <p:nvPr/>
        </p:nvSpPr>
        <p:spPr>
          <a:xfrm>
            <a:off x="8732880" y="6429240"/>
            <a:ext cx="411120" cy="428760"/>
          </a:xfrm>
          <a:custGeom>
            <a:avLst/>
            <a:gdLst>
              <a:gd name="textAreaLeft" fmla="*/ 26640 w 411120"/>
              <a:gd name="textAreaRight" fmla="*/ 384480 w 411120"/>
              <a:gd name="textAreaTop" fmla="*/ 26640 h 428760"/>
              <a:gd name="textAreaBottom" fmla="*/ 402120 h 428760"/>
            </a:gdLst>
            <a:ahLst/>
            <a:rect l="textAreaLeft" t="textAreaTop" r="textAreaRight" b="textAreaBottom"/>
            <a:pathLst>
              <a:path w="21600" h="22526">
                <a:moveTo>
                  <a:pt x="0" y="0"/>
                </a:moveTo>
                <a:lnTo>
                  <a:pt x="21600" y="0"/>
                </a:lnTo>
                <a:lnTo>
                  <a:pt x="21600" y="22526"/>
                </a:lnTo>
                <a:lnTo>
                  <a:pt x="0" y="22526"/>
                </a:lnTo>
                <a:close/>
              </a:path>
              <a:path fill="lightenLess" w="21600" h="225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526">
                <a:moveTo>
                  <a:pt x="21600" y="0"/>
                </a:moveTo>
                <a:lnTo>
                  <a:pt x="21600" y="22526"/>
                </a:lnTo>
                <a:lnTo>
                  <a:pt x="20200" y="21126"/>
                </a:lnTo>
                <a:lnTo>
                  <a:pt x="20200" y="1400"/>
                </a:lnTo>
                <a:close/>
              </a:path>
              <a:path fill="darkenLess" w="21600" h="22526">
                <a:moveTo>
                  <a:pt x="21600" y="22526"/>
                </a:moveTo>
                <a:lnTo>
                  <a:pt x="0" y="22526"/>
                </a:lnTo>
                <a:lnTo>
                  <a:pt x="1400" y="21126"/>
                </a:lnTo>
                <a:lnTo>
                  <a:pt x="20200" y="21126"/>
                </a:lnTo>
                <a:close/>
              </a:path>
              <a:path fill="lighten" w="21600" h="22526">
                <a:moveTo>
                  <a:pt x="0" y="225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126"/>
                </a:lnTo>
                <a:close/>
              </a:path>
              <a:path fill="darken" w="21600" h="22526">
                <a:moveTo>
                  <a:pt x="3794" y="4257"/>
                </a:moveTo>
                <a:lnTo>
                  <a:pt x="17806" y="11263"/>
                </a:lnTo>
                <a:lnTo>
                  <a:pt x="3794" y="18269"/>
                </a:lnTo>
                <a:close/>
              </a:path>
            </a:pathLst>
          </a:custGeom>
          <a:solidFill>
            <a:srgbClr val="6460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dministrator</dc:creator>
  <dc:description/>
  <dc:language>en-US</dc:language>
  <cp:lastModifiedBy>user</cp:lastModifiedBy>
  <dcterms:modified xsi:type="dcterms:W3CDTF">2016-03-31T08:26:26Z</dcterms:modified>
  <cp:revision>4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7</vt:lpwstr>
  </property>
</Properties>
</file>